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479A-7D3F-4B24-9910-D2D860F2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96B5-0395-49C4-95F0-2AE2F3FB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6437-8064-4870-AF70-355D7455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3C0D-F933-41ED-8D5F-8F8B4D00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2643-25FD-466F-A0D2-1B0140EB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B57B-E95A-47B7-BBCE-E6333842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7B41-3623-4892-8031-B7C4D18D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FDE3-8D5F-4E28-8644-D34E146C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81B4-6305-49C6-B9C5-F0C0EAD1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77E2-1E72-4404-AFE8-4F672FE7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BE15-A71B-4E7F-865F-06E49DBA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412C-F463-4D97-A934-F7859019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FD8B-B8E5-4422-9AB8-5C5D42DB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EE84-A949-4D24-9AA5-F70060B1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6A79-25DA-4257-83DF-35842387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BAAA-CA15-465E-BEE4-897C8D14F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5B2C-6CC3-4B8E-9C35-70ED84DC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235696-99FE-43AC-AB38-041498B7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548FC2-4924-4442-87D2-0DABFBC9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1C0159-ACC2-4133-834D-6D4D3FA4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49F55D-9F39-46D9-8AD0-F9279583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030F22-9440-48B9-B79C-7560E4C0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FB22-234B-480D-BBF1-12E8FF0A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AD17B9-4ACE-4C8E-93A7-675AB829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7B3FD-7EB7-4414-B3ED-6C35F441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F618A-5AFF-4820-A2CC-52BFA34E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9D88ED-3857-4FF0-9A1A-555F4358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45B0F0-DF10-4368-B880-663FC6A0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AAB737-B0B4-4E3E-B185-A84D9C24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FF6872-ABA1-4875-81BE-9F310989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AD318-0EE1-4218-BF39-1443019D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E7702-58EC-473B-9152-3B80A8E6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EDDFA-76F7-4278-B0AE-7A8182F8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E72E-044A-4086-BAA4-13C21306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E2EE7-26F7-446B-8234-844BACE5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70439-9B1D-41B6-959F-B2DF559A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EDC26-2F72-4FE4-938E-965F7419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E3083-2BEE-48F4-994C-06F0746A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7BBB0-CC18-449D-B0F3-B651D994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EA14B-3ADC-4DB8-83BB-C51DAA78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74D66-2B36-4210-9F61-D7F53990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E0DA2-926D-4972-998A-8067B6F8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490A0-F9E1-418E-8754-69047577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3C0E91-BEC8-41A2-9A66-82777F2D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BE96-5AEB-4DFA-B4A7-08613BC1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D7B214-1254-4164-93DA-135C11C7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1B2426-ABF8-4E3F-8AB1-666DFBB1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334A89-2992-44C1-9BCE-BAD92D56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41055C-2BB9-432B-AEFE-8720E3C3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B1F2FC-0694-4D17-BE19-357F1995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798E67-3393-4024-9D58-87F6B7F0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A30A01-3483-4DD7-A84D-4480F07D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F30068-A836-4ADE-9934-4F29FC07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ADE1F7-871F-43A5-BBFE-F3465D6D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061D3C-9281-4039-9E15-78007DC0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DE37-074D-4B4F-9896-FDFD5E5E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FE2325-4771-495E-9411-5F1959B74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772C19-A65B-4D04-A8AE-AC88D451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58CA8B-49D9-4592-810C-66D4D3A3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9E8E4E-7CEF-47B4-94A9-5E69A2D3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AE973C-CFCE-4284-9285-C9354261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ED49A0-7FFA-4A4F-A3BF-CF7A26C9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F7922A-9A5E-4B6E-8B4C-62932C85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791137-7D22-406E-BED3-F6366FC8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7BFC92-4EB2-4BF1-BC6B-AF5142EE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ABD5A9-EABC-4124-9817-D0987B02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3F01-011F-48EB-93A9-A710AAD3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7B0408-23B6-41E8-BAB1-1D1D281B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5A34F9-E430-4F92-A67D-862C6C1D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4E8C0B-F578-433C-99B0-F1F19AD59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A77CF6-D7F3-41DD-AC9C-BA4D494B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D78AE6-A04E-43E3-BDBD-30EB1832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39D145-0106-4CCA-B8F5-002CC97E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7E377B-E2FA-4582-AE0B-7D53A8D0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B62EEF-172D-449D-A705-1E5FD207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92D410-4C5A-4D50-A5F5-1D783D38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5146F4-95F3-47C9-8FE0-77CA72BC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D7BA-25EF-4FF3-985D-4BE27DB6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A4CCDA-D895-4B5C-B784-617DE638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F058D4-4555-42BC-A1F0-61ED45F9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772DB9-BAFC-435B-ABEC-009ABA2C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4DE635-7D99-434E-906D-06EC46DD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AFACD2-2A17-4602-ABDF-D0DCB0F1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72FE-44E3-473E-955B-D1278999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8d7e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75f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2a0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8d7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bc0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8d7e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2133-AF31-4E97-9949-C0F4A33BDB4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8d7e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ce5e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ce5e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ff3f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8d7e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ff3f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8d7e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8d7e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75f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2a0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8d7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bc0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5415-5CEC-409A-A699-EDC3BA35830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8d7e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8d7e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75f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2a0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8d7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bc0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11E1-EE4A-4856-8D21-A60F103E977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8d7e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ce5e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ce5e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ff3f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8d7e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ff3f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8d7e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8d7e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ddc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bddc3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2a0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8d7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bc0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E44E-33C3-47EB-963F-86FD0738108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8d7e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8d7e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75f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2a0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8d7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bc0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F85F-7AEF-423E-B93E-AC473729C64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8d7e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8d7e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75f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2a0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8d7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bc0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6A6D-CC89-4E85-AA33-61C22B50611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8d7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75f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2a0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8d7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bc0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F96A-F8A1-4537-A5E0-5CCAF41183F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55308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Century Schoolbook"/>
              </a:rPr>
              <a:t>NCDA </a:t>
            </a:r>
            <a:br>
              <a:rPr sz="2700"/>
            </a:br>
            <a:r>
              <a:rPr b="1" lang="en-US" sz="2700" spc="-1" strike="noStrike">
                <a:solidFill>
                  <a:srgbClr val="775f55"/>
                </a:solidFill>
                <a:latin typeface="Century Schoolbook"/>
              </a:rPr>
              <a:t>CAREER DEVELOPMENT FACILITATOR CURRICULUM REVISION</a:t>
            </a:r>
            <a:endParaRPr b="0" lang="en-US" sz="2700" spc="-1" strike="noStrike">
              <a:solidFill>
                <a:srgbClr val="775f55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ASSESSMENT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new section on ethics and assess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sightful suggestions for reviewing, analyzing, and selecting assessment instrum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arification and expansion on understanding the credentials needed to administer and interpret career assessm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DIVERSITY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pdated demographic information from the 2010 Census da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w sections on generational diversity and on the career development needs of ex-offenders, veterans, and refuge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rspectives on the impact of globalization on career servic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JOB SEARCH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panded coverage of networking with a special emphasis on social network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ggestions for helping clients to understand job search from an employer perspec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new section on addressing stress in the job search, particularly during difficult economic tim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TECHNOLOGY AND CAREER INFORMATION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masterful merger of previous individual chapters on the use of computers and information in career planning, including widely used and emerging technolog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ggestions for helping clients to become more information liter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uidelines for CDFs on the selection and effective use of technologies in the career planning proc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ETHICS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cus on NCDA’s code of ethics as a robust and inclusive guide for career professionals, including CDF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pdated case studies and enhanced scenario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GROUPS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new emphasis on the delivery of career services in groups, including workshop planning and preparation of materia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nderstanding classroom dynamics and learning styles and customizing instruction to address individual nee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PROGRAM PLANNING/IMPLEMENTATION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panded to a comprehensive 12-step model of program development focusing on best practices and crucial roles for CDF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uided activities that parallel the 12-step process and offer participants opportunities to practice these skills first han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formation on the importance of stakeholders in implementation of career programs and how CDFs can involve these key players to increase the likelihood of the program’s succes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CURRICULUM AVAILABILITY &amp; PRICING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urriculum should be available for purchase in early Jul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l Instructors listed on the NCDA CDF Instructor Registry will receive a complimentary Instructor’s Pack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$200 Instructor’s Package includes – instructor’s manual, CD of PPTs, eLearning Resource DVD, and student manua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$75 per student manual for quantities 1-1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$65 per student manual for quantities 20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$20 per eLearning Resource DV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Century Schoolbook"/>
              </a:rPr>
              <a:t>ELEARNING UPDATE</a:t>
            </a:r>
            <a:endParaRPr b="0" lang="en-US" sz="44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775f55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EXISTING ELEARNING DVD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isting eLearning DVD is now referred to as the eLearning Resource DV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es not sync with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edition curriculum but still contains valuable resources and inform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 no longer a mandatory purchase for eLearning cours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 available for purchase at $20 per DV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TIME FOR A CHANGE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urriculum update about every 3 yea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ed for more significant revisio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ecdotal feedback regarding needed upda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WEB-BASED PLATFORM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DF Advisory Council is currently developing an RFP for the development of a Web-Based Template utilizing the Moodle platfor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ticipated date of release for a CDF Template utilizing Moodle is January 201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DF Template will be customizable by instruct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ll be available for purch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ELEARNING REQUIREMENTS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structors trained in both the traditional and eLearning format may now develop their own eLearning program with or without the CDF eLearning DV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ne-day eLearning Instructor Workshops are still available through December 201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January 1, 2013 – curriculum will only be sold to those instructors who have taken both the traditional and eLearning Instructor Workshop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CDF eLearning Template (Moodle) will be developed and available for purchase in early 201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QUESTIONS &amp; ANSWERS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ational Career Development Associ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ry Ann Pow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15 North Beech Circ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roken Arrow, OK 7401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hone: (800) 663-706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ww.ncda.or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mail: mpowell@ncda.or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PATH OF UPDATE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visory Council considered possible direc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andard Upda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imple Revisio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jor Revision / Updat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 decided to collect data to shape revi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CURRICULUM SURVEY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rveyed Master Trainers and CDF Instructo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rvey included questions about each chap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levance of objectiv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ctivities used (and not used) in each chapt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ntent questions – what should be changed, added, or update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Questions about competenc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levanc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y recommended deletions, additions, other chang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ther recommended chang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ANALYSIS OF SURVEY INFORMATION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6761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-depth analysis of Survey Respons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60+ pages of respons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00s of comment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anks to Hyung Joon Yoon &amp; Penn State staf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vided working framework for curriculum revi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REVISION PROCESS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DLA recruited team of writers for the curriculu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visory Council appointed a liaison for each chapt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riters and AC liaisons reviewed and incorporated survey responses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 members reviewed and made recommendations on chapters during proc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CDF CURRICULUM UPDATE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14400" y="1828800"/>
            <a:ext cx="7238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bined two chapt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dified order of chapt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ded emphasis on NCDA’s code of ethic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Changes in individual chapters . . . .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HELPING SKILLS 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w sections on self care, the use of silence, and the importance of hope in the helping proc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panded information on best practices in client termin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alue-added insights on the use of helping skills inserted into every CDF chap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THEORY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new section addressing the constructivist theory of Mark Savick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full update on Krumboltz’ theory, including his latest thoughts on the role of happenstance in career develop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ditional case studies and opportunities to use them in the application of career theor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18:19:34Z</dcterms:created>
  <dc:creator>Windie Wilson</dc:creator>
  <dc:description/>
  <dc:language>en-US</dc:language>
  <cp:lastModifiedBy>mpowell</cp:lastModifiedBy>
  <dcterms:modified xsi:type="dcterms:W3CDTF">2012-06-22T19:57:42Z</dcterms:modified>
  <cp:revision>27</cp:revision>
  <dc:subject/>
  <dc:title>NCDA Curriculum Update</dc:title>
</cp:coreProperties>
</file>