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149-851F-444B-A401-77C41925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AB2-2D9E-4D94-B020-7094C655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FB0-55CC-4936-A512-372B8D47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1CF-44FD-49C3-B2B5-A715B5BB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07B9-1FD6-47FA-BB32-A055DB45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DAF4-DF5E-459D-ADD3-2C3089BB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6CB6-3FCF-40BE-90A6-66DC24A2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AB6F-E739-4304-B9E6-521895DB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FF2B-4565-42C2-B819-E3A2168C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BAB9-2F4B-43C8-9845-F2FBFED9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8F36-0EB5-4519-9702-1DC50B34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9CB-AFD8-4F36-A507-3F19FC85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6E94-57B5-48F8-AE4D-01EF805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FFB3-0878-428B-9FC5-536D93E9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9F9A-1EC9-4355-846C-DDC62240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4ABD-CA81-4AF8-97B1-A447656C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A492-DCC9-47FF-BCBD-0D13EC07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5BA2B-011D-4B0A-B5B6-C50A6889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31870-8179-4B51-B5B9-1C415F55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31E2E-6B52-4219-9F0E-6F4D4AA0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2DAD0-B65B-4A5C-808D-CD6B263B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F27C5-B70F-40F3-AC74-D6CB599C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E84-3119-4953-A947-A07AF925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DC9C1-0E8C-44E1-B372-48A1618C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C1426-025F-4A41-BD29-738EAD64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B4F00-21E8-46BF-95D1-526B8A4F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4256E-89A5-4D81-9977-7B4D53ED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464F5-2F7D-4905-ADDE-71D697EE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3D59B-B15F-4B6D-9F54-E438B660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9D79B-1FEB-4E1E-B92F-27F97641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8E1F-3EBD-4FCA-89DE-20AB82FA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54A40-1454-4976-9D03-FD636C2F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DB858-4D26-475F-880E-581708D5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A29-3A4F-43D8-997A-0DB467BF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3951-52C2-4274-BF85-9A81924B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36700-53FC-4C54-917F-62AE991E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FAAC-8632-4E21-A2F6-5844FC4D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92F52-68E8-48A1-A0AD-6E854599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F33D8-2EF7-48E2-BCF7-B8DABB59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BC150-6A8B-441D-94B1-B7948EC8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65F29-63CF-48F7-B08E-FA030406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1F44-3035-4E30-8954-E10C4A5E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B496A-6032-4081-A581-2C48C5C5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6A64A-11FE-4790-9281-D5620D72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40A-1733-4EDA-AED3-950D1918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B2F49-7B98-48E8-BA07-351E2390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EA607-8952-491D-94F9-78A0BB18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807D5-90FD-4874-8F6A-86AA01B4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9DD91-FDFE-48BD-82DF-4BF58AC0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52BF8-3AAF-4A92-AD67-A4E5F230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57C3B-95E5-4AB3-A527-E7B6FC98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94E79-1406-4574-A663-BF487CA9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6A4BD-3810-4C3F-96CF-B273A5B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49899-2C14-4D13-8B3C-1EBE71DA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AC32A-ECB1-4189-AC69-2F4914A9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6EF-B319-4B5D-A5DF-794C700D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ACFA2-2144-44B4-A35A-24E50D01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2B905-CA47-4150-9AE2-AD2C9BD2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5ADBF-31A0-48D7-998F-F1100393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F1F8E-C3C8-4CFF-A017-33DDFFC7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836C1-0B53-4907-9B3A-9F1AD9BF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8F148-ACBC-4B12-81B5-A0E0A920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84A9C-F9F3-48DE-9A3E-1CB8FDFD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61A64-E127-4AC5-98A5-37213D2F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280FB-81E4-4589-A749-6B189253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13F69-7D1E-49F4-BB6C-38B492A6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C47-B734-4705-9677-53E21D97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A921F-D177-44A6-8645-C5354428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52304-6769-4C24-8993-CABBDF59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681BE7-582A-4B88-BD74-B4FA128F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485C5-971E-4FA3-8466-8E2E9A8C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C2AEC1-AC70-44DB-8463-72B7F275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B1CB6-201C-4956-916F-2EE8317C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24B65-81E1-42BD-8DD7-CEE32CD5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E70B98-3642-496D-B469-7B0D8E5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7BEF3-460E-45DF-B21F-6DA90EF2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57407-0C55-4F1A-9535-7618DC55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FCC-1D5A-45E8-973C-B43FBFDC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744BA-1D11-4FFD-B06A-797EF9FA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8FF54-133C-48FE-B362-CDBD3F44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559C3-1DA2-4090-9AF4-B03895BA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03AF0-12B9-4112-87BA-AFD7AADB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B3DBE-7741-4E06-973F-F91FA27C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752-7D3D-4D92-A983-FAE63C0B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A36E-9A65-401D-A717-E99ECD70C2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8d7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5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5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ff3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8d7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ff3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8d7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8d7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E09D-7331-41A1-8D77-DDB777BC1A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BB01-369E-44B2-868D-4E93882FEA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8d7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5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5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ff3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8d7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ff3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8d7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8d7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ddc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bddc3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2BCE-2CDA-4689-9A31-C9FFDC0A03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B08E-81E8-4407-B1CE-3DEB6BBE00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0178-7A9B-4FB8-828F-CF6FF98508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727D-8051-4EEB-9159-0C0C08D1A3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55308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entury Schoolbook"/>
              </a:rPr>
              <a:t>NCDA </a:t>
            </a:r>
            <a:br>
              <a:rPr sz="2700"/>
            </a:br>
            <a:r>
              <a:rPr b="1" lang="en-US" sz="2700" spc="-1" strike="noStrike">
                <a:solidFill>
                  <a:srgbClr val="775f55"/>
                </a:solidFill>
                <a:latin typeface="Century Schoolbook"/>
              </a:rPr>
              <a:t>CAREER DEVELOPMENT FACILITATOR CURRICULUM REVISION</a:t>
            </a:r>
            <a:endParaRPr b="0" lang="en-US" sz="2700" spc="-1" strike="noStrike">
              <a:solidFill>
                <a:srgbClr val="775f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ASSESSMEN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section on ethics and assess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ightful suggestions for reviewing, analyzing, and selecting assessment instru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rification and expansion on understanding the credentials needed to administer and interpret career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DIVERSITY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pdated demographic information from the 2010 Census d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sections on generational diversity and on the career development needs of ex-offenders, veterans, and refuge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pectives on the impact of globalization on career servic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JOB SEARCH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anded coverage of networking with a special emphasis on social network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ggestions for helping clients to understand job search from an employer perspec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section on addressing stress in the job search, particularly during difficult economic ti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TECHNOLOGY AND CAREER INFORMATION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masterful merger of previous individual chapters on the use of computers and information in career planning, including widely used and emerging technolog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ggestions for helping clients to become more information liter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uidelines for CDFs on the selection and effective use of technologies in the career plann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ETHIC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cus on NCDA’s code of ethics as a robust and inclusive guide for career professionals, including CDF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pdated case studies and enhanced scenari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GROUP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emphasis on the delivery of career services in groups, including workshop planning and preparation of materia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derstanding classroom dynamics and learning styles and customizing instruction to address individual nee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PROGRAM PLANNING/IMPLEMENTATION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anded to a comprehensive 12-step model of program development focusing on best practices and crucial roles for CDF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uided activities that parallel the 12-step process and offer participants opportunities to practice these skills first ha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tion on the importance of stakeholders in implementation of career programs and how CDFs can involve these key players to increase the likelihood of the program’s succ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CURRICULUM AVAILABILITY &amp; PRICING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rriculum should be available for purchase in early Ju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Instructors listed on the NCDA CDF Instructor Registry will receive a complimentary Instructor’s Pack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200 Instructor’s Package includes – instructor’s manual, CD of PPTs, eLearning Resource DVD, and student manu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75 per student manual for quantities 1-1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65 per student manual for quantities 20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20 per eLearning Resource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entury Schoolbook"/>
              </a:rPr>
              <a:t>ELEARNING UPDATE</a:t>
            </a:r>
            <a:endParaRPr b="0" lang="en-US" sz="44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5f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EXISTING ELEARNING DVD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isting eLearning DVD is now referred to as the eLearning Resource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es not sync with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dition curriculum but still contains valuable resources and inform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no longer a mandatory purchase for eLearning cour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available for purchase at $20 per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TIME FOR A CHANGE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rriculum update about every 3 ye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ed for more significant revisi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ecdotal feedback regarding needed upd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WEB-BASED PLATFORM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DF Advisory Council is currently developing an RFP for the development of a Web-Based Template utilizing the Moodle platfo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ticipated date of release for a CDF Template utilizing Moodle is January 20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DF Template will be customizable by instruc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ll be available for purch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ELEARNING REQUIREMENT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tructors trained in both the traditional and eLearning format may now develop their own eLearning program with or without the CDF eLearning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e-day eLearning Instructor Workshops are still available through December 2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anuary 1, 2013 – curriculum will only be sold to those instructors who have taken both the traditional and eLearning Instructor Worksho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CDF eLearning Template (Moodle) will be developed and available for purchase in early 20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QUESTIONS &amp; ANSWER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ional Career Development Assoc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ry Ann Pow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15 North Beech Circ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oken Arrow, OK 74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one: (800) 663-70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ncd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mail: mpowell@ncd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PATH OF UPDATE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visory Council considered possible dir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ndard Upd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imple Revis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jor Revision / Upda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 decided to collect data to shape revi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CURRICULUM SURVEY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veyed Master Trainers and CDF Instruc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vey included questions about each chap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evance of objectiv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tivities used (and not used) in each chapt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ntent questions – what should be changed, added, or updat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estions about competenc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ev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y recommended deletions, additions, other chang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ther recommended chang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ANALYSIS OF SURVEY INFORMATION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-depth analysis of Survey Respon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60+ pages of respons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00s of comme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anks to Hyung Joon Yoon &amp; Penn State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ided working framework for curriculum revi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REVISION PROCES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DLA recruited team of writers for the curricul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visory Council appointed a liaison for each chapt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rs and AC liaisons reviewed and incorporated survey respons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 members reviewed and made recommendations on chapters dur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CDF CURRICULUM UPDATE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14400" y="1828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bined two chap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ified order of chap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ed emphasis on NCDA’s code of ethi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hanges in individual chapters . . . .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HELPING SKILLS 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sections on self care, the use of silence, and the importance of hope in the help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anded information on best practices in client termi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lue-added insights on the use of helping skills inserted into every CDF chap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THEORY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section addressing the constructivist theory of Mark Savick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full update on Krumboltz’ theory, including his latest thoughts on the role of happenstance in career develop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itional case studies and opportunities to use them in the application of career theor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8:19:34Z</dcterms:created>
  <dc:creator>Windie Wilson</dc:creator>
  <dc:description/>
  <dc:language>en-US</dc:language>
  <cp:lastModifiedBy>mpowell</cp:lastModifiedBy>
  <dcterms:modified xsi:type="dcterms:W3CDTF">2012-06-22T19:57:42Z</dcterms:modified>
  <cp:revision>27</cp:revision>
  <dc:subject/>
  <dc:title>NCDA Curriculum Update</dc:title>
</cp:coreProperties>
</file>