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F1E-6187-450A-ACC1-851C067B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105-3D0D-4C13-8006-70FE108F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D09-D37C-4B6C-9B74-1B678111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94C-83B1-48DE-864F-3A807882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55D8-C3D4-49AF-AB97-6B3E835E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8346-886E-4102-99F0-DF845D9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5177-A4DE-4673-92F8-FF2CDDC1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80B0-EC21-455C-9126-9F5EE6A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6218-F60B-4457-B3FB-B526AA20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D8FF-DC97-4ABA-A634-8FCE2BDC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F326-5AA2-47BC-8C48-2864D9F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D51-5ABD-4216-A707-6323F0A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FD7F-DEB8-45B0-ACD2-EAF37FEE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3ECB-EC90-484A-95DF-D4A796C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39EA-94F9-4054-A6EA-BEA93361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A95A-9988-4B04-A7CC-88AB0937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6094-5842-4C1D-94C2-3225BF54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8F406-C0EF-4D7F-A1B5-120E14F6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2648E-DF45-42C6-BF8E-A979AA9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C9B8A-80C8-4CDD-BD75-27F20C60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40D78-93F5-4B13-8776-E9CAA06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E7177-4B01-4847-9F03-EF3D591F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2CA-CAD9-4AF1-B14E-AD9F611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B656C-8164-48BE-ACBE-7488D2A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E5853-5A77-4CDE-8C92-1BDFE4D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5BD6B-B07C-4DEA-8AFB-5A7BFC6B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17F59-D3E0-48C4-B4FA-56A535B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41A32-56A8-4D73-9409-C9D03CED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7D0BA-E9C2-4EF7-91BC-915B90B6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11690-6831-49AB-B208-560A0601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2CC3-81B2-4B36-93A5-AB226A3D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57DE-961A-423F-B7AE-A7EE4416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7CED-DD15-4729-9C80-9B44C10C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ECC-F595-42E5-8845-E4E67239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C6BE5-F8D5-4EAF-9542-41F0988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BC88-6FAC-489F-BF37-2603A913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074C-3D64-4638-B331-7000838B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79F8-9024-45B3-B992-5A99B80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1BB74-F845-45B3-8B6F-DF2691C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26D2-032F-43FB-86FE-1CBF1A0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8A41-0D23-41E4-8181-6C282D21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0C2A-4EDF-4B9F-B823-D38C65D4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A680-45D4-43DF-ADB8-8F7E909F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CAEF6-2FE0-4112-AC7F-C28E63B2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E11-445F-4617-B405-2E33D67B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8D9B1-DE3E-43F5-A455-67A14DD2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96CF5-7BA0-41DA-A450-3CA434D4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1D26F-DA25-4D94-B3C2-F9AD5C94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288A9-B42A-41B4-90C2-A9844F3E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2E7CA6-1926-4B09-A812-C8383A02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EC115-4FDA-49A8-B997-6A969430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E0055-5A5B-42A4-B80A-F1A4AF92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B5A96-4088-4A63-9FBA-62555068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5D1BE-3904-4732-B4E3-A83C684A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27B51-39D7-4848-B83A-0C3A2B05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711-CD68-4E03-8647-D389ADA5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A8214-BB4E-4C92-81E3-57F6CFDF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188D7-8601-48A7-8B9C-F48621CC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32948-DE36-43D1-805C-3B1FC99B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6A586-41E3-4AEB-B7B3-356B68BF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B6C0F-1AC8-41B3-B1B9-C4A73B8C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82959-299D-4243-881A-AFF71B82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E34F9-BD71-490F-B080-8E84CF0B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192A0-EAA3-442B-BBE5-C8DF0D40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B3799-F35F-402C-A7F3-04F45E8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630C4-B466-4826-A085-28975C3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134-04D2-4623-ACD7-DF5EDB2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01B7E-11E6-4A49-9A7D-A5519FEE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6B623-8CF3-495E-8EAD-29C6D4CB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DB784-56FD-490F-8865-0E843BB5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AEC76-5B85-405C-82FD-6A18287D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3A937-188E-4C89-946A-D839A7EA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E74A8-B7B0-4C0C-8FB6-402F3CD5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5B01E-E923-4BBD-BA41-513929AD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EDD77-8AB4-44A0-9CD4-1047868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96257-654F-4BAB-8D0F-76DF52CE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B585C-41A3-4476-BEEB-7282E321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1B8-2E45-4EAE-B8F7-BF9871B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2BD95-788B-443A-B78B-C11D4C0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7AEB2-D302-4ED3-B5F5-7104A5F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E5793-085E-4BD2-9119-0A780A44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26238-770C-482F-94BA-1E2A50BE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8C351-15F8-4C0F-B868-AAD85488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8B6-7E20-497F-A3EE-1F7CB56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7371-8A67-47D9-BDCD-A1544DC1BD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C949-A4E5-4EFF-B959-E035A71B76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3587-424B-40A5-8E6E-9A1600FE15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8d7e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5e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5e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ff3f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8d7e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ff3f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8d7e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8d7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ddc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bddc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3043-4AB0-487E-B6E1-10B631DE81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A636-3BF7-4E62-8575-7104023CE6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F01-CEC6-4435-B64D-F300DA0075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8d7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8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75f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2a0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8d7e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bc0b1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474-3D94-49CD-99E5-7291079EFD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55308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entury Schoolbook"/>
              </a:rPr>
              <a:t>NCDA </a:t>
            </a:r>
            <a:br>
              <a:rPr sz="2700"/>
            </a:br>
            <a:r>
              <a:rPr b="1" lang="en-US" sz="2700" spc="-1" strike="noStrike">
                <a:solidFill>
                  <a:srgbClr val="775f55"/>
                </a:solidFill>
                <a:latin typeface="Century Schoolbook"/>
              </a:rPr>
              <a:t>CAREER DEVELOPMENT FACILITATOR CURRICULUM REVISION</a:t>
            </a:r>
            <a:endParaRPr b="0" lang="en-US" sz="2700" spc="-1" strike="noStrike">
              <a:solidFill>
                <a:srgbClr val="775f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ASSESSMENT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on ethics and assess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ightful suggestions for reviewing, analyzing, and selecting assessment instru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rification and expansion on understanding the credentials needed to administer and interpret career assessm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DIVERSIT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dated demographic information from the 2010 Census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sections on generational diversity and on the career development needs of ex-offenders, veterans, and refuge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pectives on the impact of globalization on career servic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JOB SEARCH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coverage of networking with a special emphasis on social network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ggestions for helping clients to understand job search from an employer perspec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on addressing stress in the job search, particularly during difficult economic ti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ECHNOLOGY AND CAREER INFORM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masterful merger of previous individual chapters on the use of computers and information in career planning, including widely used and emerging technolog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ggestions for helping clients to become more information liter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lines for CDFs on the selection and effective use of technologies in the career plann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THIC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cus on NCDA’s code of ethics as a robust and inclusive guide for career professionals, including CDF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dated case studies and enhanced scenari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GROUP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emphasis on the delivery of career services in groups, including workshop planning and preparation of materia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derstanding classroom dynamics and learning styles and customizing instruction to address individual nee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PROGRAM PLANNING/IMPLEMENT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to a comprehensive 12-step model of program development focusing on best practices and crucial roles for CDF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uided activities that parallel the 12-step process and offer participants opportunities to practice these skills first ha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n the importance of stakeholders in implementation of career programs and how CDFs can involve these key players to increase the likelihood of the program’s succ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URRICULUM AVAILABILITY &amp; PRICING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iculum should be available for purchase in early Ju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Instructors listed on the NCDA CDF Instructor Registry will receive a complimentary Instructor’s Pack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200 Instructor’s Package includes – instructor’s manual, CD of PPTs, eLearning Resource DVD, and student manu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75 per student manual for quantities 1-1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65 per student manual for quantities 20+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$20 per eLearning Resource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Century Schoolbook"/>
              </a:rPr>
              <a:t>ELEARNING UPDATE</a:t>
            </a:r>
            <a:endParaRPr b="0" lang="en-US" sz="44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75f55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XISTING ELEARNING DVD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isting eLearning DVD is now referred to as the eLearning Resource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not sync with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dition curriculum but still contains valuable resources and 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no longer a mandatory purchase for eLearning cour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available for purchase at $20 per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IME FOR A CHANG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rriculum update about every 3 yea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ed for more significant revis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ecdotal feedback regarding needed upd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WEB-BASED PLATFORM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F Advisory Council is currently developing an RFP for the development of a Web-Based Template utilizing the Moodle plat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ticipated date of release for a CDF Template utilizing Moodle is January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F Template will be customizable by instruc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vailable for purch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ELEARNING REQUIREMENT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tructors trained in both the traditional and eLearning format may now develop their own eLearning program with or without the CDF eLearning DV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-day eLearning Instructor Workshops are still available through December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anuary 1, 2013 – curriculum will only be sold to those instructors who have taken both the traditional and eLearning Instructor Worksho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CDF eLearning Template (Moodle) will be developed and available for purchase in early 20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QUESTIONS &amp; ANSWER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ional Career Development Assoc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ry Ann Pow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15 North Beech Circ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oken Arrow, OK 74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one: (800) 663-70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ncd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mail: mpowell@ncd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PATH OF UPDAT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visory Council considered possible direc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ndard Upd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e Revis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jor Revision / Upda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 decided to collect data to shape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URRICULUM SURVE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veyed Master Trainers and CDF Instruct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rvey included questions about each chap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evance of objectiv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tivities used (and not used) in each chap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ntent questions – what should be changed, added, or updat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estions about competenc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ev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y recommended deletions, additions, other chang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 recommended chan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ANALYSIS OF SURVEY INFORMATION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-depth analysis of Survey Respons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60+ pages of respon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00s of comment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nks to Hyung Joon Yoon &amp; Penn Stat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d working framework for curriculum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REVISION PROCESS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DLA recruited team of writers for the curricul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visory Council appointed a liaison for each chapt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ers and AC liaisons reviewed and incorporated survey respons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 members reviewed and made recommendations on chapters dur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CDF CURRICULUM UPDATE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14400" y="1828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bined two chap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dified order of chap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ed emphasis on NCDA’s code of eth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hanges in individual chapters . . . .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HELPING SKILLS 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sections on self care, the use of silence, and the importance of hope in the helping proc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panded information on best practices in client termin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lue-added insights on the use of helping skills inserted into every CDF chap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5f55"/>
                </a:solidFill>
                <a:latin typeface="Century Schoolbook"/>
              </a:rPr>
              <a:t>THEORY</a:t>
            </a:r>
            <a:endParaRPr b="0" lang="en-US" sz="3000" spc="-1" strike="noStrike">
              <a:solidFill>
                <a:srgbClr val="775f55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new section addressing the constructivist theory of Mark Savick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full update on Krumboltz’ theory, including his latest thoughts on the role of happenstance in career develop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itional case studies and opportunities to use them in the application of career theor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4b6d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19:34Z</dcterms:created>
  <dc:creator>Windie Wilson</dc:creator>
  <dc:description/>
  <dc:language>en-US</dc:language>
  <cp:lastModifiedBy>mpowell</cp:lastModifiedBy>
  <dcterms:modified xsi:type="dcterms:W3CDTF">2012-06-22T19:57:42Z</dcterms:modified>
  <cp:revision>27</cp:revision>
  <dc:subject/>
  <dc:title>NCDA Curriculum Update</dc:title>
</cp:coreProperties>
</file>