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AE0-8D02-4FCF-A86D-53BFBCBD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B82-B956-4807-A6A0-79143C0F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B69-C590-477B-BC4E-E1C67C1C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F71-5076-4FF7-9C3B-CEF68DAA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6CD9-EBE3-4391-9B04-D34E880C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2354-D81F-4AD5-BAD8-25FE6DDF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E484-00DE-4268-96E4-0077679A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7879-11A9-4891-A913-67113996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DA05-C6F0-4923-9D9C-38DE6DF8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E1CD-FAF2-4062-A28A-CC2E18CD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F286-FB6E-4BF9-972C-CCD332F9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60D-6D00-4D6A-8A68-86F0D7F5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1040-752B-4E05-B539-89F1753B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162B-7CC1-4332-905E-1B0C94B8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5CF0-510B-4021-A257-226C8CE2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D783-5FB5-4DF7-8F12-DE45ADCB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90AA-B38E-4818-95BB-DC679C13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6E5B2-452F-4C2B-86AA-D17B2579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08E0A-D5AF-434E-AF6E-B8CC5624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EBE39-1D60-4193-9BD5-3891FEE0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18D10-9F13-4C15-B73E-70E07EB4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3F00C-922C-4A0A-901C-398F8747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E2C-13E3-47F0-A343-DCA91A1E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9DD24-BC0E-487F-9965-1E776C0E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1AA16-7898-48ED-9BE5-C44323AF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1143C-F3D6-41E0-8435-2A079C9A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8D1A3-40C3-4848-AE62-6586BD28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5B2D0-137A-4711-A85E-02921CB2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DB2CF-FD3F-4588-A473-E06BC501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D0977-F833-46E8-BE38-764D475E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E4356-FB9F-4508-870C-7CB7C6ED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9916C-C85F-4DA3-B98F-CBDB8880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7EE48-A7F5-4366-8387-6DE22F93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279-755C-4746-BB8C-EDE9A80C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4D07-B5F3-4C87-A84C-59D90AF6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DEADA-98D2-4B18-A996-69FBE43D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EDA7A-10C9-4B8E-A00E-D75BE376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86503-C039-49E5-99AE-A246CD82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07130-207F-4B72-8B2A-ADBB98B6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6CB5-8AD4-4D6E-9768-DE170A11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4618B-8B0C-46D8-85B2-4D19FC2C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0957E-BF5C-4874-809D-64913CFF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5D178-BDDE-4C24-84FF-AE7C0F5D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85C27-F79E-42E6-8D91-EE3E209F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E5E8-46E9-47CF-B462-8D83F5A5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FFBE6-2F7E-4025-8437-B554C344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B3F2B9-58FB-4000-AA64-F7003DA3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86659F-C502-475A-88A5-C9090327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92560-912A-45C0-9FF7-43EA72CB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E2661-BD49-40F5-828C-8ACD4B1F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B0491-06E9-433D-B745-5AD0474F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6393B-B17C-4726-AA6F-C8E4B0DA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70BF6-AE96-4D6B-BBD9-3FF2B131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CB2F8-BEB3-4EA2-9B40-8162785F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E7E358-D296-4B69-8CAE-CAF914FC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F6F-E309-4D99-8D7B-22022FFF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1427C3-0CCD-4829-A4B6-1463CD14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A4904-E5DF-40F9-AC04-29F6221D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C929C-14EF-45FA-B18B-34E70A77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8272F-EB3B-4BEB-9FB2-E8E2BC6F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8B19C7-0348-4593-B0CA-7C76290B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2525A-832A-4FA9-81B0-C41EA45D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7E3E96-8AD3-4B9D-B680-E2347422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6CFB9-3748-4010-8F3C-DCDFB327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BCC992-B4B3-4B20-900B-B94DE502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EE2FF-9552-4821-9230-DD9FF089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DC6-CCE2-4F88-AB44-061CEE49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ACBEE8-E385-4DAA-AA8E-92BD02AD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7AB00-101A-487F-A562-975F30DD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10A99-BA4D-43DD-BC94-F9762CBF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F37C23-DCC6-4857-826A-C7ADF6C9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A65F77-25D3-43AE-A4AF-1BD6D0A6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6675C6-BA8D-44A6-A966-CEAB6FFD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D8949B-7D27-4A4B-B27D-985C2557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65A46B-72E8-46A2-8097-279C3DAC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A08D4-0746-4591-92A6-9226E975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C351D-F460-461B-A30C-CB44B757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CDE-7D2A-4A30-9E6C-C50DED73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1BADED-B54A-41AE-9272-729795BF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2D1A60-6098-432E-8A60-E0EA2E44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5B3FC9-69E2-499B-86E8-EB5E3C51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3EDA8A-E615-491E-8736-3DA71E85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D70B2-72D4-40C5-A82D-54E69527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D8E-A933-4A0F-BA1E-4CB11FF7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7688-DCA6-4E92-9987-0E4DA84385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8d7e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ce5e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ce5e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ff3f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8d7e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ff3f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8d7e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8d7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18A3-9CBB-431C-8A6A-108B31720F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4CA3-74D3-4B00-B0CF-F81B076208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8d7e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ce5e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ce5e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ff3f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8d7e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ff3f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8d7e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8d7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ddc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bddc3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6A17-9337-4D4D-81AB-54FD9127E7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5910-6DF4-4B46-B9F5-3DD91CA890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0653-E895-42C2-A8F1-9834825747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2D74-5738-4945-A501-5E5ABB24F0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55308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Century Schoolbook"/>
              </a:rPr>
              <a:t>NCDA </a:t>
            </a:r>
            <a:br>
              <a:rPr sz="2700"/>
            </a:br>
            <a:r>
              <a:rPr b="1" lang="en-US" sz="2700" spc="-1" strike="noStrike">
                <a:solidFill>
                  <a:srgbClr val="775f55"/>
                </a:solidFill>
                <a:latin typeface="Century Schoolbook"/>
              </a:rPr>
              <a:t>CAREER DEVELOPMENT FACILITATOR CURRICULUM REVISION</a:t>
            </a:r>
            <a:endParaRPr b="0" lang="en-US" sz="2700" spc="-1" strike="noStrike">
              <a:solidFill>
                <a:srgbClr val="775f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ASSESSMEN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new section on ethics and assess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sightful suggestions for reviewing, analyzing, and selecting assessment instru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rification and expansion on understanding the credentials needed to administer and interpret career assess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DIVERSITY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pdated demographic information from the 2010 Census da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sections on generational diversity and on the career development needs of ex-offenders, veterans, and refuge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pectives on the impact of globalization on career servic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JOB SEARCH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anded coverage of networking with a special emphasis on social network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ggestions for helping clients to understand job search from an employer perspec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new section on addressing stress in the job search, particularly during difficult economic ti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TECHNOLOGY AND CAREER INFORMATION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masterful merger of previous individual chapters on the use of computers and information in career planning, including widely used and emerging technolog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ggestions for helping clients to become more information liter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uidelines for CDFs on the selection and effective use of technologies in the career planning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ETHIC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cus on NCDA’s code of ethics as a robust and inclusive guide for career professionals, including CDF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pdated case studies and enhanced scenario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GROUP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new emphasis on the delivery of career services in groups, including workshop planning and preparation of materia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derstanding classroom dynamics and learning styles and customizing instruction to address individual nee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PROGRAM PLANNING/IMPLEMENTATION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anded to a comprehensive 12-step model of program development focusing on best practices and crucial roles for CDF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uided activities that parallel the 12-step process and offer participants opportunities to practice these skills first han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ormation on the importance of stakeholders in implementation of career programs and how CDFs can involve these key players to increase the likelihood of the program’s succes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CURRICULUM AVAILABILITY &amp; PRICING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urriculum should be available for purchase in early Ju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Instructors listed on the NCDA CDF Instructor Registry will receive a complimentary Instructor’s Pack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$200 Instructor’s Package includes – instructor’s manual, CD of PPTs, eLearning Resource DVD, and student manu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$75 per student manual for quantities 1-1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$65 per student manual for quantities 20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$20 per eLearning Resource DV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Century Schoolbook"/>
              </a:rPr>
              <a:t>ELEARNING UPDATE</a:t>
            </a:r>
            <a:endParaRPr b="0" lang="en-US" sz="44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5f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EXISTING ELEARNING DVD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isting eLearning DVD is now referred to as the eLearning Resource DV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es not sync with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edition curriculum but still contains valuable resources and inform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 no longer a mandatory purchase for eLearning cour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 available for purchase at $20 per DV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TIME FOR A CHANGE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urriculum update about every 3 yea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ed for more significant revisi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ecdotal feedback regarding needed upd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WEB-BASED PLATFORM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DF Advisory Council is currently developing an RFP for the development of a Web-Based Template utilizing the Moodle platfor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ticipated date of release for a CDF Template utilizing Moodle is January 201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DF Template will be customizable by instruct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ll be available for purch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ELEARNING REQUIREMENT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structors trained in both the traditional and eLearning format may now develop their own eLearning program with or without the CDF eLearning DV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e-day eLearning Instructor Workshops are still available through December 20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anuary 1, 2013 – curriculum will only be sold to those instructors who have taken both the traditional and eLearning Instructor Worksho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CDF eLearning Template (Moodle) will be developed and available for purchase in early 201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QUESTIONS &amp; ANSWER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tional Career Development Assoc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ry Ann Pow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15 North Beech Circ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oken Arrow, OK 740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one: (800) 663-706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ncda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mail: mpowell@ncda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PATH OF UPDATE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visory Council considered possible direc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ndard Upda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imple Revis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jor Revision / Upda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 decided to collect data to shape revi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CURRICULUM SURVEY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rveyed Master Trainers and CDF Instruc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rvey included questions about each chap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levance of objectiv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tivities used (and not used) in each chapt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ntent questions – what should be changed, added, or updat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estions about competenc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leva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y recommended deletions, additions, other chang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ther recommended chang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ANALYSIS OF SURVEY INFORMATION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-depth analysis of Survey Respon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60+ pages of respons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00s of commen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anks to Hyung Joon Yoon &amp; Penn State sta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ided working framework for curriculum revi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REVISION PROCES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DLA recruited team of writers for the curricul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visory Council appointed a liaison for each chapt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ers and AC liaisons reviewed and incorporated survey response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 members reviewed and made recommendations on chapters during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CDF CURRICULUM UPDATE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14400" y="182880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bined two chap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dified order of chap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ded emphasis on NCDA’s code of ethic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Changes in individual chapters . . . .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HELPING SKILLS 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sections on self care, the use of silence, and the importance of hope in the helping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anded information on best practices in client termin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lue-added insights on the use of helping skills inserted into every CDF chap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THEORY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new section addressing the constructivist theory of Mark Savick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full update on Krumboltz’ theory, including his latest thoughts on the role of happenstance in career develop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ditional case studies and opportunities to use them in the application of career theor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18:19:34Z</dcterms:created>
  <dc:creator>Windie Wilson</dc:creator>
  <dc:description/>
  <dc:language>en-US</dc:language>
  <cp:lastModifiedBy>mpowell</cp:lastModifiedBy>
  <dcterms:modified xsi:type="dcterms:W3CDTF">2012-06-22T19:57:42Z</dcterms:modified>
  <cp:revision>27</cp:revision>
  <dc:subject/>
  <dc:title>NCDA Curriculum Update</dc:title>
</cp:coreProperties>
</file>