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36E3-A7DF-4235-AA3B-0079D9956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2113-4BF1-4229-94AE-96324CD23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8958-B0B5-4DBE-AF34-1FB65C823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03D4-1C3E-436F-92D6-69DBCC3079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418F-E93A-4AC5-B8E9-C41C81532D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769C-6B7F-4B25-9CF1-D6D849A63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48C1-FB32-4102-86C5-72E576A60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39B7-DE68-47CB-BCB0-F2758EB35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855C-3C9E-4F8E-85A3-3152C547C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542B-E381-41A5-9C02-DD849E158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AF10-7663-4D34-9490-786C5CB7A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4FF6-7AD5-4B0A-BE16-93E1E843F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164440" y="6244920"/>
            <a:ext cx="85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7FCC-9D1F-41BF-AD0E-BF724172A9C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rby.ac.uk/cegs/assets/Promoting%20Continuous%20Improvement%20FINAL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66680"/>
            <a:ext cx="8610480" cy="19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Making Implementation a Succes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60F3-9FEF-4DA4-A838-1FE2CF53F6F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Nature of the Organiz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Implementing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Issues in Implementing Chang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9C5D-2A90-41B9-B712-BB88928934C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Nature of the Organiz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ow the organization solves problems and the way managers and staff relate to each oth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taff participation in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ccepting the continuing nature of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ultivating attitudes of cautious optimism and persiste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Using empowering langua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1367-FE23-4E10-905A-5B736D352C4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han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 contributing to effective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sistent leadership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llocating adequate time and effort for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eing clear about staff roles in implementing chan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88F5-32A7-40C1-8EBD-AD3033E8A47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han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 contributing to effective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actively addressing staff resistance to chan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viding effective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illingness to repeat steps in the implementation proces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9F26-0365-47F6-9311-02345A6806D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41320" y="838080"/>
            <a:ext cx="8331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ultural Issues in Implementing Change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differen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Variation may exist among cultures in the participants in decision making and the level at which decisions are mad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similar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ost decisions about implementing change involve the use of a model of decision making that includes a sequence of even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23C5-2533-43DD-8EA8-D1F24264D14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1320" y="838080"/>
            <a:ext cx="8331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ultural Issues in Implementing Change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reating an implementation plan to make informed and careful decisions is relevant regardless of the individuals involved in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eight-step implementation model is flexible enough to accommodate cultural differences no matter who is involved in making implementation decis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DE7F-6CF0-4395-8E16-3510023C20D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8097-3E4B-4860-BC79-6F302D33168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P., Jr. (2006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Promoting continuous improvement in delivering career resources and services: Inaugural professorial lecture.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ccasional paper, Centre for Guidance Studies, University of Derby, Derby, United Kingdom. Retrieved September 6, 2007, from </a:t>
            </a:r>
            <a:r>
              <a:rPr b="0" lang="en-US" sz="3200" spc="-1" strike="noStrike" u="sng">
                <a:solidFill>
                  <a:srgbClr val="4866c6"/>
                </a:solidFill>
                <a:uFillTx/>
                <a:latin typeface="Arial"/>
                <a:hlinkClick r:id="rId1"/>
              </a:rPr>
              <a:t>http://www.derby.ac.uk/cegs/assets/Promoting%20Continuous%20Improvement%20FINAL.pdf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44:36Z</dcterms:modified>
  <cp:revision>495</cp:revision>
  <dc:subject/>
  <dc:title>Implementing Computer-Assisted Career Guidance</dc:title>
</cp:coreProperties>
</file>