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0A11-56CB-4C8C-84DA-87BB81C92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6399-73FC-4193-AADD-49D98E944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9793-324D-4F8E-A820-D75BD943F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2725-D40A-4373-9C07-39AEE9839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4184-2688-4AA0-8DB1-AF1F1AA6C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7746-C66D-419D-B11F-740FCC66D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0642-95ED-4F8F-9B4C-3C387D63D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8C7B-FD8E-4DDE-9D6F-F5963D001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BB57-41A2-4237-A3E1-C0CEBAFA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D9AC-9268-4557-A93F-6942C7961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C7AA-AB29-4BF0-B898-7A2BC3C6B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63BC-7045-481F-A296-5FDA18FDD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2B19-EFDC-45BF-8F58-060A3F5627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rby.ac.uk/cegs/assets/Promoting%20Continuous%20Improvement%20FINAL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66680"/>
            <a:ext cx="8610480" cy="19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king Implementation a Succes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1C7-DE3A-4E10-87BF-840106D8A0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Nature of the Organ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mplementing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Issues in Implementing Chang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52F-3D16-49DD-AA39-4E1C482EB3B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Nature of the Organiz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the organization solves problems and the way managers and staff relate to each oth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participation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ccepting the continuing nature of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ivating attitudes of cautious optimism and persist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ing empowering langua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8940-44F9-4EBD-9C89-C5BBFD8F6B6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stent leadershi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cating adequate time and effort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ing clear about staff roles in implementing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3CAA-1D48-48F0-85D0-BE5460F7578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actively addressing staff resistance to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ing effective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llingness to repeat steps in the implementation proces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FE0-2AB5-47A2-A114-BD3308ACF8B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differen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ariation may exist among cultures in the participants in decision making and the level at which decisions are mad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imilar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st decisions about implementing change involve the use of a model of decision making that includes a sequence of even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6A77-B46B-45F6-B1D4-AB558225F03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ing an implementation plan to make informed and careful decisions is relevant regardless of the individuals involved i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eight-step implementation model is flexible enough to accommodate cultural differences no matter who is involved in making implementation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75D-F6FE-46AC-8E88-DAB5C40F093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A02-81BC-44A6-A4A6-83DD7419592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P., Jr. (2006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Promoting continuous improvement in delivering career resources and services: Inaugural professorial lecture.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asional paper, Centre for Guidance Studies, University of Derby, Derby, United Kingdom. Retrieved September 6, 2007, from </a:t>
            </a:r>
            <a:r>
              <a:rPr b="0" lang="en-US" sz="32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derby.ac.uk/cegs/assets/Promoting%20Continuous%20Improvement%20FINAL.pdf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4:36Z</dcterms:modified>
  <cp:revision>495</cp:revision>
  <dc:subject/>
  <dc:title>Implementing Computer-Assisted Career Guidance</dc:title>
</cp:coreProperties>
</file>