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5F6-DC04-401A-BFCA-3BE4FFFD5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7C82-A572-44BD-A369-A562BE58E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680A-568A-4FDD-BD19-FA3D9C64E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6D30-7E18-424D-919F-C5B38F0009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58C5-1FDA-46A9-9802-8951F165C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B417-C48A-4F29-9816-941A481A6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7C28-7665-4569-A875-5C2057192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FC46-9510-4D5A-850B-A0169C680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8FDD-6B05-44AF-8284-E1FDC1244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B08E-CFEF-495C-AF86-26BD38317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B611-9B5F-4CEB-A8FC-51AF627E5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A762-1EC6-4341-B5E9-441414496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D18-D665-4EA9-84BC-749884BC717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rby.ac.uk/cegs/assets/Promoting%20Continuous%20Improvement%20FINAL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66680"/>
            <a:ext cx="8610480" cy="19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king Implementation a Succes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380-65DE-419D-8164-34799DB0A15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Nature of the Organ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mplementing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Issues in Implementing Chang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50D-5A4D-4E77-AE8E-A07F761704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Nature of the Organiz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the organization solves problems and the way managers and staff relate to each oth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participation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ccepting the continuing nature of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ivating attitudes of cautious optimism and persist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ing empowering langua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64C-6A78-49DF-AED3-5A8AF4AF640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stent leadershi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cating adequate time and effort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ing clear about staff roles in implementing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8E6-1688-496C-98F5-6D2CF78B810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actively addressing staff resistance to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ing effective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llingness to repeat steps in the implementation proces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F33A-2851-4948-9344-BF1D43D3B3B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differen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ariation may exist among cultures in the participants in decision making and the level at which decisions are mad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imilar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st decisions about implementing change involve the use of a model of decision making that includes a sequence of even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664-4E07-41B7-A6CE-353FA2C1B7B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ing an implementation plan to make informed and careful decisions is relevant regardless of the individuals involved i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eight-step implementation model is flexible enough to accommodate cultural differences no matter who is involved in making implementation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AF0-B260-49F7-8DFB-9818D21FC2B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7229-DAB2-4912-889F-3597AD622C8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P., Jr. (2006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Promoting continuous improvement in delivering career resources and services: Inaugural professorial lecture.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asional paper, Centre for Guidance Studies, University of Derby, Derby, United Kingdom. Retrieved September 6, 2007, from </a:t>
            </a:r>
            <a:r>
              <a:rPr b="0" lang="en-US" sz="32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derby.ac.uk/cegs/assets/Promoting%20Continuous%20Improvement%20FINAL.pdf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4:36Z</dcterms:modified>
  <cp:revision>495</cp:revision>
  <dc:subject/>
  <dc:title>Implementing Computer-Assisted Career Guidance</dc:title>
</cp:coreProperties>
</file>