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1A781-BF2A-47E6-91F9-8E746590E0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90360" y="4324680"/>
            <a:ext cx="784836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57B28-7982-4E62-8568-BA64912DCD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9036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1192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AEDD8-DC63-41D5-AA05-526F71D71A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3920" y="205416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97480" y="205416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90360" y="432468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3920" y="432468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97480" y="432468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D34E1-A240-4ECD-BF7B-FBEC1EEFD5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D5E30-ACFF-48C1-A5ED-00B21067FD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01F70-05F9-46CA-A9E2-A2254FEBE8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CCACA-0040-4D6E-990C-46A12A7AE6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8A439-0719-448A-A4A6-9B1D353EED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838080"/>
            <a:ext cx="78483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365B6-4CB7-4D39-B9FE-F26C783BCB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9036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80C10-57AC-4B99-A82C-95FDED5547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1192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C327C-E2E7-45E3-B764-DA4B8BD91A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360" y="4324680"/>
            <a:ext cx="784836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E3AE2-632F-4A63-AA25-DFD68EB277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0b18"/>
            </a:gs>
            <a:gs pos="100000">
              <a:srgbClr val="1926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c8d1e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c8d1e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114480" y="152280"/>
            <a:ext cx="761760" cy="6553440"/>
          </a:xfrm>
          <a:prstGeom prst="rect">
            <a:avLst/>
          </a:prstGeom>
          <a:gradFill rotWithShape="0">
            <a:gsLst>
              <a:gs pos="0">
                <a:srgbClr val="19264f"/>
              </a:gs>
              <a:gs pos="100000">
                <a:srgbClr val="111b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" name="Line 11"/>
          <p:cNvSpPr/>
          <p:nvPr/>
        </p:nvSpPr>
        <p:spPr>
          <a:xfrm>
            <a:off x="873000" y="1908000"/>
            <a:ext cx="8271000" cy="3240"/>
          </a:xfrm>
          <a:prstGeom prst="line">
            <a:avLst/>
          </a:prstGeom>
          <a:ln w="101520">
            <a:solidFill>
              <a:srgbClr val="758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" name="Line 12"/>
          <p:cNvSpPr/>
          <p:nvPr/>
        </p:nvSpPr>
        <p:spPr>
          <a:xfrm>
            <a:off x="871560" y="1828800"/>
            <a:ext cx="8272440" cy="12600"/>
          </a:xfrm>
          <a:prstGeom prst="line">
            <a:avLst/>
          </a:prstGeom>
          <a:ln w="76320">
            <a:solidFill>
              <a:srgbClr val="2a4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8164440" y="6244920"/>
            <a:ext cx="851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c8d1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9A76-2DA9-4628-A3D6-00B02A33B9B8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derby.ac.uk/cegs/assets/Promoting%20Continuous%20Improvement%20FINAL.pdf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166680"/>
            <a:ext cx="8610480" cy="19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Making Implementation a Success 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90320" y="2597040"/>
            <a:ext cx="8653320" cy="412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rom “Designing and Implementing </a:t>
            </a:r>
            <a:br>
              <a:rPr sz="3200"/>
            </a:b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areer Programs: A Handbook </a:t>
            </a:r>
            <a:br>
              <a:rPr sz="3200"/>
            </a:b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or Effective Practice”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 algn="ctr">
              <a:spcBef>
                <a:spcPts val="40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mes P. Sampson, Jr.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 algn="ctr">
              <a:spcBef>
                <a:spcPts val="40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758bd3"/>
                </a:solidFill>
                <a:latin typeface="Arial"/>
              </a:rPr>
              <a:t>Copyright 2008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758bd3"/>
                </a:solidFill>
                <a:latin typeface="Arial"/>
              </a:rPr>
              <a:t>National Career Development Associatio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For more informatio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546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c8d1ee"/>
                </a:solidFill>
                <a:latin typeface="Arial"/>
              </a:rPr>
              <a:t>www.career.fsu.edu/techcenter</a:t>
            </a:r>
            <a:endParaRPr b="0" lang="en-US" sz="36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9B6A7-9D05-45D8-BA25-6F964A62FD37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Organization of the Presentatio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  <a:ea typeface="Times New Roman"/>
              </a:rPr>
              <a:t>Nature of the Organizatio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  <a:ea typeface="Times New Roman"/>
              </a:rPr>
              <a:t>Implementing Chang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ultural Issues in Implementing Change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2A3A5-9A2E-40DE-A2DA-75BBDC803E30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Nature of the Organizatio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How the organization solves problems and the way managers and staff relate to each other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Staff participation in decision making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Accepting the continuing nature of implementation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ultivating attitudes of cautious optimism and persistenc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Using empowering languag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64B5A-3DF0-44DA-A8AD-071158D4E6F0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Implementing Chang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720" y="2054160"/>
            <a:ext cx="815328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actors contributing to effective chang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nsistent leadership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Allocating adequate time and effort for implementation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Being clear about staff roles in implementing chang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2070F-BB58-4916-99F3-4F4EB4321262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Implementing Chang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actors contributing to effective chang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roactively addressing staff resistance to chang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roviding effective staff training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Willingness to repeat steps in the implementation process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74154-E6A0-4D38-80E7-4618F626B82D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41320" y="838080"/>
            <a:ext cx="83311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Cultural Issues in Implementing Change 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ultural differen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Variation may exist among cultures in the participants in decision making and the level at which decisions are mad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ultural similariti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Most decisions about implementing change involve the use of a model of decision making that includes a sequence of event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0191C-CD9C-43AE-9DD4-030E6D6CCFA8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41320" y="838080"/>
            <a:ext cx="83311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Cultural Issues in Implementing Change 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reating an implementation plan to make informed and careful decisions is relevant regardless of the individuals involved in decision mak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he eight-step implementation model is flexible enough to accommodate cultural differences no matter who is involved in making implementation decision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DB929-53EA-488D-B2D3-09F7BD1B2D64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2054160"/>
            <a:ext cx="815328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ampson, J. P., Jr. (2008). </a:t>
            </a:r>
            <a:r>
              <a:rPr b="0" i="1" lang="en-US" sz="3200" spc="-1" strike="noStrike">
                <a:solidFill>
                  <a:srgbClr val="c8d1ee"/>
                </a:solidFill>
                <a:latin typeface="Arial"/>
              </a:rPr>
              <a:t>Designing and implementing career programs: A handbook for effective practice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. Broken Arrow, OK: National Career Development Association.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9C775-4894-466C-AF8B-D6CE140E419B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2054160"/>
            <a:ext cx="815328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ampson, J.P., Jr. (2006). </a:t>
            </a:r>
            <a:r>
              <a:rPr b="0" i="1" lang="en-US" sz="3200" spc="-1" strike="noStrike">
                <a:solidFill>
                  <a:srgbClr val="c8d1ee"/>
                </a:solidFill>
                <a:latin typeface="Arial"/>
              </a:rPr>
              <a:t>Promoting continuous improvement in delivering career resources and services: Inaugural professorial lecture.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Occasional paper, Centre for Guidance Studies, University of Derby, Derby, United Kingdom. Retrieved September 6, 2007, from </a:t>
            </a:r>
            <a:r>
              <a:rPr b="0" lang="en-US" sz="3200" spc="-1" strike="noStrike" u="sng">
                <a:solidFill>
                  <a:srgbClr val="4866c6"/>
                </a:solidFill>
                <a:uFillTx/>
                <a:latin typeface="Arial"/>
                <a:hlinkClick r:id="rId1"/>
              </a:rPr>
              <a:t>http://www.derby.ac.uk/cegs/assets/Promoting%20Continuous%20Improvement%20FINAL.pdf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4T12:25:10Z</dcterms:created>
  <dc:creator>College of Education</dc:creator>
  <dc:description/>
  <dc:language>en-US</dc:language>
  <cp:lastModifiedBy>mpowell</cp:lastModifiedBy>
  <cp:lastPrinted>2000-02-29T17:16:55Z</cp:lastPrinted>
  <dcterms:modified xsi:type="dcterms:W3CDTF">2008-05-08T15:44:36Z</dcterms:modified>
  <cp:revision>495</cp:revision>
  <dc:subject/>
  <dc:title>Implementing Computer-Assisted Career Guidance</dc:title>
</cp:coreProperties>
</file>