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C265-D317-4CA4-9C99-D733EC541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3803-AD87-4F57-8980-DE309E47A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56A7-D262-446E-81FD-E0CA4AC75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3B22-211A-4F87-90E1-7FAA225B36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6473-1BDA-4B9E-AE8F-0F51A35B6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B21B-75CC-4DAA-B992-D800F0D07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D7EA-E7F1-4A7F-8626-065C4F7F6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6F56-8D5B-4C45-8560-0AFADC581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11B4-9AF3-40B3-9AA2-F2E32B3AC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B97E-761B-4CBA-94F0-9F31B4B42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7691-7915-4CCA-9FB5-D8CD2300F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A463-465D-41F7-AE24-4669CBF28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164440" y="6244920"/>
            <a:ext cx="8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0011-4579-4C11-91FC-1515D5C5196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80800"/>
            <a:ext cx="8610480" cy="19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areer Resources, Service-Delivery Tools, and Service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9192-9B04-49CC-AF33-B35BD7A977C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lore opportunities for collaboration with other organiza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A302-A57F-44B6-AE0B-5675A1DC1FC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grate new and exis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strategies for summative evaluation and accountabili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9F77-7108-476A-8C93-86B58FD3826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he specific delivery of career resources, service delivery tools, and services at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V="1">
            <a:off x="1066680" y="2887560"/>
            <a:ext cx="0" cy="550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076400" y="28479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A294-91CD-4939-BF30-FC066151327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Staff Members Involved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 Pilot Testing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vide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a formative evaluation of pilo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642600" y="3552840"/>
            <a:ext cx="11574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>
            <a:off x="10378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673F-0F49-4A50-86A2-6BE40C0218C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Pilot Testing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5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the first pilot test and an optional second pilot tes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pilot test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3" name="Line 29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V="1">
            <a:off x="1066680" y="2747880"/>
            <a:ext cx="0" cy="6904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Line 31"/>
          <p:cNvSpPr/>
          <p:nvPr/>
        </p:nvSpPr>
        <p:spPr>
          <a:xfrm>
            <a:off x="1076400" y="26906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52D4-95EF-4B3F-BB4C-ECD94092320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All Staff Members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vise the plan for staff training as nee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ADE7-DDFD-453D-934A-773DFE27F4F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ssumptions about Implement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ight-Step Implementation Mod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Line 17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5" name="Line 18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Line 20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D119-C8D3-4D77-9C41-F690EFF4F18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liver Career Resources &amp; Services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eliver career resources and services in career centers and schoo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DA96-90E6-47D3-989B-8003300AFDB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Ongoing Evaluation and Establish Accountability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analyze, and interpret evaluation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describe, and disseminate accountability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 flipH="1">
            <a:off x="1066680" y="235260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6080" y="1828800"/>
            <a:ext cx="7848360" cy="127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te Eight-Step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mplementation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09480" y="538632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0" name="Line 1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1" name="Line 1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7" name="Line 25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8" name="Line 26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9" name="Line 27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0" name="Line 28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1" name="Line 29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2" name="Line 30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3" name="Line 31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4" name="Line 32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5" name="Line 33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6" name="Line 34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7" name="Line 35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8" name="Line 36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9" name="Line 37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1" name="Line 39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2" name="Line 40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3" name="Line 41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4" name="Line 42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5" name="Line 4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6" name="Line 4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7" name="Text Box 4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8" name="Line 6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9" name="Line 73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0" name="Line 7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1" name="Line 7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2" name="Line 7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3" name="Line 7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4" name="Line 7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5" name="Line 80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6" name="Line 82"/>
          <p:cNvSpPr/>
          <p:nvPr/>
        </p:nvSpPr>
        <p:spPr>
          <a:xfrm flipV="1">
            <a:off x="1066680" y="2704680"/>
            <a:ext cx="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7" name="Line 8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B8EB-00D5-4B36-90B8-D2E690B039A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Assumptions about Implementatio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rrecting a problem takes longer than the time invested in planning that might have prevented the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planning is better than no planning at al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mplementation is an ongoing process that can improve over ti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873B-5917-4B3B-A90B-567BE1F56F1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6080" y="20098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ight-Step Implementation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FF6F-1F11-4472-BFB2-292E10995B2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788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tended Outcomes of Using the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make best use of the limited time that is available for evaluation and plan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better anticipate, and then potentially avoid, typical problems in changing career resources, service delivery tools, and servic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5500-D9D3-4A52-AF7F-CFE086965B6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9524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valuate Current Career Resources, Service Delivery Tools, and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valu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ssess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B67A-BB05-49CF-815B-D2283C38271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nhanc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mprove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and use a formative evaluation of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41:37Z</dcterms:modified>
  <cp:revision>498</cp:revision>
  <dc:subject/>
  <dc:title>Implementing Computer-Assisted Career Guidance</dc:title>
</cp:coreProperties>
</file>