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FE0E-C859-436A-86BC-74F743FB2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0410-79C1-488D-AE10-09956D59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6E37-B78F-4FBB-8EBA-265A744EB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10A6-D811-4847-BF99-5CD046D6C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EC38-49E8-45C8-8B31-9CC8BFE52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D03C-170A-4051-A75B-CE81CAFF0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A86A-415A-40E0-8105-7EF535D83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E64E-206A-4F85-88F8-00C43E85E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5577-5183-4817-B761-D6C0FADAF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2E0E-F4A8-4EBA-B407-78D9D4146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3E3A-6B41-4C34-B041-681C3D8B8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E5AB-9DCB-4817-A73A-AC18C4924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164440" y="6244920"/>
            <a:ext cx="85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3F7-4857-422B-B194-E66579815F4B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610480" cy="19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Implementing Career Resources, Service-Delivery Tools, and Services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97040"/>
            <a:ext cx="8653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D62F-8394-463A-8E2D-C47B3C6058B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xplore opportunities for collaboration with other organization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3612-FDEE-4AB5-A15C-7208BC4A11D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grate new and exis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strategies for summative evaluation and accountability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289-4115-4234-BA38-1491316F438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781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Integrate Improved &amp; Existing Resources, Service Delivery Tools, &amp;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integrat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he specific delivery of career resources, service delivery tools, and services at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066680" y="2887560"/>
            <a:ext cx="0" cy="550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076400" y="28479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830-8674-4791-BA7D-6EB8D4DE0C2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Staff Members Involved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 Pilot Testing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ovide training for staff in pilot sit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a formative evaluation of pilo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642600" y="3552840"/>
            <a:ext cx="11574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>
            <a:off x="10378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2545-0FD8-41AA-92E1-3AE76FFE56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Pilot Testing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2053800"/>
            <a:ext cx="7848360" cy="45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the first pilot test and an optional second pilot test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the progress in pilot test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to 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V="1">
            <a:off x="1066680" y="2747880"/>
            <a:ext cx="0" cy="6904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076400" y="26906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E8B-46D7-4F20-80FF-6BB09255651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Train All Staff Members</a:t>
            </a:r>
            <a:r>
              <a:rPr b="0" lang="en-US" sz="44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Revise the plan for staff training as needed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nduct staff train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A2E-A0A9-4437-B19F-67DB8278594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ssumptions about Implement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ight-Step Implementation Mod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4" name="Line 17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5" name="Line 18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612-F01B-464E-9A52-8B475466AAE3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Deliver Career Resources &amp; Services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eliver career resources and services in career centers and school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Market career resources and services to the public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1066680" y="2704680"/>
            <a:ext cx="972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61D-F2B7-47B4-ADB7-E27CA7FB6EEE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35040"/>
            <a:ext cx="784836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nduct Ongoing Evaluation and Establish Accountability</a:t>
            </a: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analyze, and interpret evaluation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llect, describe, and disseminate accountability data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3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5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6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 flipH="1">
            <a:off x="1066680" y="235260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5" name="Line 12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09480" y="542916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6080" y="1828800"/>
            <a:ext cx="784836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Complete Eight-Step </a:t>
            </a:r>
            <a:br>
              <a:rPr sz="3600"/>
            </a:b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mplementation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219320" y="2062080"/>
            <a:ext cx="6629400" cy="100872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Integrate Improved Career Resources, Service Delivery Tools, and Services with Existing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1504800" y="4038480"/>
            <a:ext cx="601992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nduct Pilot Testing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828800" y="474804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All Staff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09480" y="5386320"/>
            <a:ext cx="79250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Deliver Career Resources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057400" y="6429240"/>
            <a:ext cx="49528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omplete Evaluation and Accountability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828800" y="3357720"/>
            <a:ext cx="5410080" cy="39888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Train Staff in Pilot Career Centers &amp; School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1052280" y="23526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1" name="Line 19"/>
          <p:cNvSpPr/>
          <p:nvPr/>
        </p:nvSpPr>
        <p:spPr>
          <a:xfrm flipV="1">
            <a:off x="1066680" y="1423800"/>
            <a:ext cx="0" cy="9284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1066680" y="1424160"/>
            <a:ext cx="1526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7010280" y="6477120"/>
            <a:ext cx="1676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7010280" y="6553080"/>
            <a:ext cx="17528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7010280" y="6629400"/>
            <a:ext cx="1828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7010280" y="6705720"/>
            <a:ext cx="19051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8686800" y="5850000"/>
            <a:ext cx="0" cy="6271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8" name="Line 26"/>
          <p:cNvSpPr/>
          <p:nvPr/>
        </p:nvSpPr>
        <p:spPr>
          <a:xfrm flipH="1">
            <a:off x="8534160" y="581040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19" name="Line 27"/>
          <p:cNvSpPr/>
          <p:nvPr/>
        </p:nvSpPr>
        <p:spPr>
          <a:xfrm flipV="1">
            <a:off x="8763120" y="4978440"/>
            <a:ext cx="0" cy="157464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0" name="Line 28"/>
          <p:cNvSpPr/>
          <p:nvPr/>
        </p:nvSpPr>
        <p:spPr>
          <a:xfrm flipH="1">
            <a:off x="7238880" y="4938840"/>
            <a:ext cx="1524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 flipV="1">
            <a:off x="8839080" y="2514600"/>
            <a:ext cx="0" cy="4114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2" name="Line 30"/>
          <p:cNvSpPr/>
          <p:nvPr/>
        </p:nvSpPr>
        <p:spPr>
          <a:xfrm flipH="1">
            <a:off x="7848360" y="2514600"/>
            <a:ext cx="99036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3" name="Line 31"/>
          <p:cNvSpPr/>
          <p:nvPr/>
        </p:nvSpPr>
        <p:spPr>
          <a:xfrm flipV="1">
            <a:off x="8915400" y="1447560"/>
            <a:ext cx="0" cy="52578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4" name="Line 32"/>
          <p:cNvSpPr/>
          <p:nvPr/>
        </p:nvSpPr>
        <p:spPr>
          <a:xfrm flipH="1">
            <a:off x="7848360" y="1419120"/>
            <a:ext cx="10666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5" name="Line 33"/>
          <p:cNvSpPr/>
          <p:nvPr/>
        </p:nvSpPr>
        <p:spPr>
          <a:xfrm flipH="1">
            <a:off x="1342800" y="408636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6" name="Line 34"/>
          <p:cNvSpPr/>
          <p:nvPr/>
        </p:nvSpPr>
        <p:spPr>
          <a:xfrm flipV="1">
            <a:off x="1343160" y="3766680"/>
            <a:ext cx="0" cy="319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7" name="Line 35"/>
          <p:cNvSpPr/>
          <p:nvPr/>
        </p:nvSpPr>
        <p:spPr>
          <a:xfrm>
            <a:off x="1357200" y="3695760"/>
            <a:ext cx="471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8" name="Line 36"/>
          <p:cNvSpPr/>
          <p:nvPr/>
        </p:nvSpPr>
        <p:spPr>
          <a:xfrm flipH="1">
            <a:off x="809280" y="4191120"/>
            <a:ext cx="6858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9" name="Line 37"/>
          <p:cNvSpPr/>
          <p:nvPr/>
        </p:nvSpPr>
        <p:spPr>
          <a:xfrm flipV="1">
            <a:off x="809640" y="1271520"/>
            <a:ext cx="0" cy="291960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0" name="Line 38"/>
          <p:cNvSpPr/>
          <p:nvPr/>
        </p:nvSpPr>
        <p:spPr>
          <a:xfrm>
            <a:off x="838080" y="1285920"/>
            <a:ext cx="3812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961920" y="428148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2" name="Line 40"/>
          <p:cNvSpPr/>
          <p:nvPr/>
        </p:nvSpPr>
        <p:spPr>
          <a:xfrm flipV="1">
            <a:off x="961920" y="2514600"/>
            <a:ext cx="0" cy="176688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3" name="Line 41"/>
          <p:cNvSpPr/>
          <p:nvPr/>
        </p:nvSpPr>
        <p:spPr>
          <a:xfrm>
            <a:off x="1004760" y="2519280"/>
            <a:ext cx="22860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4" name="Line 42"/>
          <p:cNvSpPr/>
          <p:nvPr/>
        </p:nvSpPr>
        <p:spPr>
          <a:xfrm flipH="1">
            <a:off x="657360" y="3552840"/>
            <a:ext cx="115704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V="1">
            <a:off x="671400" y="1634760"/>
            <a:ext cx="0" cy="19177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685800" y="1576440"/>
            <a:ext cx="53352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7" name="Text Box 48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8" name="Line 6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>
            <a:off x="4554360" y="17953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0" name="Line 75"/>
          <p:cNvSpPr/>
          <p:nvPr/>
        </p:nvSpPr>
        <p:spPr>
          <a:xfrm>
            <a:off x="4560840" y="30812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1" name="Line 76"/>
          <p:cNvSpPr/>
          <p:nvPr/>
        </p:nvSpPr>
        <p:spPr>
          <a:xfrm>
            <a:off x="4564080" y="376704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2" name="Line 77"/>
          <p:cNvSpPr/>
          <p:nvPr/>
        </p:nvSpPr>
        <p:spPr>
          <a:xfrm>
            <a:off x="4567320" y="445788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3" name="Line 78"/>
          <p:cNvSpPr/>
          <p:nvPr/>
        </p:nvSpPr>
        <p:spPr>
          <a:xfrm>
            <a:off x="4557600" y="5172120"/>
            <a:ext cx="3240" cy="28584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4" name="Line 79"/>
          <p:cNvSpPr/>
          <p:nvPr/>
        </p:nvSpPr>
        <p:spPr>
          <a:xfrm>
            <a:off x="4570560" y="6143760"/>
            <a:ext cx="288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5" name="Line 80"/>
          <p:cNvSpPr/>
          <p:nvPr/>
        </p:nvSpPr>
        <p:spPr>
          <a:xfrm flipH="1">
            <a:off x="1052280" y="3433680"/>
            <a:ext cx="7570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6" name="Line 82"/>
          <p:cNvSpPr/>
          <p:nvPr/>
        </p:nvSpPr>
        <p:spPr>
          <a:xfrm flipV="1">
            <a:off x="1066680" y="2704680"/>
            <a:ext cx="0" cy="73332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7" name="Line 83"/>
          <p:cNvSpPr/>
          <p:nvPr/>
        </p:nvSpPr>
        <p:spPr>
          <a:xfrm>
            <a:off x="1076400" y="2705040"/>
            <a:ext cx="152280" cy="0"/>
          </a:xfrm>
          <a:prstGeom prst="line">
            <a:avLst/>
          </a:prstGeom>
          <a:ln cap="rnd" w="38160">
            <a:solidFill>
              <a:srgbClr val="c8d1e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A2F-5358-4420-ACF1-9B6E3C12B93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Assumptions about Implementation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orrecting a problem takes longer than the time invested in planning that might have prevented the problem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ome planning is better than no planning at al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mplementation is an ongoing process that can improve over tim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D53-92BE-47E2-9256-88BB5070CA96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6080" y="2009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ight-Step Implementation Model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E951-6687-4F43-BF73-76C63E07F312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788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Intended Outcomes of Using the Model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make best use of the limited time that is available for evaluation and planning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Help staff to better anticipate, and then potentially avoid, typical problems in changing career resources, service delivery tools, and servic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E6CE-2C7D-4A0D-874D-70AB055BBE4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79524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4c600"/>
                </a:solidFill>
                <a:latin typeface="Arial"/>
              </a:rPr>
              <a:t>Evaluate Current Career Resources, Service Delivery Tools, and Services</a:t>
            </a:r>
            <a:endParaRPr b="0" lang="en-US" sz="32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valu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Assess need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implementation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Communicate with staff and stakeholder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19320" y="1076400"/>
            <a:ext cx="662940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Select, Revise, and Develop Improved </a:t>
            </a:r>
            <a:br>
              <a:rPr sz="2000"/>
            </a:b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614600" y="88920"/>
            <a:ext cx="5838840" cy="703800"/>
          </a:xfrm>
          <a:prstGeom prst="rect">
            <a:avLst/>
          </a:prstGeom>
          <a:solidFill>
            <a:srgbClr val="003366"/>
          </a:solidFill>
          <a:ln w="12600">
            <a:solidFill>
              <a:srgbClr val="c8d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d1ee"/>
                </a:solidFill>
                <a:latin typeface="Arial"/>
              </a:rPr>
              <a:t>Evaluate Current Career Resources, Service Delivery Tools, and Services</a:t>
            </a:r>
            <a:endParaRPr b="0" lang="en-US" sz="20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4557600" y="804960"/>
            <a:ext cx="3240" cy="285480"/>
          </a:xfrm>
          <a:prstGeom prst="line">
            <a:avLst/>
          </a:prstGeom>
          <a:ln w="57240">
            <a:solidFill>
              <a:srgbClr val="c8d1e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8164440" y="6245280"/>
            <a:ext cx="851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6EB-F671-403E-8B07-86FBBD66E9F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78120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4c600"/>
                </a:solidFill>
                <a:latin typeface="Arial"/>
              </a:rPr>
              <a:t>Select, Adapt, Revise, &amp; Develop Improved Resources, Service Delivery Tools, &amp; Services</a:t>
            </a:r>
            <a:r>
              <a:rPr b="0" lang="en-US" sz="3600" spc="-1" strike="noStrike">
                <a:solidFill>
                  <a:srgbClr val="f4c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repare for enhancing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mprove career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Plan and use a formative evaluation of resources, service delivery tools,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41:37Z</dcterms:modified>
  <cp:revision>498</cp:revision>
  <dc:subject/>
  <dc:title>Implementing Computer-Assisted Career Guidance</dc:title>
</cp:coreProperties>
</file>