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589E-8499-40D2-8C3A-74D4164F8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867B-3444-41B7-A9C3-4F18CA2FD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FC08-A4D9-4403-A832-B68AAB997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1BFF-1964-4449-98A5-72057063A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44DB-577F-4F1E-BE3B-603B3E8B5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5484-F076-406B-8D6C-5031CE3EC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68B8-6184-416A-9CD2-B2EBEDEB7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0D9F-AC12-4D9E-B9DA-68EF2279E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EDBB-B97B-44A4-8766-C343C17A6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10B6-5D64-45DB-BD01-3F2467A3F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9BE4-1513-4420-8737-9B803D770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BEE6-0781-4FEB-85F2-68C266E04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3318-0E7D-49A5-92C2-F30BBDFF604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80800"/>
            <a:ext cx="8610480" cy="19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areer Resources, Service-Delivery Tools, and Servi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8B13-22B3-4882-9DBD-8ECB958C823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e opportunities for collaboration with other organiza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F339-2BE6-4E96-8034-42B2A622BB6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grate new and exis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strategies for summative evaluation and account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4280-6575-4208-86B9-CB7FC95BE42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he specific delivery of career resources, service delivery tools, and services at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1066680" y="2887560"/>
            <a:ext cx="0" cy="550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076400" y="28479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119-55F4-4E37-9D0D-EA6703DEAA2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Staff Members Involved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 Pilot Testing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e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a formative evaluation of pilo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642600" y="3552840"/>
            <a:ext cx="11574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10378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67BF-013E-418B-8CBA-2BE754A9ADF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Pilot Testing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the first pilot test and an optional second pilot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pilot test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V="1">
            <a:off x="1066680" y="2747880"/>
            <a:ext cx="0" cy="6904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1076400" y="26906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E4FB-9331-4119-9A84-890F6AC98D9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All Staff Members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plan for staff training a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FE4C-0065-44B5-9026-45F01A5249A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ssumptions about Implement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ight-Step Implementation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Line 17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Line 18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7357-70B5-4EF1-A232-6AE5FBF6770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liver Career Resources &amp; Services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liver career resources and services in career centers and schoo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F1FE-6304-4E51-9D97-11C2275381F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Ongoing Evaluation and Establish Accountability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analyze, and interpret evaluation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describe, and disseminate accountability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 flipH="1">
            <a:off x="1066680" y="235260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1828800"/>
            <a:ext cx="7848360" cy="12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Eight-Step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mplementation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09480" y="538632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1" name="Line 1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Line 25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27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Line 28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Line 29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Line 30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3" name="Line 31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Line 32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5" name="Line 33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6" name="Line 34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Line 39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Line 40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41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Line 42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Line 4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Line 4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7" name="Text Box 4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8" name="Line 6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Line 73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Line 7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Line 7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Line 7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Line 7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7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Line 80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82"/>
          <p:cNvSpPr/>
          <p:nvPr/>
        </p:nvSpPr>
        <p:spPr>
          <a:xfrm flipV="1">
            <a:off x="1066680" y="2704680"/>
            <a:ext cx="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Line 8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AE10-A46B-4B66-89D4-39B97D27FDF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ssumptions about Implement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rrecting a problem takes longer than the time invested in planning that might have prevented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planning is better than no planning at al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mplementation is an ongoing process that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BE2C-917C-454D-A918-7B1A23C821F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6080" y="20098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ight-Step Implementation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0DDF-D73F-4AFE-834F-DF50235778D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788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tended Outcomes of Using the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make best use of the limited time that is available for evaluation and plan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better anticipate, and then potentially avoid, typical problems in changing career resources, service delivery tools, and servic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85AA-98FD-47D3-BD3D-D30AE804E08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9524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valuate Current Career Resources, Service Delivery Tools, and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valu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ssess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403E-D2FF-4084-AAE9-142059334C3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nhanc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mprove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and use a formative evaluation of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1:37Z</dcterms:modified>
  <cp:revision>498</cp:revision>
  <dc:subject/>
  <dc:title>Implementing Computer-Assisted Career Guidance</dc:title>
</cp:coreProperties>
</file>