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D049-71C6-4500-909B-108EB48AC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841A-4C82-4E95-9A24-3EA761832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C708-0601-42FF-B20B-6E850DFF6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D2E6-B0CC-405E-B869-0E1BB4799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BF66-7C6B-481B-9BF2-41825A200E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B2DA-3B73-493E-B86D-78F4AD1C3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EF5D-9FC5-4941-A4F9-25B152828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90EE-32C0-42F3-9A6D-BCF56663D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246B-00F0-46B2-9798-39387A4FB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525A-46DE-4E3E-A8A2-504266851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E53A-3C06-49BA-BFE9-CB9B78438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C4F2-D537-4E5A-972F-261A1791D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F039-7997-43CD-AF34-75CE6558AF4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80800"/>
            <a:ext cx="8610480" cy="19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areer Resources, Service-Delivery Tools, and Servi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6D0C-3C03-4C65-BECF-34AAB55B008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e opportunities for collaboration with other organiza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A6BF-E7FF-4CDC-AF1A-52E516DF276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grate new and exis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strategies for summative evaluation and account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CDDB-BFAE-4BB5-AB01-5C7F040B624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he specific delivery of career resources, service delivery tools, and services at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066680" y="2887560"/>
            <a:ext cx="0" cy="550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076400" y="28479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5230-2E05-40EC-BD73-D4FD159DD30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Staff Members Involved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 Pilot Testing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e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a formative evaluation of pilo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642600" y="3552840"/>
            <a:ext cx="11574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10378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B67E-B625-4329-B117-E93C9BB60D4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Pilot Testing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the first pilot test and an optional second pilot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pilot test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1066680" y="2747880"/>
            <a:ext cx="0" cy="6904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076400" y="26906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DC63-05A4-4DA0-B154-035AA47FD97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All Staff Members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plan for staff training a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34FD-C635-4A70-9126-4120F72588F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ssumptions about Implement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ight-Step Implementation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Line 18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3EB4-B976-49FD-8702-FCE69C20ED8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liver Career Resources &amp; Services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liver career resources and services in career centers and schoo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B993-9BFB-4259-B711-455DAD7776D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Ongoing Evaluation and Establish Accountability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analyze, and interpret evaluation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describe, and disseminate accountability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1066680" y="235260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1828800"/>
            <a:ext cx="784836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Eight-Step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mplementation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09480" y="538632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Line 28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Line 29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Line 30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3" name="Line 31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Line 32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5" name="Line 33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6" name="Line 34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Line 39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Line 40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Line 4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7" name="Text Box 4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8" name="Line 6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Line 73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Line 7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Line 7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Line 7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Line 7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7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Line 80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82"/>
          <p:cNvSpPr/>
          <p:nvPr/>
        </p:nvSpPr>
        <p:spPr>
          <a:xfrm flipV="1">
            <a:off x="1066680" y="2704680"/>
            <a:ext cx="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Line 8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E938-4DAA-4745-8DB2-282B6B358E6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ssumptions about Implement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rrecting a problem takes longer than the time invested in planning that might have prevented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planning is better than no planning at al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mplementation is an ongoing process that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9C26-4BFD-41B0-A5A6-CFC461237C4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6080" y="2009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ight-Step Implementation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BE8-FB18-4AA6-974A-25677A85ECA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788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tended Outcomes of Using the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make best use of the limited time that is available for evaluation and plan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better anticipate, and then potentially avoid, typical problems in changing career resources, service delivery tools, and servic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0C0-161C-4769-A7F6-E17108E4550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9524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valuate Current Career Resources, Service Delivery Tools, and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valu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ssess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2EC-585F-44C4-9140-ADC5003978A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nhanc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mprove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and use a formative evaluation of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1:37Z</dcterms:modified>
  <cp:revision>498</cp:revision>
  <dc:subject/>
  <dc:title>Implementing Computer-Assisted Career Guidance</dc:title>
</cp:coreProperties>
</file>