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5909-42EC-4B82-97A3-1ECB606F2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0D7C-6F23-4585-A18E-1B3F9C2BD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FAC4-E8E2-4928-A42C-18E22A588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94D2-E6BF-4C21-B394-6C66721DBD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7B52-FB60-40B4-A13D-0EFDCD5FD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2BD6-1374-4716-855C-5790FBEEE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9127-357D-4893-895C-D2EC63C65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14ED-00D5-44C5-9102-F780AF134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51C8-BA3C-40A4-9C99-1429D345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92E3-96D0-47FE-ADED-C81EBEDE8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11CA-0FDF-494C-95B1-B49ED4D10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31F6-C17A-4A7F-BE22-6874E08D2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05F1-9A54-4BFC-80F5-2D38BF02816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610480" cy="19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areer Resources, Service-Delivery Tools, and Servi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990-706F-4281-B781-38D7D5201B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e opportunities for collaboration with other organiza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B01-F4CB-4E19-BAEA-2FDB9ECB6E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grate new and exis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strategies for summative evaluation and account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B66-697F-41FB-BE45-63311D5EF37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he specific delivery of career resources, service delivery tools, and services at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066680" y="2887560"/>
            <a:ext cx="0" cy="550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076400" y="28479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72E-5855-4B2C-97B1-B84ECDD19AD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Staff Members Involved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 Pilot Testing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e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a formative evaluation of pilo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642600" y="3552840"/>
            <a:ext cx="11574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10378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5438-4D94-495B-BBBE-F98F1FA5DC8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Pilot Testing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the first pilot test and an optional second pilot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pilot test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1066680" y="2747880"/>
            <a:ext cx="0" cy="6904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076400" y="26906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2861-BA12-4372-B203-B8C5A3D3D67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All Staff Members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plan for staff training a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72BD-F260-4405-936E-793B6E805FA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ssumptions about Implement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ight-Step Implementation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B1A-982A-4598-B4CD-6D2E4C5F54B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liver Career Resources &amp; Services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liver career resources and services in career centers and schoo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5F2E-F986-4890-95C4-BC8ECF7B34A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Ongoing Evaluation and Establish Accountability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analyze, and interpret evaluation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describe, and disseminate accountability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1066680" y="235260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1828800"/>
            <a:ext cx="784836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Eight-Step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mplementation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09480" y="538632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Line 40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7" name="Text Box 4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8" name="Line 6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Line 7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Line 7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Line 7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Line 7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7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Line 80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82"/>
          <p:cNvSpPr/>
          <p:nvPr/>
        </p:nvSpPr>
        <p:spPr>
          <a:xfrm flipV="1">
            <a:off x="1066680" y="2704680"/>
            <a:ext cx="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Line 8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973-A8E6-4833-9030-5C49ED6975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ssumptions about Implement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rrecting a problem takes longer than the time invested in planning that might have prevented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planning is better than no planning at al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mplementation is an ongoing process that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D29-D67C-44D3-8811-054A7867CEF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080" y="2009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ight-Step Implementation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46F7-9CC3-4C32-99DE-78827D4A8FA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788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tended Outcomes of Using the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make best use of the limited time that is available for evaluation and plan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better anticipate, and then potentially avoid, typical problems in changing career resources, service delivery tools, and servic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D45B-9981-4996-B4A7-7F07BD01E3D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952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valuate Current Career Resources, Service Delivery Tools, and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valu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ssess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E477-AF9A-416B-9913-2D2A0BDAE91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nhanc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mprove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and use a formative evaluation of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1:37Z</dcterms:modified>
  <cp:revision>498</cp:revision>
  <dc:subject/>
  <dc:title>Implementing Computer-Assisted Career Guidance</dc:title>
</cp:coreProperties>
</file>