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AF0A-9BD2-4C5D-A3F3-84C840983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DBAF-582D-4EB9-A09E-A965A9683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8D6D-DC40-4FC1-BF74-BFAF8C31E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18CE-0428-4644-A6CC-CE1289B34D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DF43-E4CC-40D8-A149-9125B9C42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CFD9-F821-4269-8964-5DA301C71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34B0-8187-44FB-B327-157CD3D74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7228-8442-4841-A897-5B8920F91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22FD-835C-4BE3-9418-02C1D9EA8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5D9D-45B7-48B2-BBEB-E3F190C15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79C0-C3E4-4C25-ABCC-94D6C8417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0D56-3FAF-4176-95AB-FB1B7C4C3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AE3-665E-472B-B684-85384CC107A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 and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2AC-DC62-4616-988F-B2CF0C93206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provides evidence that the new knowledge and skills gained from using career resources and services helped individuals to reach the goals that were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8B91-53EA-4B38-B2F6-DA58154FCAE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s, as well as other outcome meas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mographic data from student, client, or customer recor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se notes from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D889-030F-4EF4-97F9-8070C345215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 dat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rticipant observ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B01D-9FC2-43FE-BC6A-3FCA43E043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BD23-113D-4CA7-9B53-DBA4E18F1E4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7A3-0DCB-4E78-AB40-05F424233DC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alu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DF1-8EB7-4027-8DD3-6ECFA194D99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r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vides information to improve resources, service-delivery tools, and services as they are develop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Sum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amines the degree to which intended outcomes are achieved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E5E-4671-4674-9FCD-70DA2524828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Evaluation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agnostic assessment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estionnaires examining adolescents’ and adults’ perceptions of resources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rviews of adults who have located and used resources while receiving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cus groups obtaining data on the effectiveness of various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bservations of individuals’ use of resour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C274-AF78-4577-9DDC-979905BEC56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idence-Based Pract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volves selecting career resources, service-delivery tools, and services that have been shown to be effectiv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ummative evaluations can contribute to 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9023-387A-442F-A33C-9AB6CFF8902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evidence of the responsible use of funding to deliver cost-effective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FCC-BBBA-4575-9A63-1C19342D815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escrip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353F-0F92-47B4-9B8D-B1E12F3BA86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individual needs have been accurately diagnosed prior to recommending specific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ed career resources and services are appropriate given the needs of individu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007-C684-4220-A7AB-44076C69057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ations for the use of career resources and services by individuals were actually deliver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pu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the career resources and services used by individuals resulted in obtaining new knowledge and skills that addressed needs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9:37Z</dcterms:modified>
  <cp:revision>513</cp:revision>
  <dc:subject/>
  <dc:title>Implementing Computer-Assisted Career Guidance</dc:title>
</cp:coreProperties>
</file>