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B824-A108-498E-A16B-80B643489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C154-8526-404F-BF8D-8BB21EAE1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F138-B838-4B62-BE7E-B73F9C57E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92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97480" y="205416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92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97480" y="4324680"/>
            <a:ext cx="252684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4E2C-6408-4DC5-92A8-589C82C4FE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6389-2BD9-4C80-A8A7-7D2AC88F5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6173-F248-4398-B603-5769CD0F5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910B-00E1-41FA-B1AF-E9242BCAC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6A14-7154-4AC0-B926-407515D82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8337-DCBB-4804-BF2C-E8AA1A6E9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6A85-9390-475F-9E7C-A456EA5A5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920" y="432468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E8CC-F5FD-42A6-A2E0-B31566424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920" y="2054160"/>
            <a:ext cx="382968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4324680"/>
            <a:ext cx="7848360" cy="20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C42B-6CF8-4445-B852-BB1E79D8F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b18"/>
            </a:gs>
            <a:gs pos="100000">
              <a:srgbClr val="19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6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8d1ee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14480" y="152280"/>
            <a:ext cx="761760" cy="6553440"/>
          </a:xfrm>
          <a:prstGeom prst="rect">
            <a:avLst/>
          </a:prstGeom>
          <a:gradFill rotWithShape="0">
            <a:gsLst>
              <a:gs pos="0">
                <a:srgbClr val="19264f"/>
              </a:gs>
              <a:gs pos="100000">
                <a:srgbClr val="111b3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873000" y="1908000"/>
            <a:ext cx="8271000" cy="3240"/>
          </a:xfrm>
          <a:prstGeom prst="line">
            <a:avLst/>
          </a:prstGeom>
          <a:ln w="101520">
            <a:solidFill>
              <a:srgbClr val="758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871560" y="1828800"/>
            <a:ext cx="8272440" cy="12600"/>
          </a:xfrm>
          <a:prstGeom prst="line">
            <a:avLst/>
          </a:prstGeom>
          <a:ln w="76320">
            <a:solidFill>
              <a:srgbClr val="2a4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663040" y="6409800"/>
            <a:ext cx="48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c8d1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6630-4FEC-479B-B0BD-4E06A57AC78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 and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0320" y="2568240"/>
            <a:ext cx="86533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rom “Designing and Implementing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Career Programs: A Handbook </a:t>
            </a:r>
            <a:br>
              <a:rPr sz="3200"/>
            </a:b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r Effective Practice”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P. Sampson, Jr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Copyright 2008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758bd3"/>
                </a:solidFill>
                <a:latin typeface="Arial"/>
              </a:rPr>
              <a:t>National Career Development Associ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9433-5CFB-4C21-AF12-0D510754A038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come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– provides evidence that the new knowledge and skills gained from using career resources and services helped individuals to reach the goals that were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A6AD-A952-4FAE-A85E-954FADF71BD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tic measures, as well as other outcome measur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emographic data from student, client, or customer record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dividual learning plan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actitioner case notes from individual case-manage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C2B-9C38-4A58-97B4-3C2E34226B65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Accountability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llow-up data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articipant observ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AF16-0C52-4948-A7CF-EC9622A467AD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 (2008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Designing and implementing career programs: A handbook for effective practice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Broken Arrow, OK: National Career Development Association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8086-73A7-4F58-ACA3-ADF6C8CB67E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ampson, J. P., Jr., Reardon, R. C., Peterson, G. W., &amp; Lenz, J. G. (2004). </a:t>
            </a:r>
            <a:r>
              <a:rPr b="0" i="1" lang="en-US" sz="3200" spc="-1" strike="noStrike">
                <a:solidFill>
                  <a:srgbClr val="c8d1ee"/>
                </a:solidFill>
                <a:latin typeface="Arial"/>
              </a:rPr>
              <a:t>Career counseling and services: A cognitive information processing approach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. Pacific Grove, CA: Brooks/Cole.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or more inform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54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c8d1ee"/>
                </a:solidFill>
                <a:latin typeface="Arial"/>
              </a:rPr>
              <a:t>www.career.fsu.edu/techcenter</a:t>
            </a:r>
            <a:endParaRPr b="0" lang="en-US" sz="36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AC31-005A-4BEC-9984-627377673EE4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Organization of the Present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alua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  <a:ea typeface="Times New Roman"/>
              </a:rPr>
              <a:t>Accountability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309-5285-4E15-842B-CA9765A6F14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For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provides information to improve resources, service-delivery tools, and services as they are develop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Summative evalua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examines the degree to which intended outcomes are achieved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35EF-6F6D-43E9-BEC4-5C62DFB7AFC1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Sources of Evaluation Data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054160"/>
            <a:ext cx="815328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Diagnostic assessment readiness for career decision making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Questionnaires examining adolescents’ and adults’ perceptions of resources and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Interviews of adults who have located and used resources while receiving self-help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Focus groups obtaining data on the effectiveness of various services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8d1ee"/>
                </a:solidFill>
                <a:latin typeface="Arial"/>
              </a:rPr>
              <a:t>Observations of individuals’ use of resources </a:t>
            </a:r>
            <a:endParaRPr b="0" lang="en-US" sz="28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83E2-9D21-4E3B-99AB-A8743416B939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Evidence-Based Practice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Involves selecting career resources, service-delivery tools, and services that have been shown to be effectiv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Summative evaluations can contribute to evidence-based practice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B697-32A8-4DE7-918E-35193571921C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vides evidence of the responsible use of funding to deliver cost-effective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AB27-282D-4EC7-89AD-EF1653F5C0AF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escription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Outcome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81EA-6668-448C-87AF-915B19A46CF7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3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Diagnosi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individual needs have been accurately diagnosed prior to recommending specific career resources and services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escription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ed career resources and services are appropriate given the needs of individual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8663040" y="6410160"/>
            <a:ext cx="48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1DDD-6763-4A9B-9D19-AC6734FE812A}" type="slidenum">
              <a:rPr b="0" lang="en-US" sz="1800" spc="-1" strike="noStrike">
                <a:solidFill>
                  <a:srgbClr val="c8d1e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c8d1ee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4c600"/>
                </a:solidFill>
                <a:latin typeface="Arial"/>
              </a:rPr>
              <a:t>Five-Step Model of Accountability</a:t>
            </a:r>
            <a:endParaRPr b="0" lang="en-US" sz="4000" spc="-1" strike="noStrike">
              <a:solidFill>
                <a:srgbClr val="f4c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2054160"/>
            <a:ext cx="7848360" cy="48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recommendations for the use of career resources and services by individuals were actually delivered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4c6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de53"/>
                </a:solidFill>
                <a:latin typeface="Arial"/>
              </a:rPr>
              <a:t>Outputs</a:t>
            </a:r>
            <a:r>
              <a:rPr b="0" lang="en-US" sz="3200" spc="-1" strike="noStrike">
                <a:solidFill>
                  <a:srgbClr val="c8d1ee"/>
                </a:solidFill>
                <a:latin typeface="Arial"/>
              </a:rPr>
              <a:t> - provides evidence that the career resources and services used by individuals resulted in obtaining new knowledge and skills that addressed needs identified during diagnosis </a:t>
            </a:r>
            <a:endParaRPr b="0" lang="en-US" sz="3200" spc="-1" strike="noStrike">
              <a:solidFill>
                <a:srgbClr val="c8d1e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4T12:25:10Z</dcterms:created>
  <dc:creator>College of Education</dc:creator>
  <dc:description/>
  <dc:language>en-US</dc:language>
  <cp:lastModifiedBy>mpowell</cp:lastModifiedBy>
  <cp:lastPrinted>2000-02-29T17:16:55Z</cp:lastPrinted>
  <dcterms:modified xsi:type="dcterms:W3CDTF">2008-05-08T15:29:37Z</dcterms:modified>
  <cp:revision>513</cp:revision>
  <dc:subject/>
  <dc:title>Implementing Computer-Assisted Career Guidance</dc:title>
</cp:coreProperties>
</file>