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480C7-FFEA-4765-86B7-490F19ABF3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B24CD-78E6-427F-B62A-569F2A433D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EFA43-B861-4068-9DA2-617A876366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392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9748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36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392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9748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38C5A-AE2B-494F-8654-0812C2C3A9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7719D-D191-4989-8772-C9220787FD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A0C5F-E136-4C20-8212-49F186B8E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CA600-4860-4288-9387-7B4972BA63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44EF9-B238-4705-B4EC-F3DE6E29F9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8380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1E6AD-D120-47F0-B9CC-0F8D3ADDCD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F1B0A-E7D1-4E2E-8843-6C6EC1F445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D0094-6E04-4568-8F02-588C7D42AD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6E741-CA2F-4E01-8304-2459E6D8E2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b18"/>
            </a:gs>
            <a:gs pos="100000">
              <a:srgbClr val="1926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114480" y="152280"/>
            <a:ext cx="761760" cy="6553440"/>
          </a:xfrm>
          <a:prstGeom prst="rect">
            <a:avLst/>
          </a:prstGeom>
          <a:gradFill rotWithShape="0">
            <a:gsLst>
              <a:gs pos="0">
                <a:srgbClr val="19264f"/>
              </a:gs>
              <a:gs pos="100000">
                <a:srgbClr val="111b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Line 11"/>
          <p:cNvSpPr/>
          <p:nvPr/>
        </p:nvSpPr>
        <p:spPr>
          <a:xfrm>
            <a:off x="873000" y="1908000"/>
            <a:ext cx="8271000" cy="3240"/>
          </a:xfrm>
          <a:prstGeom prst="line">
            <a:avLst/>
          </a:prstGeom>
          <a:ln w="101520">
            <a:solidFill>
              <a:srgbClr val="758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Line 12"/>
          <p:cNvSpPr/>
          <p:nvPr/>
        </p:nvSpPr>
        <p:spPr>
          <a:xfrm>
            <a:off x="871560" y="1828800"/>
            <a:ext cx="8272440" cy="12600"/>
          </a:xfrm>
          <a:prstGeom prst="line">
            <a:avLst/>
          </a:prstGeom>
          <a:ln w="76320">
            <a:solidFill>
              <a:srgbClr val="2a4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663040" y="6409800"/>
            <a:ext cx="482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c8d1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DF48-84EC-4A5E-ACA1-5439D0E93AB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610480" cy="23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valuation and Accountabilit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0320" y="2568240"/>
            <a:ext cx="865332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rom “Designing and Implementing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areer Programs: A Handbook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r Effective Practice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 P. Sampson, Jr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Copyright 2008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National Career Development Associ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11CF-2B30-491E-A448-141594ED0687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ive-Step Model of Accountabilit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Outcomes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– provides evidence that the new knowledge and skills gained from using career resources and services helped individuals to reach the goals that were identified during diagnosis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5EB2-00FC-423D-BCD6-EFC7C5A4BD9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ources of Accountability Data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agnostic measures, as well as other outcome measur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emographic data from student, client, or customer record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dividual learning pla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actitioner case notes from individual case-managed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387B-9255-4615-8DD7-CBBCA7815BB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ources of Accountability Data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llow-up data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terview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cus group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articipant observ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EA52-A4EC-438B-9551-EA5190A9CCFE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 (2008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Designing and implementing career programs: A handbook for effective practice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Broken Arrow, OK: National Career Development Association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70EC-6AF3-4074-80EA-4374118380F7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, Reardon, R. C., Peterson, G. W., &amp; Lenz, J. G. (2004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Career counseling and services: A cognitive information processing approach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Pacific Grove, CA: Brooks/Cole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or more inform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54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www.career.fsu.edu/techcenter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7A83-B4FE-46FF-AEA2-6DB40D4246D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Organization of the Present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Evalu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Evidence-Based Practi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Accountabil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88D9-7CE4-4CC7-A070-A46AE8E4E006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valu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Formative evaluation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provides information to improve resources, service-delivery tools, and services as they are developed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Summative evaluation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examines the degree to which intended outcomes are achieved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90E3-A17C-4843-9162-28992769E89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ources of Evaluation Data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iagnostic assessment readiness for career decision mak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Questionnaires examining adolescents’ and adults’ perceptions of resources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nterviews of adults who have located and used resources while receiving self-help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Focus groups obtaining data on the effectiveness of various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Observations of individuals’ use of resources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9738-461B-4755-969E-9560A70C371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vidence-Based Practic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volves selecting career resources, service-delivery tools, and services that have been shown to be effectiv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ummative evaluations can contribute to evidence-based practi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FC9E-FB00-4498-8FD0-5B1F1BA1903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Accountabilit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ovides evidence of the responsible use of funding to deliver cost-effective career resources and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8714-127D-4C6B-A9E9-B1580317419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ive-Step Model of Accountabilit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agnosi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escrip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oces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Output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Outcomes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CB62-2B52-4ECC-AB1C-BB8541EDFF73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ive-Step Model of Accountabilit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Diagnosis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- provides evidence that individual needs have been accurately diagnosed prior to recommending specific career resources and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Prescription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- provides evidence that recommended career resources and services are appropriate given the needs of individuals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6B54-0507-42FD-981C-BEF5F2B5B85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ive-Step Model of Accountabilit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Process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- provides evidence that recommendations for the use of career resources and services by individuals were actually delivered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Outputs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- provides evidence that the career resources and services used by individuals resulted in obtaining new knowledge and skills that addressed needs identified during diagnosis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4T12:25:10Z</dcterms:created>
  <dc:creator>College of Education</dc:creator>
  <dc:description/>
  <dc:language>en-US</dc:language>
  <cp:lastModifiedBy>mpowell</cp:lastModifiedBy>
  <cp:lastPrinted>2000-02-29T17:16:55Z</cp:lastPrinted>
  <dcterms:modified xsi:type="dcterms:W3CDTF">2008-05-08T15:29:37Z</dcterms:modified>
  <cp:revision>513</cp:revision>
  <dc:subject/>
  <dc:title>Implementing Computer-Assisted Career Guidance</dc:title>
</cp:coreProperties>
</file>