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9D57-78DA-4514-A049-BAFD3540C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9B70-3C21-4DA2-91E3-7E8B33F7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AA06-12B4-47DB-A17E-964D55AB6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52DA-C81D-4EAC-B959-229D74B67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EACA-2C2E-42DB-B5F7-BC6B90217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AFD2-F8E4-4EF2-AB00-89A4ABA68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362A-4262-4927-9F36-79B9821E0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E479-23F6-4213-89F8-ADE050C85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DAA8-60AE-489C-8756-C0AA22218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DC49-65B8-49B8-9814-41F0C02A6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9579-05BB-4472-AE31-851ABDDCB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402E-61C2-41C2-8B4B-0CC5DB363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ED51-BE13-46B6-ABFD-F27CA7EBAE6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 and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188B-F8E6-40DC-A1F2-AF191801946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provides evidence that the new knowledge and skills gained from using career resources and services helped individuals to reach the goals that were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9AFF-4480-4623-A151-82F20DEFD16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s, as well as other outcome meas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mographic data from student, client, or customer recor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se notes from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B48-7410-459D-AF14-DA74983471A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 dat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rticipant observ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8ADC-772F-4C42-872C-AD1DC249C04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38E-9F04-4D46-81C5-3803E0447AF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925A-A302-4D92-A647-902DFAEB95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alu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6099-CD5B-487C-9080-DD8D34D53C0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r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vides information to improve resources, service-delivery tools, and services as they are develop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Sum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amines the degree to which intended outcomes are achieved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FDD7-FB71-4F13-894A-6778057B950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Evaluation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agnostic assessment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estionnaires examining adolescents’ and adults’ perceptions of resources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rviews of adults who have located and used resources while receiving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cus groups obtaining data on the effectiveness of various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bservations of individuals’ use of resour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33C-DAF7-480A-B979-884993D36D2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idence-Based Pract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volves selecting career resources, service-delivery tools, and services that have been shown to be effectiv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ummative evaluations can contribute to 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CAF-3A32-446B-AA80-B9A399B375A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evidence of the responsible use of funding to deliver cost-effective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7AFA-1920-4D24-B213-DC93CFBB426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escrip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9E7A-90F8-4A98-845A-EEE1442ADB2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individual needs have been accurately diagnosed prior to recommending specific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ed career resources and services are appropriate given the needs of individu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F421-CDE9-4E7F-92B1-44CEF9065C1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ations for the use of career resources and services by individuals were actually deliver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pu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the career resources and services used by individuals resulted in obtaining new knowledge and skills that addressed needs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9:37Z</dcterms:modified>
  <cp:revision>513</cp:revision>
  <dc:subject/>
  <dc:title>Implementing Computer-Assisted Career Guidance</dc:title>
</cp:coreProperties>
</file>