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AE791-CBCA-4F32-AB8A-FF856D30F0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9FD33-88A3-4987-8529-3F1B648519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BD289-7B85-43BB-ABF5-B8D5B0D5F1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392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9748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36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392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9748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3DF9D-650A-4B48-9492-671B6EBA68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FD874-937E-47C8-8430-32E7D8FDDD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4B875-83DC-4DCD-908B-446FFCBCDE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8B226-33E5-4617-B410-32B47C0612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DBEE5-B277-4229-A198-817EDB499B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8380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B11C5-949B-4F36-8B3F-91A9C8F035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D4990-FC36-4963-951F-E9BBA02CE2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0B11B-F707-4854-BCD3-ED83292C33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5E10B-9914-4108-B4EC-E606E655F6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b18"/>
            </a:gs>
            <a:gs pos="100000">
              <a:srgbClr val="1926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114480" y="152280"/>
            <a:ext cx="761760" cy="6553440"/>
          </a:xfrm>
          <a:prstGeom prst="rect">
            <a:avLst/>
          </a:prstGeom>
          <a:gradFill rotWithShape="0">
            <a:gsLst>
              <a:gs pos="0">
                <a:srgbClr val="19264f"/>
              </a:gs>
              <a:gs pos="100000">
                <a:srgbClr val="111b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Line 11"/>
          <p:cNvSpPr/>
          <p:nvPr/>
        </p:nvSpPr>
        <p:spPr>
          <a:xfrm>
            <a:off x="873000" y="1908000"/>
            <a:ext cx="8271000" cy="3240"/>
          </a:xfrm>
          <a:prstGeom prst="line">
            <a:avLst/>
          </a:prstGeom>
          <a:ln w="101520">
            <a:solidFill>
              <a:srgbClr val="758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Line 12"/>
          <p:cNvSpPr/>
          <p:nvPr/>
        </p:nvSpPr>
        <p:spPr>
          <a:xfrm>
            <a:off x="871560" y="1828800"/>
            <a:ext cx="8272440" cy="12600"/>
          </a:xfrm>
          <a:prstGeom prst="line">
            <a:avLst/>
          </a:prstGeom>
          <a:ln w="76320">
            <a:solidFill>
              <a:srgbClr val="2a4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663040" y="6409800"/>
            <a:ext cx="482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c8d1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E84D-3DE3-4759-B66F-91149324703D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610480" cy="23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valuation and Accountability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0320" y="2568240"/>
            <a:ext cx="865332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rom “Designing and Implementing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areer Programs: A Handbook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r Effective Practice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 P. Sampson, Jr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Copyright 2008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National Career Development Associ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44A7-076A-496B-92D1-09751DDAD2C3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ive-Step Model of Accountability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Outcomes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– provides evidence that the new knowledge and skills gained from using career resources and services helped individuals to reach the goals that were identified during diagnosis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E387-98E7-4451-A353-12535116467B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ources of Accountability Data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agnostic measures, as well as other outcome measur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emographic data from student, client, or customer record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dividual learning pla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actitioner case notes from individual case-managed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066E-1808-4BEB-BB4C-D0C0D0FCBFC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ources of Accountability Data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llow-up data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terview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cus group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articipant observ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C9C0-A6B8-4A02-9377-9BA64F2D6768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 P., Jr. (2008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Designing and implementing career programs: A handbook for effective practice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. Broken Arrow, OK: National Career Development Association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4ADF-4CDA-47DB-8BA9-1FFAA3D8B3DC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 P., Jr., Reardon, R. C., Peterson, G. W., &amp; Lenz, J. G. (2004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Career counseling and services: A cognitive information processing approach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. Pacific Grove, CA: Brooks/Cole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or more inform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54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www.career.fsu.edu/techcenter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A3A8-C868-486C-BD95-5140DE439D2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Organization of the Present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Evalu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Evidence-Based Practi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Accountabil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C561-E279-4673-A75E-1A687166D0E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valu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Formative evaluation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provides information to improve resources, service-delivery tools, and services as they are developed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Summative evaluation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examines the degree to which intended outcomes are achieved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9124-0AE3-4A4D-AEE2-857EE4497767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ources of Evaluation Data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iagnostic assessment readiness for career decision mak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Questionnaires examining adolescents’ and adults’ perceptions of resources and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nterviews of adults who have located and used resources while receiving self-help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Focus groups obtaining data on the effectiveness of various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Observations of individuals’ use of resources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1D69-BE34-413A-B829-88B923E1834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vidence-Based Practic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volves selecting career resources, service-delivery tools, and services that have been shown to be effectiv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ummative evaluations can contribute to evidence-based practi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0010-57FC-47AB-970D-01AD92631E3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Accountability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ovides evidence of the responsible use of funding to deliver cost-effective career resources and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7209-BAD4-4068-B1FD-E56BA47E78EE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ive-Step Model of Accountability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agnosi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escrip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oces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Output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Outcomes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91FA-2659-4CC4-B05F-9F6877B98E4A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ive-Step Model of Accountability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Diagnosis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- provides evidence that individual needs have been accurately diagnosed prior to recommending specific career resources and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Prescription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- provides evidence that recommended career resources and services are appropriate given the needs of individuals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0A41-4545-4AB4-A27D-2A13A8AA834D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ive-Step Model of Accountability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Process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- provides evidence that recommendations for the use of career resources and services by individuals were actually delivered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Outputs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- provides evidence that the career resources and services used by individuals resulted in obtaining new knowledge and skills that addressed needs identified during diagnosis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4T12:25:10Z</dcterms:created>
  <dc:creator>College of Education</dc:creator>
  <dc:description/>
  <dc:language>en-US</dc:language>
  <cp:lastModifiedBy>mpowell</cp:lastModifiedBy>
  <cp:lastPrinted>2000-02-29T17:16:55Z</cp:lastPrinted>
  <dcterms:modified xsi:type="dcterms:W3CDTF">2008-05-08T15:29:37Z</dcterms:modified>
  <cp:revision>513</cp:revision>
  <dc:subject/>
  <dc:title>Implementing Computer-Assisted Career Guidance</dc:title>
</cp:coreProperties>
</file>