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38FF-AAB3-454C-B167-9BFF95E32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50B1-36AB-4802-A117-247C8E30A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3D12-3834-493D-8100-0952F045B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D3C2-1B8E-4344-BC2D-85AC5F9F44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9337-A4ED-42EE-B6CD-E3F5C1AD9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95C5-D42D-41B4-AAA4-C5BD91160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024B-86F8-4968-A3A0-FC60D4CA1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1471-661C-4B85-BDD4-816773AF3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3638-2467-4EFB-AC20-1620642BF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001F-122C-4DC8-A0D8-50E695211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3426-538E-447F-890B-AD1D123D8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CA5E-0A35-4A92-ADDB-95C62D4B3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3E8B-D800-4786-B203-2D30A832566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 and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1982-EE04-4BD1-979F-2E51CAD911E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come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– provides evidence that the new knowledge and skills gained from using career resources and services helped individuals to reach the goals that were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0C50-4A3C-4A27-926C-58D27823A74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s, as well as other outcome measur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mographic data from student, client, or customer record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case notes from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C791-7E4A-41FE-A4A2-2740EE66BCD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up dat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rticipant observ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AE8A-8F8F-494D-B166-D10CF6DE4D7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DF18-B3D4-46D0-BFBB-8305ABB8A53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C28B-5215-47F1-94C7-097CB56A457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alu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ccount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B036-6207-42DC-99C3-50658320B1D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For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vides information to improve resources, service-delivery tools, and services as they are develop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Sum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examines the degree to which intended outcomes are achieved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2FC0-2B23-44BF-A9B1-08FE68F3595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Evaluation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agnostic assessment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estionnaires examining adolescents’ and adults’ perceptions of resources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rviews of adults who have located and used resources while receiving self-help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cus groups obtaining data on the effectiveness of various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bservations of individuals’ use of resource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27CF-5CD1-4B48-8D33-5ED41A6F077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idence-Based Practi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volves selecting career resources, service-delivery tools, and services that have been shown to be effectiv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ummative evaluations can contribute to 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9FF1-2AF1-4CCE-8F23-AFA6D2F79D8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evidence of the responsible use of funding to deliver cost-effective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D80F-6DE7-4175-8447-0844394841A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escrip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B5AD-EABF-4CAB-8954-4130266357E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Diagnosi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individual needs have been accurately diagnosed prior to recommending specific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escrip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ed career resources and services are appropriate given the needs of individual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6A27-3A99-420C-88DD-F7A0B995279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ations for the use of career resources and services by individuals were actually deliver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pu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the career resources and services used by individuals resulted in obtaining new knowledge and skills that addressed needs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29:37Z</dcterms:modified>
  <cp:revision>513</cp:revision>
  <dc:subject/>
  <dc:title>Implementing Computer-Assisted Career Guidance</dc:title>
</cp:coreProperties>
</file>