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08FB91-88F8-42FA-A035-1C1DE8A339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85A5D4-CB1D-4C1D-A9DF-623507E2B666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7A4840-B891-42D0-B45A-A05723D2855B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C9ADCA-A343-46E4-869A-DB4908B3B3FD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4E4076-2143-4FB9-BA4A-01BDDDD6BDC5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123A69-6AA6-4AFC-9693-25BFA313B85C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A6D005-7A73-4132-BB04-38165AC67D14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7C6FB9-07E9-4299-B9BA-44058CBE5573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82EB41-116F-46BC-963F-2CB1108E03DB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4B295F-08E2-448F-9E97-A8481E866991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EB8668-F138-499A-9DC3-2350D73925A6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7F0155-74A6-4237-9F2F-BE9F2E1156C3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4985C1-7FBB-40DF-A070-8DE438E4E8D6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2A455B-57EB-47C3-9F82-814B5EEDEF66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9F86D7-3D84-4CB5-9FD6-169BDA78CB08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AC853E-0D92-4C6C-8C2E-8B5ACBCFA3C9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A974EE-59D1-45BF-B49E-D9F70A38FC4F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60E74D-2465-4677-B48C-54B948CF296F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AD0C-F3A8-4517-BCC5-1770F3D73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C80F-7C3C-409C-B285-59AF719EF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186B-E9CF-478E-8845-0F1DAB0AF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B74E-045F-4574-815F-6E668902C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9D02-C958-4846-BF3F-D1FF8BB50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E1E0-E3FC-4858-8D7D-A0A473D45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C7B9-E9FE-4416-9334-4FDC47EF8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CEA8-2C78-4A30-829B-BDA4E8E8E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99ED-C120-4A56-883A-0EE3E0301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DAF1-2F22-4A24-90B3-F0272A44F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731C-AB36-431E-AE7A-FC0002CE6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AE81-7B79-423D-93E2-D3DEE8702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9EC1-C8B1-40E6-91CD-BE249B7B340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career.fsu.edu/techcenter/designing_career_services/index.html" TargetMode="Externa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Resource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D985-2275-4A9A-9105-87CB62A6677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lues, interests, and skills are influenced by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ersonal characteristic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ife experi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lues, interests, and skills may be influenced by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ligious or spiritual belief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C4FD-0C25-469C-ACDB-298A042549A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ored in episodic memo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ceptions rather than fac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d by interpretation of past even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d by present emo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38480" y="4648320"/>
            <a:ext cx="1981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ccupational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297C-0855-4E51-94DB-7B43F8F9423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ccupational 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so known as “options knowledg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Knowledge of specific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rect experience or observing oth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ands over tim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hema for organizing the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rld-of-work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ample - the Holland Hexag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A5CE-6887-46D0-87E0-E6FCE548771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ccupational 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ored in semantic memo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erifiable facts rather than perce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 influenced by interpretation of past even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 influenced by present emo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15000" y="328608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895480" y="3581280"/>
            <a:ext cx="190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CASVE Cycl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 flipH="1">
            <a:off x="5343480" y="364824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0E51-F89B-4D2C-8804-5FA0B4D9FCA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eneric information processing skills that individuals use to solve important problems and make decis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ASVE cycl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s one mod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ther models exis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question – “How do I usually make important decisions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834080" y="1957320"/>
            <a:ext cx="236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124080" y="2286000"/>
            <a:ext cx="152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Meta-cogni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4462560" y="247176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0E07-B94D-4203-8294-0D529BC1EA3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etacogni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talk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: a conversation people have with themselves about their performance; self-talk can be positive or negativ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aware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: awareness of themselves as they solve problems and make decis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99AE-5D70-4AC2-80FA-AF663447EA7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Monitoring and control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– ability to monitor where they are in the problem solving process and control the amount of attention and information needed for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10F3-0DD9-4B0E-981C-6F98B333C48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e CIP Approach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e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Web Sit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DBE3-2280-40F0-86D2-D22AA7B4809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 of negative self-talk on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ecision-making skil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ccupational knowled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knowled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can reframe negative self-talk into positive self-talk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76920" y="2000160"/>
            <a:ext cx="236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629400" y="460548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715000" y="338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81080" y="464832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Self-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038480" y="4648320"/>
            <a:ext cx="1981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ccupational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2895480" y="3581280"/>
            <a:ext cx="190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CASVE Cycl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124080" y="2286000"/>
            <a:ext cx="152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Meta-cogni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5343480" y="373392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4476600" y="251460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05120" y="46483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about mysel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86200" y="4648320"/>
            <a:ext cx="2133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about my op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819520" y="3352680"/>
            <a:ext cx="2209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how I make decis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743200" y="2057400"/>
            <a:ext cx="2286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Thinking about my decision mak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5334120" y="205740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c600"/>
                </a:solidFill>
                <a:latin typeface="Arial"/>
              </a:rPr>
              <a:t>Client Vers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DC31-FE9C-4080-AFD0-BFA5FB4689E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990720" y="91440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he CASVE Cycle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447920" y="28195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-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How to make a career cho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V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8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9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1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2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mmunicatio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nalysi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xecutio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ynthesi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alu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0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2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3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dentifying the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problem - the gap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Analysis</a:t>
            </a:r>
            <a:br>
              <a:rPr sz="24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hinking about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aking action to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 narrow the gap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Generating likely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 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Prioritizing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4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2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4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6DB9-3FE8-493A-B7F7-051EA63F8AD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coming aware of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gap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– the difference between an existing and a desired state of affairs (or where they are and where they want to b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omfort becomes greater than fear of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ssistance sought when resources are inadequat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962A-E458-4B67-830E-652E93CB61A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External cues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ositive or negative event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put from significant oth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Internal cues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egative emo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voidance behavio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hysiological cu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999B-FE9A-4210-97D9-C04C5CA6EF7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nslating Concepts for Client Us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4804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rami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  <a:ea typeface="Times New Roman"/>
              </a:rPr>
              <a:t>What’s involved in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of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What you need to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know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0680" y="2054160"/>
            <a:ext cx="384804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VE Cycl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  <a:ea typeface="Times New Roman"/>
              </a:rPr>
              <a:t>A guide to good decision mak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of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What you need to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do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8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9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57CE-5D73-4F8E-AD35-A66DC204278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arify self-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nhance options 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how important decisions are typically mad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how thinking influences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9488-E5A0-40CE-9352-E936DF93093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recurring process of learning, reflection, and developing a more complex view of themselves and their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people have some information at the start of this 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6CB8-F149-44A2-81EE-AB2946D99E4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arify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are their values, interests, skills, and employment preferences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have people learned from their past experience, their family, assessments, or information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A64-6D89-4E23-950A-9C0797884CD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nhanc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options 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do individuals know about the options they are considering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individuals have an effective schema for the world-of-work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late self-knowledge with options knowledge to better understand personal characteristics in relation to options being conside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how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mportant decision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ypical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ma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was an important decision you made recently and how you made that decision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9DEB-7018-41E7-A408-BBECF0338B6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how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ositive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 negative think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nfluences career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awareness of how thoughts influence feelings and behavior in career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7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0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6325-1A96-4BD0-A3E8-FBF492A8C9B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void missing alternatives, while not becoming overwhelmed with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07A7-1827-4EE2-9006-42150C2D4A7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4600" y="2290320"/>
            <a:ext cx="791712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labor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pand possibl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 career assessments and discussions to generat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6438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62722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1B72-008A-432E-A620-A409D2F048C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74600" y="2290320"/>
            <a:ext cx="7917120" cy="45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rystall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arrow potential options by eliminating inappropriat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 occupational, educational, training, and employment information to narrow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2 or 3 options are best for proceeding on to Valu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7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0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07960" y="2054160"/>
            <a:ext cx="743112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career decision is ma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arrowing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gap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between where the individual is and where he or she wants to b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E049-C2D4-4BB0-9CD1-8471D142807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23720" y="2212560"/>
            <a:ext cx="751500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Judge the </a:t>
            </a: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cos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benefi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each option to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nesel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ignificant others (friends and/or family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ultural grou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ty and/or society at lar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4524-0093-4946-A8B5-A38FB3D8AC7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ioritize alternativ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e tentativ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rimar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condar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sider recreational activities and volunteer work to meet needs not addressed in paid employment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23720" y="2212920"/>
            <a:ext cx="751500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e has an important influence on valu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ne example is the importance of family on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ents opinion on the career decisions of their childre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sidering the needs of the family in making a career decis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8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1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DAB1-2D18-484E-94C3-35D8F9B5E19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stablish and commit to a plan of action for implementing a tentative cho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5968-1C0F-408B-A86E-B027B6F673F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57400" y="2054160"/>
            <a:ext cx="7681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ecting a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reparation progra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ning a program of stud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loring financial aid op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leting education or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training or education is not needed, job search beg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2FAC-84F5-4480-A4F2-6B8BBE3C5D0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ate a plan for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reality tes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ull-time work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t-time work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Volunteer work experi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aking courses or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ek employ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dentify, apply for, and get a job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686560" y="3257640"/>
            <a:ext cx="259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5315040" y="361944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7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8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9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0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1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5C47-6D52-4044-94E6-B3B770D0BCF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23720" y="2054160"/>
            <a:ext cx="75150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view external and internal cu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s the gap been closed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ve the negative emotions and physiological states improved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m I taking action to achieve my goal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1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2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4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5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7720" y="6667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 - Client Vers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Knowing I Need 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to Make a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Knowing I Made a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Good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Understanding 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yself and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 My Option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Implementing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y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Expanding and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Narrowing My List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f Option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Choosing an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ccupation, Program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f Study, or Job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3" name="Arc 8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5" name="Arc 10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>
            <a:off x="3438360" y="2209680"/>
            <a:ext cx="227664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7" name="Arc 12"/>
          <p:cNvSpPr/>
          <p:nvPr/>
        </p:nvSpPr>
        <p:spPr>
          <a:xfrm>
            <a:off x="5724360" y="1916280"/>
            <a:ext cx="1068480" cy="12952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8" name="Arc 13"/>
          <p:cNvSpPr/>
          <p:nvPr/>
        </p:nvSpPr>
        <p:spPr>
          <a:xfrm>
            <a:off x="2297160" y="2449440"/>
            <a:ext cx="1143000" cy="7621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9AFE-B108-4AD5-8518-064E35FBC0F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yclical Nature of the CASVE Cycl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single career choice evolves over time and may involve many itera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periencing difficulty at any one stage causes a person to cycle through to a previous stage to correct the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speed at which people progress depends on external events and personal variabl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9ED8-9E06-41C1-B8C9-6B73367B677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  <a:ea typeface="Times New Roman"/>
              </a:rPr>
              <a:t>Serendipity and the CIP Approach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During valuing or execution, chance factors, or serendip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May help individuals to identify new option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equires cycling back through analysis and valu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341B-A97D-466C-B032-5405BBB79D4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IP is mostly concerned with cogn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motions may be just as important as cognitions in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egative self-talk can lead to depression and anxie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motions are an important source of information about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ositive emotions should be reinforc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C464-333B-4248-8165-6A0DB5F0072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CIP rationality and logic are valued over intu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uition is a different way of know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Intuition includes cognitions outside of our immediate conscious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uitive insights are as important as rational insigh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E3AE-3F52-4259-9F56-3F9CA11DB26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5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CIP rationality and logic are valued over intu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most everyone uses both rationality and intui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ationality and intuition are complementar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Perceived discrepancies between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ationality and intuition signals that more problem solving is nee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7692-24BD-4FB6-97E2-E8BD8A26723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Resour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resource room (or resource area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eb sit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848120" y="1957320"/>
            <a:ext cx="2362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462560" y="251460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AF4C-58AF-417E-BC72-FA72EC4E5BF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adolescents and adults with access to career resources with staff providing varying levels of assistance resources based on individual need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t is not possible to deliver differentiated services without having a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9CFE-DF7C-4088-9340-4B401BF75FF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stablish an optimum number of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number of resources should never exceed the amount of time available to train staff members on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potential positive outcomes of using the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general content of the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ow the resource can be effectively us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F9AF-DE6F-4040-9130-85F38CC9086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gnage, resource guides, and information handouts can be color coded to make it easier to locate resources on a specific topic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48B9-E4FC-4621-AEE2-0D60D0D6B46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pecific career resources for special populations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ith limited reading abili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ith limited language skil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s in alternate formats need to be available for persons with disabil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535B-4AD2-43B5-A200-5BD755AB620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 area for greeting adolescents or adults when they enter is essential in providing a welcoming and supportive atmosphere that facilitates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B3CA-D014-4E52-9DF9-60A14DB7D7B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urniture should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uter work stations with headphones for auditory privac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ables for using print resources </a:t>
            </a:r>
            <a:br>
              <a:rPr sz="2800"/>
            </a:b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(round tables with rolling chairs work best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ookcas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ateral hanging fil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elevisions and DVD/videocassette players with headphones for auditory privacy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DC95-56C5-4081-91F8-4520ABBFC58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levels of service delivery can make use of Web sites that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mote access to career assessments and career inform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inks and referrals to career service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brief staff-assisted and individual case-managed services, specific content on a Web site can be assigned on the IL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4D91-8731-40E5-A8EA-1D1FBD92264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career center or school Web site can be used by young people and adults in the career resource room as well as at a dista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ff modeling of Web site use can stimulate the information-seeking behavior of young people and adul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3EBF-433F-4D2F-9834-8B867081A6F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99840" y="606240"/>
            <a:ext cx="8443800" cy="114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Web Sites and Distance Counseling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can refer an adolescent or adult to specific content on a Web site that relates to a problem being discuss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“teachable moment” provides practitioners with an opportunity to help individuals immediately process and apply what they are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BDC1-F2B8-4FEF-AE34-BEC9C8C7166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 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iolation of confidentiality or secur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nks to invalid assessments and inform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ack of practitioner support when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dependency on the Web site to compensate for a lack of competenc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s with little access to the Internet due to a lack of financial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9147-1E30-465B-8C0B-E92276CDEB8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ation handouts provide brief, consumable, and easy to use sources of information to help adolescents and adults make occupational, educational, training, and employment decision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CDAC-4F10-4DEF-B379-502FFB3205F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levels of service delivery make use of 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opics and content will vary according to the needs of adolescents and adults served in a specific organization or geographic are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andouts should be included on related resource guides and vice vers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AFB4-9B56-4B55-869B-B56605A3BF2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Elements of an Information Handout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Outco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ading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th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F78F-959A-4BAE-A8DB-524D0474AE5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rinting 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pled sheets of pap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rochur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ookle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ocument files that can be downloaded from a Web sit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CD61-6166-44D6-9F29-35B231C21DD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ADF8-47E8-4B8B-9020-9687097A68D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B3FC-658E-4D6B-9326-8007195F96F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1600" y="2054160"/>
            <a:ext cx="83120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ampson, J. P., Jr., Peterson, G. W., Reardon, R. C., &amp; Lenz, J. G. (2007). 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Key elements of the Cognitive Information Processing Approach to Designing Career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. Tallahassee, FL: Florida State University, Center for the Study of Technology in Counseling and Career Development. Retrieved November 9, 2007 from: </a:t>
            </a:r>
            <a:r>
              <a:rPr b="0" lang="en-US" sz="28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career.fsu.edu/techcenter/designing_career_services/index.htm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3D8-25D6-4F80-A4AE-E1667026035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793584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rdon, R. C., Lenz, J. G., Sampson, J. P., Jr., &amp; Peterson, G. W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development and planning: A comprehensive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(3rd ed.)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981080" y="464832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Self-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83C6-A5A6-4EFF-8B3D-7F7B6A4A604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are my values, interests, skills, and employment preferences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e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motivators for work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Interest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activities people enjoy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kill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activities people can perform well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mployment preferences 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– what people choose to seek or avoid in work (e.g., inside vs. outside)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23:32Z</dcterms:modified>
  <cp:revision>516</cp:revision>
  <dc:subject/>
  <dc:title>Implementing Computer-Assisted Career Guidance</dc:title>
</cp:coreProperties>
</file>