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748774-1DB0-4F16-BF90-26AEA7D4BC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C1D104-6163-477C-B93C-3E1866633DD0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F5B272-D1A8-444A-B3B2-293C1F18B533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4C1DB8-5C21-4019-B76C-10AF3EF0A76E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538C7C-B352-4CC2-9A89-8CCB767840AA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FE56E5-5A70-470A-A756-A8548C64C244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9ACC84-E33E-408B-A841-1423992878DA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8EA393-D2E6-46EE-88F9-9D796F697B5E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CE4C9F-54F6-4BBA-A691-D409B62608C5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0A1B68-611F-4FAB-869E-7E06872FB9FE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F43E75-D8A8-4459-BAE4-39DD864589F4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EFA711-6A0A-40B7-9E92-8F9005DE0930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993662-A9E8-498A-B172-85EBF3BB5BDD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94BBCE-9C7B-466A-AB55-9602EABDF281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1FAB20-E1C1-4E9C-A59B-64BCA8B0BAA8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435FCF-D982-4EC3-9377-C5D7F8E86145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02AED8-372C-4020-9F64-19690EFA9419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607399-6800-4C6F-843E-AC4F0CB2EFC9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C01A-F005-4B01-88BE-E31F06CFC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8EA4-2EA7-4509-99FE-145925209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A41E-C85E-40B6-A8AB-B95A37267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0AC0-95E8-457D-8D01-CF143AA12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884B-0475-4894-9D76-6E393E29D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C72D-29C8-4589-8A61-23C907038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5386-3989-40CF-9DE2-CD4436D76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C786-63C4-4892-871C-28095DB5A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9BE9-2031-4D15-922E-09930568E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6D07-27E6-456D-870D-CFEFA5860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AD00-9675-49E0-B7BC-0BA5B4C65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9130-6E83-47AF-AD34-4F9503F7B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A3D6-3A55-4881-A50E-C68E0913154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career.fsu.edu/techcenter/designing_career_services/index.html" TargetMode="Externa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Resour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9BBF-586C-419C-86EC-D42FDFF5293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lues, interests, and skills are influenced by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ersonal characteristic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ife experi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lues, interests, and skills may be influenced by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ligious or spiritual belief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1E87-12E7-4CC8-95F8-B5691E831E3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ored in episodic memo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ceptions rather than fac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d by interpretation of past even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d by present emo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38480" y="4648320"/>
            <a:ext cx="1981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ccupational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4126-F8A9-43D4-9FCC-4AEAE6AD5D5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ccupational 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so known as “options knowledg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Knowledge of specific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rect experience or observing oth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ands over tim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hema for organizing the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rld-of-work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ample - the Holland Hexag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3D50-3685-4E64-8FEB-135F9C3339F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ccupational 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ored in semantic memo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erifiable facts rather than perce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 influenced by interpretation of past even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 influenced by present emo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15000" y="328608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895480" y="35812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CASVE Cycl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H="1">
            <a:off x="5343480" y="364824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EE19-61A5-408F-A9E8-3C7C46CB52A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neric information processing skills that individuals use to solve important problems and make decis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ASVE cycl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s one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ther models exis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question – “How do I usually make important decisions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834080" y="1957320"/>
            <a:ext cx="236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124080" y="2286000"/>
            <a:ext cx="152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Meta-cogni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462560" y="247176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7166-BC5F-4EB5-95BB-3F327A056A6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etacogni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talk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: a conversation people have with themselves about their performance; self-talk can be positive or negativ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aware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: awareness of themselves as they solve problems and make decis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5C91-500C-4BB1-9C23-0492C7FD404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Monitoring and control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– ability to monitor where they are in the problem solving process and control the amount of attention and information needed for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491F-A86D-456C-B652-64A40A0F026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e CIP Approach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Web Sit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803A-BE3E-4784-A1B5-16A68EBCA0E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 of negative self-talk on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cision-making skil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ccupational knowled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knowled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can reframe negative self-talk into positive self-talk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76920" y="2000160"/>
            <a:ext cx="236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629400" y="460548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715000" y="338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81080" y="464832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Self-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038480" y="4648320"/>
            <a:ext cx="1981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ccupational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2895480" y="35812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CASVE Cycl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124080" y="2286000"/>
            <a:ext cx="152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Meta-cogni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5343480" y="373392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4476600" y="251460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05120" y="46483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about mysel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86200" y="4648320"/>
            <a:ext cx="2133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about my op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819520" y="3352680"/>
            <a:ext cx="220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how I make decis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743200" y="2057400"/>
            <a:ext cx="2286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Thinking about my decision mak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334120" y="20574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c600"/>
                </a:solidFill>
                <a:latin typeface="Arial"/>
              </a:rPr>
              <a:t>Client Vers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12D8-7349-4EAE-8905-7D5C68BCC30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990720" y="91440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he CASVE Cycle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447920" y="28195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-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How to make a career cho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V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mmunicatio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nalysi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xecutio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ynthesi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alu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0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2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3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dentifying the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problem - the gap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Analysis</a:t>
            </a:r>
            <a:br>
              <a:rPr sz="24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hinking about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aking action to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 narrow the gap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Generating likely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 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Prioritizing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F68-A22A-4B82-B892-8CB996B66BB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coming aware of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gap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the difference between an existing and a desired state of affairs (or where they are and where they want to b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omfort becomes greater than fear of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ssistance sought when resources are inadequat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00BB-C39D-438E-8FEA-C668D338693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External cues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ositive or negative event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put from significant oth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Internal cues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egative emo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voidance behavio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hysiological cu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BFB0-86D5-4413-A806-0DD946F5EB5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nslating Concepts for Client Us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4804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rami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  <a:ea typeface="Times New Roman"/>
              </a:rPr>
              <a:t>What’s involved in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of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What you need to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know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0680" y="2054160"/>
            <a:ext cx="384804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VE Cycl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  <a:ea typeface="Times New Roman"/>
              </a:rPr>
              <a:t>A guide to good decision mak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of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What you need to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do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8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9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6EED-5A3C-4374-9773-61812C12A9D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arify self-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nhance options 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how important decisions are typically mad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how thinking influences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ECAB-979E-487D-A9DC-FB42FAF3CD2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recurring process of learning, reflection, and developing a more complex view of themselves and their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people have some information at the start of this 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469B-7661-4BF4-96CC-A2425BFAE49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arify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are their values, interests, skills, and employment preferences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have people learned from their past experience, their family, assessments, or information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1727-011D-45C3-B002-48C1D74235F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nhanc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options 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do individuals know about the options they are considering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individuals have an effective schema for the world-of-work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late self-knowledge with options knowledge to better understand personal characteristics in relation to options being consid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how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mportant decision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ypical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ma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was an important decision you made recently and how you made that decision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9252-E1F1-49F6-991F-1C45CADE6D2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how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 negative think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nfluences career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awareness of how thoughts influence feelings and behavior in career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776F-DA1F-48DE-8111-23DEBB93D13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void missing alternatives, while not becoming overwhelmed with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33B9-C33A-45D6-AB5C-08E21581A2D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4600" y="2290320"/>
            <a:ext cx="79171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labor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pand possibl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 career assessments and discussions to generat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6438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62722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7E99-C899-44E8-A43F-946A21B409E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74600" y="2290320"/>
            <a:ext cx="7917120" cy="45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rystall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arrow potential options by eliminating inappropriat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 occupational, educational, training, and employment information to narrow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2 or 3 options are best for proceeding on to Valu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07960" y="2054160"/>
            <a:ext cx="743112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career decision is ma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arrowing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gap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between where the individual is and where he or she wants to b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1B54-F0A9-4B51-933D-EE7BBD1ABA9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23720" y="2212560"/>
            <a:ext cx="751500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Judge the </a:t>
            </a: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cos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benefi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each option to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nesel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ignificant others (friends and/or family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ultural grou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ty and/or society at lar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5A37-F911-4098-9242-C6306AD0F43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ioritize alternativ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e tentativ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rimar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condar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sider recreational activities and volunteer work to meet needs not addressed in paid employmen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23720" y="2212920"/>
            <a:ext cx="751500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e has an important influence on valu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ne example is the importance of family on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ents opinion on the career decisions of their childre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sidering the needs of the family in making a career decis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5BD4-4487-434A-B79D-BF1A0E2A317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stablish and commit to a plan of action for implementing a tentative cho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8F2B-BA09-4A14-84E4-7EE99E016A3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57400" y="2054160"/>
            <a:ext cx="7681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ng a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reparation progra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ning a program of stud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ing financial aid op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leting education or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training or education is not needed, job search beg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E52E-44B1-4B23-B245-C981F07E963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ate a plan for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reality tes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ull-time work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t-time work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Volunteer work experi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aking courses or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ek employ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dentify, apply for, and get a job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686560" y="3257640"/>
            <a:ext cx="259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5315040" y="361944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138F-0DC6-4AFF-B430-B3275CE89B7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23720" y="2054160"/>
            <a:ext cx="75150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view external and internal cu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s the gap been closed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e the negative emotions and physiological states improved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m I taking action to achieve my goal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7720" y="6667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 - Client Vers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Knowing I Need 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to Make a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Knowing I Made a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Good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Understanding 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yself and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 My Option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Implementing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y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Expanding and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Narrowing My List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f Option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Choosing an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ccupation, Program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f Study, or Job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Arc 8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Arc 10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>
            <a:off x="3438360" y="2209680"/>
            <a:ext cx="227664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Arc 12"/>
          <p:cNvSpPr/>
          <p:nvPr/>
        </p:nvSpPr>
        <p:spPr>
          <a:xfrm>
            <a:off x="5724360" y="1916280"/>
            <a:ext cx="1068480" cy="12952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8" name="Arc 13"/>
          <p:cNvSpPr/>
          <p:nvPr/>
        </p:nvSpPr>
        <p:spPr>
          <a:xfrm>
            <a:off x="2297160" y="2449440"/>
            <a:ext cx="1143000" cy="7621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A18C-A5B3-4B27-8326-E2B3FE445EF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yclical Nature of the CASVE Cycl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single career choice evolves over time and may involve many itera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periencing difficulty at any one stage causes a person to cycle through to a previous stage to correct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speed at which people progress depends on external events and personal variabl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2C3C-37FC-4E2C-BF8B-9A342749342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  <a:ea typeface="Times New Roman"/>
              </a:rPr>
              <a:t>Serendipity and the CIP Approach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During valuing or execution, chance factors, or serendip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May help individuals to identify new option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equires cycling back through analysis and valu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8D24-744D-403D-A000-D76172F3260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IP is mostly concerned with cogn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motions may be just as important as cognitions in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egative self-talk can lead to depression and anxie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motions are an important source of information about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ositive emotions should be reinforc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50EE-DB54-46CF-A344-548FF693C20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CIP rationality and logic are valued over intu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uition is a different way of know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Intuition includes cognitions outside of our immediate conscious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uitive insights are as important as rational insigh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CD34-5E63-4ADA-9CFD-C3FF287B6DE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5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CIP rationality and logic are valued over intu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most everyone uses both rationality and intui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ationality and intuition are complementar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Perceived discrepancies between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ationality and intuition signals that more problem solving i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80AA-3CE1-4424-A25B-C9DC9ECA966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Resour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resource room (or resource area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eb sit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848120" y="1957320"/>
            <a:ext cx="2362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462560" y="251460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41BC-5756-4FC0-9495-1DE42D03A8E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ccess to career resources with staff providing varying levels of assistance resources based on individual nee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t is not possible to deliver differentiated services without having a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ED1B-A635-45FC-A7F8-742ED2F4513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stablish an optimum number of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number of resources should never exceed the amount of time available to train staff members on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potential positive outcomes of using the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general content of the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ow the resource can be effectively us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3514-E466-4AEC-853A-9C5D678706F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gnage, resource guides, and information handouts can be color coded to make it easier to locate resources on a specific topic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D4C3-DD7F-4D01-8FAC-A09A1C92C95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for special populations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ith limited reading 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ith limited language skil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s in alternate formats need to be available for persons with disabil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8B00-18B0-4683-B3DC-EFDAB13B09B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 area for greeting adolescents or adults when they enter is essential in providing a welcoming and supportive atmosphere that facilitates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6D2D-7D3E-4965-9F6A-16FD6AB73C5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urniture should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uter work stations with headphones for auditory privac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ables for using print resources </a:t>
            </a:r>
            <a:br>
              <a:rPr sz="2800"/>
            </a:b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(round tables with rolling chairs work best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ookcas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ateral hanging fil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elevisions and DVD/videocassette players with headphones for auditory privacy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A5D3-3BC4-4E8B-8428-FC55AC2F598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levels of service delivery can make use of Web sites that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mote access to career assessments and career inform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inks and referrals to career servi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brief staff-assisted and individual case-managed services, specific content on a Web site can be assigned on the IL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6B45-A324-460E-8002-6F4CA8ACB22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career center or school Web site can be used by young people and adults in the career resource room as well as at a dista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ff modeling of Web site use can stimulate the information-seeking behavior of young people and adul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8D07-4777-4797-9C74-B440CE60A89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99840" y="606240"/>
            <a:ext cx="8443800" cy="11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Web Sites and Distance Counseling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n refer an adolescent or adult to specific content on a Web site that relates to a problem being discuss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“teachable moment” provides practitioners with an opportunity to help individuals immediately process and apply what they are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66C4-5F13-406D-9E4E-F2560FF2763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 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iolation of confidentiality or secur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nks to invalid assessments and inform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ack of practitioner support when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dependency on the Web site to compensate for a lack of competenc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s with little access to the Internet due to a lack of financial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760F-282A-40E8-9EC9-5771229EF6A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ation handouts provide brief, consumable, and easy to use sources of information to help adolescents and adults make occupational, educational, training, and employment decision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12F4-B194-46F8-9AEE-31B54EA3E7E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levels of service delivery make use of 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opics and content will vary according to the needs of adolescents and adults served in a specific organization or geographic are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andouts should be included on related resource guides and vice vers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8385-0EA8-4ADE-81AC-355D6301D25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Elements of an Information Handout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ading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th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B132-1399-4D3B-A717-99DE2A1235B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rinting 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pled sheets of pap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roch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ookle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ocument files that can be downloaded from a Web sit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D152-C3C7-40AE-A5C8-722B4AD22BB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D002-B2A9-42DB-B8A1-D989AF3A67F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A429-2C66-4970-A1BB-4AA840FA3BE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1600" y="2054160"/>
            <a:ext cx="83120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ampson, J. P., Jr., Peterson, G. W., Reardon, R. C., &amp; Lenz, J. G. (2007). 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Key elements of the Cognitive Information Processing Approach to Designing Career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. Tallahassee, FL: Florida State University, Center for the Study of Technology in Counseling and Career Development. Retrieved November 9, 2007 from: </a:t>
            </a:r>
            <a:r>
              <a:rPr b="0" lang="en-US" sz="28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career.fsu.edu/techcenter/designing_career_services/index.htm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5F70-7BE1-48F2-98F0-DA2D4165FB6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793584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rdon, R. C., Lenz, J. G., Sampson, J. P., Jr., &amp; Peterson, G. W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development and planning: A comprehensive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(3rd ed.)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981080" y="464832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Self-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0077-CE6E-4D9A-BA0B-38EFD8B1849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are my values, interests, skills, and employment preferences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e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motivators for work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Interest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activities people enjoy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kill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activities people can perform well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mployment preferences 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– what people choose to seek or avoid in work (e.g., inside vs. outside)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3:32Z</dcterms:modified>
  <cp:revision>516</cp:revision>
  <dc:subject/>
  <dc:title>Implementing Computer-Assisted Career Guidance</dc:title>
</cp:coreProperties>
</file>