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7355A2-9258-4E65-9FBC-93ECDBBC3C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9FC4E2-150D-4A73-98F2-EDB9E0368765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B54C3C-0E01-466D-85E0-269A905C262E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82521F-FDBA-4941-88F9-CF31BBE681EE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B8AE5C-C185-44CF-9946-3D913C4210F2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945635-C17F-4652-A3EC-EA26A8C18F23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2309DB-BDE0-4173-B40D-37B9028E5EE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144691-3082-415F-92AC-0C30CC37A78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FA678D-1F7F-48F8-9E9A-F9E33B4FDA3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3F66FA-4A0F-41DE-A39B-B91868604B7F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4CCDD0-FB8A-45F9-AFEB-80247C564CD3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E481AB-432B-48A8-A178-333F55224496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B67A64-BB15-45B8-BB7C-0B30F9D70BD3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BFAB63-4589-4A0A-A4E4-538FEF3E015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4D0FB8-9F0D-43B5-ABDB-4A8D690174C2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1000C6-5DDE-4467-9C03-6F80B23B38FA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C53941-196B-47F1-B1B1-B5F0E3F380D6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F3F88B-C2F0-4A4D-9FD2-3CD544010CC0}" type="slidenum">
              <a:rPr b="0" i="1" lang="en-US" sz="1000" spc="-1" strike="noStrike">
                <a:solidFill>
                  <a:srgbClr val="c8d1e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4323-9861-4BBF-B31B-851C1C4CC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8A94-E2FD-4CF1-9045-D8322C9C9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39E5-B714-42A7-8288-85C2D9B1D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4173-D3F6-4D87-B6B1-FDD8A060F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B625-768E-4885-83C4-9E01CB592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76A9-F863-4CE8-AE6B-628C65040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6838-70CE-45D7-86DF-5C2F4066D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8482-0094-48B2-B1FE-B3A4D3C9F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C4DA-9AC1-4993-8363-95C06D1CE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1049-F18F-4C88-A943-E6C9E26ED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E95B-25E1-460A-8BE5-137394854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FAA2-97A1-468F-AE6A-95F49CE8E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AD8-D5BF-49EE-9562-BAE014B2ABC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1C89-830A-4193-A887-ECFF8F38E5B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ar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ersonal characteristic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fe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lues, interests, and skills may be influenced by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igious or spiritual belief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FED6-D014-427D-9E4B-4B0EE25D8A0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episod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ceptions rather than fac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8CE9-B928-4A69-9611-2BB2798CCF5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so known as “options knowledg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Knowledge of specific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rect experience or observing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ands over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hema for organizing the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rld-of-wor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ample - the Holland Hexag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895B-967B-4199-AC24-7AE01EFB25F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ccupational 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ored in semantic memo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erifiable facts rather than perce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interpretation of past even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 influenced by present emo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15000" y="328608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 flipH="1">
            <a:off x="5343480" y="36482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5460-1659-44B0-A636-914761C88A3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neric information processing skills that individuals use to solve important problems and make decis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SVE cycl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s one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models exis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question – “How do I usually make important decisions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834080" y="195732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462560" y="247176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2BD9-DE8A-4181-9B8B-190CDA43BF6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etacogni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talk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 conversation people have with themselves about their performance; self-talk can be positive or negat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aware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: awareness of themselves as they solve problems and make decis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C3A5-F285-4FC0-B71C-515D6671888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Monitoring and control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– ability to monitor where they are in the problem solving process and control the amount of attention and information needed fo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E289-0AEC-4C56-83EE-4986AF6E2D6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IP Approach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C7AC-A0FD-490B-B842-3CF5DA0389A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luence of negative self-talk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cision-making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ccupational 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knowled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reframe negative self-talk into positive self-talk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76920" y="2000160"/>
            <a:ext cx="236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629400" y="460548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715000" y="338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038480" y="4648320"/>
            <a:ext cx="1981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ccupational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895480" y="3581280"/>
            <a:ext cx="1905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CASVE Cycl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124080" y="2286000"/>
            <a:ext cx="1524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Meta-cogni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5343480" y="373392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447660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05120" y="46483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sel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886200" y="4648320"/>
            <a:ext cx="2133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about my opt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19520" y="3352680"/>
            <a:ext cx="220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ing how I make decisio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743200" y="2057400"/>
            <a:ext cx="22860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Thinking about my decision mak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334120" y="2057400"/>
            <a:ext cx="2590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c600"/>
                </a:solidFill>
                <a:latin typeface="Arial"/>
              </a:rPr>
              <a:t>Client Ver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38CC-E0C6-4809-A558-86B860F82C2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990720" y="914400"/>
            <a:ext cx="739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he CASVE Cycle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447920" y="281952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-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How to make a career cho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d1ee"/>
                </a:solidFill>
                <a:latin typeface="Arial"/>
              </a:rPr>
              <a:t>V</a:t>
            </a:r>
            <a:endParaRPr b="0" lang="en-US" sz="4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ommunica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naly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xecutio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ynthesi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d1ee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alu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0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3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dentifying the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oblem -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br>
              <a:rPr sz="24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hinking about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aking action to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narrow the gap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Generating likely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 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Prioritizing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lternativ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E8F8-51FE-472C-BF4D-2B361F0F8C9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coming aware of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the difference between an existing and a desired state of affairs (or where they are and where they want to b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omfort becomes greater than fear of chan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ssistance sought when resources are inadequa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1C65-B144-4BAD-B46B-B8C1E4BE862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Ex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or negative event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put from significant oth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Internal cues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emo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voidance behavio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hysiological cu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B200-2006-4EC2-8F71-FE1E3CDE639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nslating Concepts for Client Us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rami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What’s involved in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know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0680" y="2054160"/>
            <a:ext cx="384804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VE Cycl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  <a:ea typeface="Times New Roman"/>
              </a:rPr>
              <a:t>A guide to good decision mak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of career choice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What you need to </a:t>
            </a:r>
            <a:r>
              <a:rPr b="0" lang="en-US" sz="2400" spc="-1" strike="noStrike" u="sng">
                <a:solidFill>
                  <a:srgbClr val="f4c600"/>
                </a:solidFill>
                <a:uFillTx/>
                <a:latin typeface="Arial"/>
              </a:rPr>
              <a:t>do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F94C-ECA5-465B-AD15-3D75787B6B9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important decisions are typically mad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how thinking influences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1DCD-70CC-4646-9DD0-76F843B646C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recurring process of learning, reflection, and developing a more complex view of themselves and their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people have some information at the start of this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38B8-FD64-4D3C-9FD2-EC685F521AE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arify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their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have people learned from their past experience, their family, assessments, or informat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334-9754-4F30-A325-F79F9257E4D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nhanc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ptions knowled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do individuals know about the options they are considering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individuals have an effective schema for the world-of-work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late self-knowledge with options knowledge to better understand personal characteristics in relation to options being consid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mportant decision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ypical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was an important decision you made recently and how you made that decision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AB9F-5C57-4184-8399-A0ACDCE0FAA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naly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 how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ositive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 negative think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s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awareness of how thoughts influence feelings and behavior in career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0E09-F919-48AF-958E-CE2ED9BABC3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void missing alternatives, while not becoming overwhelmed with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78EE-4793-4070-98B1-226A99F648F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labor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and possibl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career assessments and discussions to gener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6438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62722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F1E-3BD0-43BB-AE9C-05D8650009E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ynthesi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74600" y="2290320"/>
            <a:ext cx="7917120" cy="45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rystal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arrow potential options by eliminating inappropriate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 occupational, educational, training, and employment information to narrow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 or 3 options are best for proceeding on to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07960" y="2054160"/>
            <a:ext cx="74311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decision is ma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arrowing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ga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between where the individual is and where he or she wants to b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ACA9-E288-4258-A80F-0F8FB812925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23720" y="2212560"/>
            <a:ext cx="751500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Judge the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cos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benefi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each option to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nesel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ificant others (friends and/or family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ultural grou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ty and/or society at larg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54E-1BE5-41AD-8A30-3CDCA09E241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ioritize alternativ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tentativ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im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condar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recreational activities and volunteer work to meet needs not addressed in paid employmen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Valu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23720" y="2212920"/>
            <a:ext cx="75150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e has an important influence on valu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ne example is the importance of family on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ents opinion on the career decisions of their childre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sidering the needs of the family in making a career decis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C08-FDDD-43ED-B3E0-B2D1D06F79B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40920" y="2054160"/>
            <a:ext cx="75978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stablish and commit to a plan of action for implementing a tentative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9A2-FA21-4E1D-9A97-1BB0C985132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57400" y="2054160"/>
            <a:ext cx="7681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ng a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reparation progra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ning a program of stud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ing financial aid op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leting education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raining or education is not needed, job search beg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9FD9-2878-4CF1-A386-CACD99170A4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xecu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ate a plan for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reality tes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ull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-time work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Volunteer work experie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king courses or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eek employ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dentify, apply for, and get a job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686560" y="3257640"/>
            <a:ext cx="259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Decision-Making Skills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5315040" y="361944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C22-8838-4177-AE3A-0A83A1162FC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23720" y="2054160"/>
            <a:ext cx="751500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view external and internal c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s the gap been clos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e the negative emotions and physiological states improved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m I taking action to achieve my goal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Valuing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Arc 8"/>
          <p:cNvSpPr/>
          <p:nvPr/>
        </p:nvSpPr>
        <p:spPr>
          <a:xfrm>
            <a:off x="5724360" y="2220840"/>
            <a:ext cx="1068480" cy="9907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Arc 9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Arc 11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Arc 12"/>
          <p:cNvSpPr/>
          <p:nvPr/>
        </p:nvSpPr>
        <p:spPr>
          <a:xfrm>
            <a:off x="2297160" y="2144880"/>
            <a:ext cx="1143000" cy="10666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6080" y="6523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7720" y="6667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SVE Cycle - Client Vers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435480" y="1682640"/>
            <a:ext cx="227304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Need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to Make a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Knowing I Made a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Good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564516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Understanding 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self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 My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25440" y="320688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Implementing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y Choic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488304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Expanding and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Narrowing My List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Option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987560" y="4730760"/>
            <a:ext cx="2273400" cy="10540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Choosing an</a:t>
            </a:r>
            <a:br>
              <a:rPr sz="1800"/>
            </a:b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ccupation, Program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of Study, or Job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Arc 8"/>
          <p:cNvSpPr/>
          <p:nvPr/>
        </p:nvSpPr>
        <p:spPr>
          <a:xfrm>
            <a:off x="6019920" y="4267080"/>
            <a:ext cx="76176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>
            <a:off x="4276440" y="5257800"/>
            <a:ext cx="600120" cy="0"/>
          </a:xfrm>
          <a:prstGeom prst="line">
            <a:avLst/>
          </a:prstGeom>
          <a:ln w="2844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Arc 10"/>
          <p:cNvSpPr/>
          <p:nvPr/>
        </p:nvSpPr>
        <p:spPr>
          <a:xfrm>
            <a:off x="2297160" y="4267080"/>
            <a:ext cx="838080" cy="45720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3438360" y="2209680"/>
            <a:ext cx="227664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Arc 12"/>
          <p:cNvSpPr/>
          <p:nvPr/>
        </p:nvSpPr>
        <p:spPr>
          <a:xfrm>
            <a:off x="5724360" y="1916280"/>
            <a:ext cx="1068480" cy="129528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8" name="Arc 13"/>
          <p:cNvSpPr/>
          <p:nvPr/>
        </p:nvSpPr>
        <p:spPr>
          <a:xfrm>
            <a:off x="2297160" y="2449440"/>
            <a:ext cx="1143000" cy="762120"/>
          </a:xfrm>
          <a:prstGeom prst="pie">
            <a:avLst/>
          </a:prstGeom>
          <a:noFill/>
          <a:ln cap="rnd" w="28440">
            <a:solidFill>
              <a:srgbClr val="c8d1e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A629-9FEB-415D-BCD2-07D9DE09C75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yclical Nature of the CASVE Cycl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ngle career choice evolves over time and may involve many itera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periencing difficulty at any one stage causes a person to cycle through to a previous stage to correct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speed at which people progress depends on external events and personal variabl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AE23-1B11-49DB-9B65-6325A4D529D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  <a:ea typeface="Times New Roman"/>
              </a:rPr>
              <a:t>Serendipity and the CIP Approach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During valuing or execution, chance factors, or serendip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May help individuals to identify new option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quires cycling back through analysis and valu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D99-68C7-4878-A2BB-544F39E8495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IP is mostly concerned with cogn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may be just as important as cognitions in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Negative self-talk can lead to depression and anxie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motions are an important source of information about problem solv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ositive emotions should be reinforc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88A6-3A0D-4CA4-9CB1-0E0EC34C48D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on is a different way of know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Intuition includes cognitions outside of our immediate conscious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uitive insights are as important as rational insigh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AEAF-9299-4244-AFC7-FF440D516EA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otential Misconceptions About CIP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CIP rationality and logic are valued over intui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most everyone uses both rationality and intui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ationality and intuition are complementar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Perceived discrepancies between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ationality and intuition signals that more problem solving i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46D5-C96A-4C55-A840-CC3E07AFA4A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Resour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resource room (or resource area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eb sit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848120" y="1957320"/>
            <a:ext cx="2362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Executive Processing Domain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462560" y="251460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189-FBC6-4789-A675-7DFD351F3B4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ccess to career resources with staff providing varying levels of assistance resources based on individual nee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t is not possible to deliver differentiated services without having a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5EA6-9505-4A04-9C17-E09EAA5D6B4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stablish an optimum number o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number of resources should never exceed the amount of time available to train staff members on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potential positive outcomes of using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general content of the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ow the resource can be effectively us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00B4-A67A-4525-B4AF-DE3D104BDFC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gnage, resource guides, and information handouts can be color coded to make it easier to locate resources on a specific topic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0E8D-9B30-40E5-8C0E-A8FD4FF47F0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9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for special populations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reading 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ith limited language skil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s in alternate formats need to be available for persons with disabil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F41-27E1-4F38-B031-FE18E7FDF6F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area for greeting adolescents or adults when they enter is essential in providing a welcoming and supportive atmosphere that facilitates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42C2-58AA-4438-82DA-F146E88552B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Room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urniture should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uter work stations with headphones for auditory privac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ables for using print resources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(round tables with rolling chairs work best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ookcas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ateral hanging fil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elevisions and DVD/videocassette players with headphones for auditory privacy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7A36-5178-4FA6-89A9-704146C3594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can make use of Web sites that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mote access to career assessments and career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inks and referrals to career servi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 brief staff-assisted and individual case-managed services, specific content on a Web site can be assigned on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8F85-97EF-4051-957A-CE014E904D6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career center or school Web site can be used by young people and adults in the career resource room as well as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modeling of Web site use can stimulate the information-seeking behavior of young people and adul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704-4CB0-4B10-BD4A-2CF6350D344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99840" y="606240"/>
            <a:ext cx="8443800" cy="114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Web Sites and Distance Counseling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n refer an adolescent or adult to specific content on a Web site that relates to a problem being discuss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“teachable moment” provides practitioners with an opportunity to help individuals immediately process and apply what they are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59CA-EE3C-4537-8E49-A0E554A0C6B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Web Site 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iolation of confidentiality or secur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nks to invalid assessments and inform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practitioner support when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dependency on the Web site to compensate for a lack of competenc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s with little access to the Internet due to a lack of financial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CBDA-CFB4-4A34-974E-156582EBC92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ation handouts provide brief, consumable, and easy to use sources of information to help adolescents and adults make occupational, educational, training, and employment decision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C01-45B0-4853-ACD0-814B111EB9F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levels of service delivery make use of information hando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pics and content will vary according to the needs of adolescents and adults served in a specific organization or geographic are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andouts should be included on related resource guides and vice vers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FABE-462F-4997-B335-6314EE1FDD7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lements of an Information Handout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ading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th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ADB0-4C3C-4843-A4E2-A931636DE7D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inting Information Handou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pled sheets of pap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ookle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ocument files that can be downloaded from a Web sit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FB23-16BA-4D17-8C88-3EB4CD1AAC7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5D48-5189-4226-8946-3B57DB68B64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1778-C2C9-47F1-83BC-0A4CD5F036B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83120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A3B1-F594-4BC5-AB56-9761FAD7D95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793584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rdon, R. C., Lenz, J. G., Sampson, J. P., Jr., &amp; Peterson, G. W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development and planning: A comprehensive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(3rd ed.)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990720" y="6858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Pyramid of Information Processing Domai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149480" y="1835280"/>
            <a:ext cx="5473440" cy="3801960"/>
          </a:xfrm>
          <a:prstGeom prst="triangle">
            <a:avLst>
              <a:gd name="adj" fmla="val 48806"/>
            </a:avLst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981160" y="3048120"/>
            <a:ext cx="17431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066760" y="4343400"/>
            <a:ext cx="357192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629400" y="4648320"/>
            <a:ext cx="198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c600"/>
                </a:solidFill>
                <a:latin typeface="Arial"/>
              </a:rPr>
              <a:t>Knowledge Domain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3809880" y="4352760"/>
            <a:ext cx="0" cy="128592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981080" y="4648320"/>
            <a:ext cx="1676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Self-</a:t>
            </a:r>
            <a:br>
              <a:rPr sz="2000"/>
            </a:br>
            <a:r>
              <a:rPr b="1" lang="en-US" sz="2000" spc="-1" strike="noStrike">
                <a:solidFill>
                  <a:srgbClr val="c8d1ee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6257880" y="4952880"/>
            <a:ext cx="371520" cy="0"/>
          </a:xfrm>
          <a:prstGeom prst="line">
            <a:avLst/>
          </a:prstGeom>
          <a:ln w="12600">
            <a:solidFill>
              <a:srgbClr val="c8d1e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34F8-9A52-4168-B8D3-78AB0DA88FD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Knowled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hat are my values, interests, skills, and employment preferences?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Value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motivators for work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Interest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enjoy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Skills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 – activities people can perform well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4c600"/>
                </a:solidFill>
                <a:latin typeface="Arial"/>
              </a:rPr>
              <a:t>Employment preferences </a:t>
            </a: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– what people choose to seek or avoid in work (e.g., inside vs. outside)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3:32Z</dcterms:modified>
  <cp:revision>516</cp:revision>
  <dc:subject/>
  <dc:title>Implementing Computer-Assisted Career Guidance</dc:title>
</cp:coreProperties>
</file>