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391738-593C-41D0-9AC7-6456C04560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8C86B5-11D7-4DFC-B125-71F35C0DD5AE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0FAA9A-995B-4FC2-B268-55BD3566489C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BBF10A-436F-4EF0-B5F9-80433DB1B3A3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C9F414-F6B0-4F86-A632-2D900FD21320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048F41-8E13-442D-858A-7CE84F37ADC4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08DBD2-EDD2-4B21-A20A-00BE454287E2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AECE68-7A80-4959-BC33-6ECEE0A2878D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DED7B5-75B3-4292-BF7E-E0799515CD76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755BB9-2A2E-4E0C-8C90-66AD4F150290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0DEA03-AC44-491A-AFCC-178FD43EBEB1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BBE039-5676-4765-8F6E-C0444718B670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8EDEF1-B985-4654-8D00-623018C7753B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1B9604-AE87-40B9-9174-0BE1E3B73D0A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93AB87-A171-4CC5-8E8D-4865F9578362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455E91-430A-4775-909E-D570ACAF46DB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83825B-B2CA-4EB6-95A4-47CAFA678A21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655226-B584-4BFD-8AB3-B7BE9E94F359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45B5-8321-40CE-B939-6F6573C03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5D76-99AA-4F97-AEAF-B8585EC09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41DC-44A6-4F48-9F65-D01889965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6489-E727-4E7C-93BA-B42F862386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C347-BED0-4F99-9D7C-27AF7BB6B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93DA-EF94-4106-83B2-E395256DC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0772-98E6-4752-A509-686513D13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EA98-8B01-42F4-980E-B34F907B7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8FD0A-8074-45DF-8491-CDE9690A5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06E1-1E2B-4F40-B0FF-FFE74F04C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D303-7994-4C8C-A069-CD2D0BA6D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A5EC-DFD3-41CE-B35F-B1D2BD8EC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5CC1-44ED-4AD4-B874-9F0C25EB6DC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www.career.fsu.edu/techcenter/designing_career_services/index.html" TargetMode="Externa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reer Resources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0320" y="2597040"/>
            <a:ext cx="8653320" cy="412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6AE9-E854-4285-8AF0-50B7AA1C204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alues, interests, and skills are influenced by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ersonal characteristic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ife experien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alues, interests, and skills may be influenced by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ligious or spiritual belief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B557-BED2-409B-9544-AAE009D7E41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ored in episodic memo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ceptions rather than fac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luenced by interpretation of past even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luenced by present emo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629400" y="464832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038480" y="4648320"/>
            <a:ext cx="1981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Occupational</a:t>
            </a:r>
            <a:br>
              <a:rPr sz="2000"/>
            </a:b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62578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9D29-5249-4136-AF16-43BF8D86694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ccupational 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so known as “options knowledg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Knowledge of specific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rect experience or observing oth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pands over tim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hema for organizing the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orld-of-work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ample - the Holland Hexag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E4EA-DB72-439F-AC86-9A4A723624A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ccupational 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ored in semantic memo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erifiable facts rather than perce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 influenced by interpretation of past even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 influenced by present emo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715000" y="3286080"/>
            <a:ext cx="2590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Decision-Making Skills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2895480" y="3581280"/>
            <a:ext cx="1905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CASVE Cycl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 flipH="1">
            <a:off x="5343480" y="364824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F39C-6234-4F03-8FAA-7E9B8FB1FFC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ecision-Making Skills Domai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Generic information processing skills that individuals use to solve important problems and make decis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ASVE cycl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is one mod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ther models exis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question – “How do I usually make important decisions?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834080" y="1957320"/>
            <a:ext cx="2361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124080" y="2286000"/>
            <a:ext cx="1524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Meta-cognitio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H="1">
            <a:off x="4462560" y="247176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FDCB-E8D9-49B8-8D02-42EFAB1781F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40920" y="2054160"/>
            <a:ext cx="759780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etacogni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f-talk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: a conversation people have with themselves about their performance; self-talk can be positive or negativ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f-awarenes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: awareness of themselves as they solve problems and make decis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AFDC-1620-416B-9B66-3E9C10F1F93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40920" y="2054160"/>
            <a:ext cx="759780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Monitoring and control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– ability to monitor where they are in the problem solving process and control the amount of attention and information needed for problem solv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9F6F-92D3-4920-AB00-74C6788F3FA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The CIP Approach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The Career Resource Roo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Web Sit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Information Hando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A799-A19E-4FC1-9C1B-F4214D654C3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0920" y="2054160"/>
            <a:ext cx="759780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luence of negative self-talk on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ecision-making skill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ccupational knowled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f-knowled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can reframe negative self-talk into positive self-talk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76920" y="2000160"/>
            <a:ext cx="2361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629400" y="460548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5715000" y="3386160"/>
            <a:ext cx="2590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Decision-Making Skills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981080" y="4648320"/>
            <a:ext cx="1676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Self-</a:t>
            </a:r>
            <a:br>
              <a:rPr sz="2000"/>
            </a:b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038480" y="4648320"/>
            <a:ext cx="1981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Occupational</a:t>
            </a:r>
            <a:br>
              <a:rPr sz="2000"/>
            </a:b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2895480" y="3581280"/>
            <a:ext cx="1905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CASVE Cycl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124080" y="2286000"/>
            <a:ext cx="1524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Meta-cognitio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5343480" y="373392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 flipH="1">
            <a:off x="62578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4476600" y="251460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05120" y="46483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ing about mysel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886200" y="4648320"/>
            <a:ext cx="2133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ing about my optio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819520" y="3352680"/>
            <a:ext cx="2209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ing how I make decisio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2743200" y="2057400"/>
            <a:ext cx="2286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Thinking about my decision mak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5334120" y="2057400"/>
            <a:ext cx="259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c600"/>
                </a:solidFill>
                <a:latin typeface="Arial"/>
              </a:rPr>
              <a:t>Client Vers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1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970D-74C9-4F10-A152-73A37C2AFEE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990720" y="91440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he CASVE Cycle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447920" y="28195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ing -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How to make a career cho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V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8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9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1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2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ommunicatio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nalysi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xecutio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ynthesi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alu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9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0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2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3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Communication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dentifying the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problem - the gap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Analysis</a:t>
            </a:r>
            <a:br>
              <a:rPr sz="24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hinking about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lternativ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aking action to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 narrow the gap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Generating likely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 alternativ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Prioritizing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lternativ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0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1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3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4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1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2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4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5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B5A0-99E8-4121-AEAD-C4F21BEA49F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ecoming aware of 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gap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– the difference between an existing and a desired state of affairs (or where they are and where they want to be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scomfort becomes greater than fear of chan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ssistance sought when resources are inadequat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C741-68A0-4E64-AC11-B6A7C0CA2D5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5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External cues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ositive or negative event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put from significant oth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25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Internal cues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Negative emot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voidance behavior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hysiological cu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566D-D025-4CD2-806D-B4B2ACF55C1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ranslating Concepts for Client Use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4804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rami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  <a:ea typeface="Times New Roman"/>
              </a:rPr>
              <a:t>What’s involved in career choice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4c600"/>
                </a:solidFill>
                <a:uFillTx/>
                <a:latin typeface="Arial"/>
              </a:rPr>
              <a:t>content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of career choice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What you need to </a:t>
            </a:r>
            <a:r>
              <a:rPr b="0" lang="en-US" sz="2400" spc="-1" strike="noStrike" u="sng">
                <a:solidFill>
                  <a:srgbClr val="f4c600"/>
                </a:solidFill>
                <a:uFillTx/>
                <a:latin typeface="Arial"/>
              </a:rPr>
              <a:t>know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0680" y="2054160"/>
            <a:ext cx="384804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VE Cycl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  <a:ea typeface="Times New Roman"/>
              </a:rPr>
              <a:t>A guide to good decision mak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4c600"/>
                </a:solidFill>
                <a:uFillTx/>
                <a:latin typeface="Arial"/>
              </a:rPr>
              <a:t>process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of career choice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What you need to </a:t>
            </a:r>
            <a:r>
              <a:rPr b="0" lang="en-US" sz="2400" spc="-1" strike="noStrike" u="sng">
                <a:solidFill>
                  <a:srgbClr val="f4c600"/>
                </a:solidFill>
                <a:uFillTx/>
                <a:latin typeface="Arial"/>
              </a:rPr>
              <a:t>do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8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9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1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2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504B-4B31-494D-8628-32DF462A289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arify self-knowled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nhance options knowled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 how important decisions are typically mad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 how thinking influences cho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C3B7-6C92-495C-8C16-D968433EC3D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recurring process of learning, reflection, and developing a more complex view of themselves and their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l people have some information at the start of this proc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8F89-3AE0-402D-9F1D-A0CA6E7B5F7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arify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self-knowled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are their values, interests, skills, and employment preferences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have people learned from their past experience, their family, assessments, or information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8352-2649-4A9F-9678-9517B726283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nhanc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options knowled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do individuals know about the options they are considering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individuals have an effective schema for the world-of-work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late self-knowledge with options knowledge to better understand personal characteristics in relation to options being consider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ing how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mportant decision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r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typicall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ma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was an important decision you made recently and how you made that decision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6B25-54D7-4248-8199-FD3DB3C6B23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ing how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positive 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 negative thinking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influences career cho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f-awareness of how thoughts influence feelings and behavior in career problem solv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6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7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9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0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58E0-C9C1-493F-A563-CE7832B4B8E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void missing alternatives, while not becoming overwhelmed with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948A-3EFD-48D3-9FCF-D09F7197894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74600" y="2290320"/>
            <a:ext cx="791712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Elabor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xpand possible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se career assessments and discussions to generate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643800" y="464832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62722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5E02-A601-4015-86E8-DAE1978E21A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74600" y="2290320"/>
            <a:ext cx="7917120" cy="45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rystalliz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arrow potential options by eliminating inappropriate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se occupational, educational, training, and employment information to narrow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2 or 3 options are best for proceeding on to Valu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6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7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9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0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07960" y="2054160"/>
            <a:ext cx="743112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career decision is ma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Narrowing 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gap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between where the individual is and where he or she wants to b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FBF1-F908-4A59-9160-94E0C5EAC25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23720" y="2212560"/>
            <a:ext cx="751500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Judge the </a:t>
            </a:r>
            <a:r>
              <a:rPr b="0" lang="en-US" sz="3200" spc="-1" strike="noStrike" u="sng">
                <a:solidFill>
                  <a:srgbClr val="f4c600"/>
                </a:solidFill>
                <a:uFillTx/>
                <a:latin typeface="Arial"/>
              </a:rPr>
              <a:t>cost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4c600"/>
                </a:solidFill>
                <a:uFillTx/>
                <a:latin typeface="Arial"/>
              </a:rPr>
              <a:t>benefit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f each option to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nesel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ignificant others (friends and/or family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ultural group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ty and/or society at lar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D49F-2D80-483F-859E-11F7F52BD99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ioritize alternativ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ake tentativ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primar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secondar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cho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sider recreational activities and volunteer work to meet needs not addressed in paid employment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23720" y="2212920"/>
            <a:ext cx="751500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e has an important influence on valu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ne example is the importance of family on decision mak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arents opinion on the career decisions of their childre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sidering the needs of the family in making a career decis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7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8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0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1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2981-A92B-4CC9-A43C-D43F55013C7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40920" y="2054160"/>
            <a:ext cx="759780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stablish and commit to a plan of action for implementing a tentative cho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EBB8-87D0-4EE1-9952-F77B488629F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57400" y="2054160"/>
            <a:ext cx="7681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lecting a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preparation progra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ning a program of stud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ploring financial aid opt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pleting education or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f training or education is not needed, job search beg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7FFA-9AA3-46EA-A5B1-7DD595E8B9E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reate a plan for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reality test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ull-time work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art-time work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Volunteer work experien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aking courses or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Seek employ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dentify, apply for, and get a job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686560" y="3257640"/>
            <a:ext cx="259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Decision-Making Skills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 flipH="1">
            <a:off x="5315040" y="361944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Valu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7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8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9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0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1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F226-50FB-46CE-BD9D-DE55A8DDB2C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23720" y="2054160"/>
            <a:ext cx="751500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view external and internal cu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as the gap been closed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ave the negative emotions and physiological states improved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m I taking action to achieve my goal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Valu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1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2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3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4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5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47720" y="6667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 - Client Vers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Knowing I Need 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to Make a Choice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Knowing I Made a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Good Choice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Understanding 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Myself and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 My Option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Implementing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My Choice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Expanding and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Narrowing My List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of Option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Choosing an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Occupation, Program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of Study, or Job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3" name="Arc 8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5" name="Arc 10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6" name="Line 11"/>
          <p:cNvSpPr/>
          <p:nvPr/>
        </p:nvSpPr>
        <p:spPr>
          <a:xfrm>
            <a:off x="3438360" y="2209680"/>
            <a:ext cx="227664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7" name="Arc 12"/>
          <p:cNvSpPr/>
          <p:nvPr/>
        </p:nvSpPr>
        <p:spPr>
          <a:xfrm>
            <a:off x="5724360" y="1916280"/>
            <a:ext cx="1068480" cy="12952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8" name="Arc 13"/>
          <p:cNvSpPr/>
          <p:nvPr/>
        </p:nvSpPr>
        <p:spPr>
          <a:xfrm>
            <a:off x="2297160" y="2449440"/>
            <a:ext cx="1143000" cy="7621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754E-3764-4843-B365-E39A40882E3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yclical Nature of the CASVE Cycle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7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single career choice evolves over time and may involve many itera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xperiencing difficulty at any one stage causes a person to cycle through to a previous stage to correct the proble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speed at which people progress depends on external events and personal variabl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D595-334C-45CD-8A12-6B8E88CB1F2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  <a:ea typeface="Times New Roman"/>
              </a:rPr>
              <a:t>Serendipity and the CIP Approach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During valuing or execution, chance factors, or serendip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May help individuals to identify new option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Requires cycling back through analysis and valu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79AE-2B5B-41DA-B167-3C891125889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otential Misconceptions About CIP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7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IP is mostly concerned with cogni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motions may be just as important as cognitions in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Negative self-talk can lead to depression and anxie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motions are an important source of information about problem solv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ositive emotions should be reinforc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343C-31E7-4BFD-95D2-E1EB5F07DDE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otential Misconceptions About CIP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 CIP rationality and logic are valued over intui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uition is a different way of know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Intuition includes cognitions outside of our immediate consciousnes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uitive insights are as important as rational insigh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259B-025F-42EC-AB29-88DB85E7703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otential Misconceptions About CIP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5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 CIP rationality and logic are valued over intui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lmost everyone uses both rationality and intui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Rationality and intuition are complementar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Perceived discrepancies between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ationality and intuition signals that more problem solving is need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35CD-92B1-4208-AE36-4FC638632AC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reer Resour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resource room (or resource area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eb sit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ormation hando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848120" y="1957320"/>
            <a:ext cx="2362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462560" y="251460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E0F3-C0B6-40EA-9C99-76A9D8610E5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adolescents and adults with access to career resources with staff providing varying levels of assistance resources based on individual need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t is not possible to deliver differentiated services without having a career resource roo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129E-1AFC-438E-8DA2-8A09A5E8EB8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stablish an optimum number of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number of resources should never exceed the amount of time available to train staff members on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potential positive outcomes of using the resour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general content of the resour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ow the resource can be effectively us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D32E-3703-4AB1-AC73-682EB61099A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gnage, resource guides, and information handouts can be color coded to make it easier to locate resources on a specific topic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FF11-D8D2-4BDC-AE9E-806F3DBD8A1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pecific career resources for special populations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with limited reading abili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with limited language skill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s in alternate formats need to be available for persons with disabiliti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1527-4323-4AD4-B700-CBDDB666670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n area for greeting adolescents or adults when they enter is essential in providing a welcoming and supportive atmosphere that facilitates lear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DE9C-4717-4539-B152-5EC411B94B6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urniture should inclu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puter work stations with headphones for auditory privac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ables for using print resources </a:t>
            </a:r>
            <a:br>
              <a:rPr sz="2800"/>
            </a:b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(round tables with rolling chairs work best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bookcas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ateral hanging fil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elevisions and DVD/videocassette players with headphones for auditory privacy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B60A-0B08-46C9-895F-F245541EDD9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Web Sit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l levels of service delivery can make use of Web sites that prov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mote access to career assessments and career inform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inks and referrals to career service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 brief staff-assisted and individual case-managed services, specific content on a Web site can be assigned on the IL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CA88-5BDD-40F8-925E-AD2FD015D15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Web Sit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career center or school Web site can be used by young people and adults in the career resource room as well as at a distan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aff modeling of Web site use can stimulate the information-seeking behavior of young people and adul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69A7-ECE7-4265-A81F-18C2F0D9B37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99840" y="606240"/>
            <a:ext cx="8443800" cy="114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Web Sites and Distance Counseling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 can refer an adolescent or adult to specific content on a Web site that relates to a problem being discuss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“teachable moment” provides practitioners with an opportunity to help individuals immediately process and apply what they are lear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6AF5-C07E-401B-B70C-BEBA83BE008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Web Site Ethical Issu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iolation of confidentiality or secur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inks to invalid assessments and inform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ack of practitioner support when need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 dependency on the Web site to compensate for a lack of competenc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s with little access to the Internet due to a lack of financial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629400" y="464832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H="1">
            <a:off x="62578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FFC6-B5FA-463E-B58B-0282DB60B02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formation Handou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ormation handouts provide brief, consumable, and easy to use sources of information to help adolescents and adults make occupational, educational, training, and employment decision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5939-E46D-404A-9433-5286F5C24FB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formation Handou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l levels of service delivery make use of information hando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opics and content will vary according to the needs of adolescents and adults served in a specific organization or geographic area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andouts should be included on related resource guides and vice versa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55A7-61B3-4639-8F58-37B6F9EB825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Elements of an Information Handout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Outcom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ading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ther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6C8E-77F4-49B2-BEA0-E5F3A21773A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rinting Information Handou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apled sheets of paper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rochur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ookle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ocument files that can be downloaded from a Web sit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44E5-B28F-4C82-B48B-E951031AF53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A1D5-BEEC-481C-A657-2959E8C44CB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DFD5-3E18-4158-B2FC-749F01F85FA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1600" y="2054160"/>
            <a:ext cx="83120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ampson, J. P., Jr., Peterson, G. W., Reardon, R. C., &amp; Lenz, J. G. (2007). </a:t>
            </a:r>
            <a:r>
              <a:rPr b="0" i="1" lang="en-US" sz="2800" spc="-1" strike="noStrike">
                <a:solidFill>
                  <a:srgbClr val="c8d1ee"/>
                </a:solidFill>
                <a:latin typeface="Arial"/>
              </a:rPr>
              <a:t>Key elements of the Cognitive Information Processing Approach to Designing Career 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. Tallahassee, FL: Florida State University, Center for the Study of Technology in Counseling and Career Development. Retrieved November 9, 2007 from: </a:t>
            </a:r>
            <a:r>
              <a:rPr b="0" lang="en-US" sz="2800" spc="-1" strike="noStrike" u="sng">
                <a:solidFill>
                  <a:srgbClr val="4866c6"/>
                </a:solidFill>
                <a:uFillTx/>
                <a:latin typeface="Arial"/>
                <a:hlinkClick r:id="rId1"/>
              </a:rPr>
              <a:t>http://www.career.fsu.edu/techcenter/designing_career_services/index.htm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8331-08D3-4DFB-A8FD-5F04DF50AE9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793584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ardon, R. C., Lenz, J. G., Sampson, J. P., Jr., &amp; Peterson, G. W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development and planning: A comprehensive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(3rd ed.)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629400" y="464832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981080" y="4648320"/>
            <a:ext cx="1676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Self-</a:t>
            </a:r>
            <a:br>
              <a:rPr sz="2000"/>
            </a:b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62578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CE95-DFC0-4E0F-ADCF-BF1A35642D1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are my values, interests, skills, and employment preferences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Values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– motivators for work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Interests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– activities people enjoy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Skills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– activities people can perform well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Employment preferences 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– what people choose to seek or avoid in work (e.g., inside vs. outside)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23:32Z</dcterms:modified>
  <cp:revision>516</cp:revision>
  <dc:subject/>
  <dc:title>Implementing Computer-Assisted Career Guidance</dc:title>
</cp:coreProperties>
</file>