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4D87-EC9F-43D1-8A20-A274A74AC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A7460-0DBC-4787-B314-046CD2769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C87C1-B79C-4DCF-805D-A750C983F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9AB0-3AB0-429C-804F-50CEEBC540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84AF-C153-488A-9ECE-085A3C5D6F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7B3A-A9B5-44F4-BCD4-35770E00C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8F43-4FF6-427C-8AD8-2528C5546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87CF-89B6-47DA-8390-524AA9203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D89E-A862-47F9-89E1-1E373E28B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5C50-C730-4DF7-A349-EE01AF551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BFB9-FA38-4BD8-B347-83B58EE1A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EB7F-4C8D-4BDC-8B0B-13CAD080A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63040" y="6409800"/>
            <a:ext cx="48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7405-8A47-42A8-9641-A447A21B6F7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areer.fsu.edu/techcenter/designing_career_services/index.html" TargetMode="External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71040"/>
            <a:ext cx="8610480" cy="17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reer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82640"/>
            <a:ext cx="8653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Social Factor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ocial support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 modeling, networking, and caring (posi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Discrimination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age, disability, ethnicity, gender, immigration status, nationality, occupation, physical characteristics, poverty level, race, religion, sexual orientation, and social class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tereotyping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 lack of role model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 bias in education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 harassment in education and employment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Economic Factor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General 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actors, e.g. rate of change in the labor market influences stability of occupational knowledge – stable knowledge (positive), unstable knowledge (negative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Personal 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actors, e.g. influence of poverty on housing, health care, and childcare – adequate resources are positive, inadequate resources (negative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576000"/>
            <a:ext cx="7848360" cy="117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Organizational Factors </a:t>
            </a:r>
            <a:br>
              <a:rPr sz="3600"/>
            </a:b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(If the person is employed)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ize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size of internal employment market – small internal job market is less complex (positive), large internal job market is more complicated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Organizational culture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amount of support provided for career development – more support (positive), less support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tability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employment opportunities – more stability is positive, less stability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wo-Dimensional Readiness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828000" y="1676520"/>
            <a:ext cx="7488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                                        </a:t>
            </a: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lexity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(high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apability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low)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(high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low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4394160" y="2022480"/>
            <a:ext cx="0" cy="405936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1539720" y="4051440"/>
            <a:ext cx="603576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wo-Dimensional Readiness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828000" y="1676520"/>
            <a:ext cx="7488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                                        </a:t>
            </a: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lexity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(high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Low readines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Moderate readines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High degree of                                    Moderate to low degree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support needed                                   of support need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Individual Case-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(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Brief Staff-Assist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Managed Service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)                              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Service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apability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low)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(high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Moderate readines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High readines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Moderate to low degree                       No support need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of support needed                                (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Self-Help Mode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Brief Staff-Assisted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Service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)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low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394160" y="2022480"/>
            <a:ext cx="0" cy="405936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1539720" y="4051440"/>
            <a:ext cx="603576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6E3B-0E34-4E0D-B5D7-844FC78DF04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Three Levels of Service Deliver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stead of one level of service for all, three levels of service are needed to meet individual needs ranging from those who are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f-motivated and able to learn successfully on their ow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uffering from low readiness for decision-making  who need substantial assistance to successfully learn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07A8-7ED6-4128-B641-5044E84CECF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Three Levels of Service Deliver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three levels of service inclu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f-help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rvice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high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 for decision making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Brief staff-assisted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rvice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moderate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Individual case-managed service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low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EADD-A1C9-49D2-B6C1-13CBD8409D7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Aim of the 3 Service Delivery Level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96848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Young people and adults should receive the level of help they need, no more and no l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aim of the differentiated service delivery model (the CIP approach) is to prov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right resour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used by th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right pers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ith th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right level of suppor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t th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lowest possible cost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BA10-A581-4EAC-B107-ED5D95FEB1F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2010960"/>
            <a:ext cx="815328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creening is key to the success of differentiated service delive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creening avoid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Overserving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high readiness young people and adults with costly individualized interventions that are not needed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Underserving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low readiness young people and adults with inadequate interventions from staff who are unaware of the substantial needs of the young person or adul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31A4-B07A-45A6-B80D-2E2BEF61A47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2053800"/>
            <a:ext cx="815328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creening provides staff with a better chance to cost-effectively meet the needs of young people and adults in career centers and schoo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BAC6-14EA-499A-8114-62A4E3214F3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Readiness for Career Cho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Three Levels of Service Delive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Seven-Step Service Delivery Sequen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eps in Promoting Effective Use of Career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rvice Delivery at a Distan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CAEB-9DF9-477F-8FB8-C451D658EDF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2053800"/>
            <a:ext cx="815328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creening also helps to better allocate staff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taff will be able to serve more young people and adults, or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pend more time with young people and adults with substantial need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wo types of scree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Brief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prehensiv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62D8-FB30-4FC6-8DEC-965AD0B761E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Brief screening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ccurs upon entry to the career resource room in a school or career center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sign can be used that indicates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First-Time Users Stop Her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hows where brief screening occu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llows repeat users of the resource room to move directly to the resources or services they ne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5720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A young person or adult enters a resource room in a school or career center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524640" y="2506680"/>
            <a:ext cx="201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Staff ask</a:t>
            </a:r>
            <a:br>
              <a:rPr sz="1800"/>
            </a:b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“What brings you here today?”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57280" y="2502000"/>
            <a:ext cx="201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Sign indicates </a:t>
            </a:r>
            <a:br>
              <a:rPr sz="1800"/>
            </a:b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“First-Time Users Stop Here”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1A26-5B65-43D8-979A-C9A79FB6E99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Young people and adults who enter the </a:t>
            </a:r>
            <a:br>
              <a:rPr sz="2800"/>
            </a:b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areer center are greeted by a staff member who might say,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866c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4866c6"/>
                </a:solidFill>
                <a:latin typeface="Arial"/>
              </a:rPr>
              <a:t>What brings you here today?”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f the young person or adult responds with a concrete request for information, and there are no problems apparent, the individual is judged to hav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high readines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for career choice and is referred to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f-help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sources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ith staff support as needed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9FBC-4391-4064-9A9A-9F1AC619135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7621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8d1ee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16ec9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516ec9"/>
                </a:solidFill>
                <a:latin typeface="Arial"/>
              </a:rPr>
              <a:t>What brings you here today?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8d1ee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I would like to find information comparing the starting salaries of accountants and auditors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8d1ee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s is a concrete request for information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ith no problems appar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8d1ee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 further screening need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d1ee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fer to self-help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1E22-618F-49F4-9667-8514F7FAE34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16ec9"/>
                </a:solidFill>
                <a:latin typeface="Arial"/>
              </a:rPr>
              <a:t>"Could I see information on the job outlook for computer programmers?"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ould </a:t>
            </a:r>
            <a:r>
              <a:rPr b="0" lang="en-US" sz="3200" spc="-1" strike="noStrike" u="sng">
                <a:solidFill>
                  <a:srgbClr val="c8d1ee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require more careful scree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516ec9"/>
                </a:solidFill>
                <a:latin typeface="Arial"/>
              </a:rPr>
              <a:t>"I am having difficulty choosing a training program that is right for me,"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ould require more careful scree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27200" y="5424480"/>
            <a:ext cx="2216160" cy="89388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lf-Help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5720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1190520" y="3429000"/>
            <a:ext cx="0" cy="198108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0" y="641520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Staff judge that a young person’s or adult’s needs can be met with self-help resour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1176480" y="3429000"/>
            <a:ext cx="1947600" cy="0"/>
          </a:xfrm>
          <a:prstGeom prst="line">
            <a:avLst/>
          </a:prstGeom>
          <a:ln w="3816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7459-BB5C-4719-B310-309BF3C0948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Help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7848360" cy="45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high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 for career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assistance is provided to young people and adul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use of career resources is guided by each individual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ection and sequencing of career resources is determined by the information provided in the resource guid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6772-8A46-46E3-9EF9-3FC6F384667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Help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2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inimal assistance is provided, although staff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periodically check to see if young people and adults are successfully using career resource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are available to respond to question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Resource guides suggest selected assessment, information, or instructional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to meet specific need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2F4B-1BF3-4064-B211-85C32C28126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Help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ignage and maps help young people and adults to locate self-help career resour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structions for using career resources are contained within each resour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Young people and adults can gain remote access to some of the career resources by accessing the Career Center Web sit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CA69-F9BB-442E-B4B1-9695C519936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adiness for Career Choic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adiness is th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capabilit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f an individual to make informed and careful career choices taking into account th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complexit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f family, social, economic, and organizational factors that influence career develop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adiness also includes possessing adequat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languag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skills and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literac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skills for communication and lear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A994-9590-464E-AA03-6CC07908913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7621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22160" y="83808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Problems in Using Self-Help Resour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oblems young people and adults have in effectively using resources are detected by staff members circulating among young people and adults and asking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516ec9"/>
                </a:solidFill>
                <a:latin typeface="Arial"/>
              </a:rPr>
              <a:t>"Are you finding the information you need?"</a:t>
            </a:r>
            <a:r>
              <a:rPr b="0" i="1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f problems are apparent, then more careful screening occu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3600" y="838080"/>
            <a:ext cx="837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Problems in Using Self-Help Resour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819520" y="4330800"/>
            <a:ext cx="3492360" cy="67284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rehensive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727200" y="5424480"/>
            <a:ext cx="2216160" cy="89388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lf-Help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45720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 flipV="1">
            <a:off x="1600200" y="4647960"/>
            <a:ext cx="1241280" cy="14040"/>
          </a:xfrm>
          <a:prstGeom prst="line">
            <a:avLst/>
          </a:prstGeom>
          <a:ln w="38160">
            <a:solidFill>
              <a:srgbClr val="c8d1ee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523880" y="39625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8d1ee"/>
                </a:solidFill>
                <a:latin typeface="Arial"/>
              </a:rPr>
              <a:t>Self or  Staff</a:t>
            </a:r>
            <a:endParaRPr b="0" lang="en-US" sz="16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8d1ee"/>
                </a:solidFill>
                <a:latin typeface="Arial"/>
              </a:rPr>
              <a:t>Referral</a:t>
            </a:r>
            <a:endParaRPr b="0" lang="en-US" sz="16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1600200" y="4648320"/>
            <a:ext cx="0" cy="761760"/>
          </a:xfrm>
          <a:prstGeom prst="line">
            <a:avLst/>
          </a:prstGeom>
          <a:ln w="38160">
            <a:solidFill>
              <a:srgbClr val="c8d1e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If more help is needed in using resources, then needs are reassess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433440" y="2085840"/>
            <a:ext cx="20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The safety net - “Are you finding the information you need?”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1" name="Line 27"/>
          <p:cNvSpPr/>
          <p:nvPr/>
        </p:nvSpPr>
        <p:spPr>
          <a:xfrm>
            <a:off x="1190520" y="3429000"/>
            <a:ext cx="0" cy="198108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 flipH="1">
            <a:off x="1176480" y="3429000"/>
            <a:ext cx="1947600" cy="0"/>
          </a:xfrm>
          <a:prstGeom prst="line">
            <a:avLst/>
          </a:prstGeom>
          <a:ln w="3816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2819520" y="4330800"/>
            <a:ext cx="3492360" cy="67284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rehensive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45576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4557600" y="3751200"/>
            <a:ext cx="14400" cy="59220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Brief screening indicates that a more careful career assessment is need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7400" y="8380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to Comprehensive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EA45-5BE7-4BA3-8551-9A542BA13BC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to Comprehensive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xamples of comprehensive screening can inclu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 brief diagnostic tes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 brief interview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omprehensive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819520" y="4330800"/>
            <a:ext cx="3492360" cy="67284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rehensive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84720" y="5429160"/>
            <a:ext cx="2222280" cy="88920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Brief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taff-Assist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 flipH="1">
            <a:off x="4578120" y="4986360"/>
            <a:ext cx="4680" cy="452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8" name="Line 11"/>
          <p:cNvSpPr/>
          <p:nvPr/>
        </p:nvSpPr>
        <p:spPr>
          <a:xfrm>
            <a:off x="45576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0" name="Line 16"/>
          <p:cNvSpPr/>
          <p:nvPr/>
        </p:nvSpPr>
        <p:spPr>
          <a:xfrm>
            <a:off x="4557600" y="3751200"/>
            <a:ext cx="14400" cy="59220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Career resources are identified on an Individual Learning Plan (ILP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6087960" y="2692440"/>
            <a:ext cx="287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After assessing individual needs in comprehensive screening, staff judge that </a:t>
            </a:r>
            <a:r>
              <a:rPr b="0" lang="en-US" sz="1800" spc="-1" strike="noStrike" u="sng">
                <a:solidFill>
                  <a:srgbClr val="c8d1ee"/>
                </a:solidFill>
                <a:uFillTx/>
                <a:latin typeface="Arial"/>
              </a:rPr>
              <a:t>some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assistance is necessary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B3A9-43D7-4C38-8062-3DFD19690C4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taff-Assisted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moderate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 for career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Moderate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assistance is provided to young people and adul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use of career resources is guided by a staff member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ection and sequencing of career resources is indicated on an individual learning plan (ILP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8704-6CE5-4635-90E0-5539C03E7AE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taff-Assisted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rop-in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horter-term group counsel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areer courses with large-group interac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1A72-7E0B-466B-8B0E-581049C2C07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rop-In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800100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taff-guided use of resources in a career resource room in a school or career center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Staff complete scheduled time in the career resource room with young people and adults served on a first-come, first-served basi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Continuity in service delivery results from teamwork and collaboratively-developed written individual learning plans (ILPs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145B-FD88-4A2B-B090-79AD0374601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rop-In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784836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Young people and adults are not restricted to the available appointment times of any one staff member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 person can decide to see the same staff member by returning the next time the person is on du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r, a person can return any time the career center is open and see a staff member on du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49BE-D339-4C11-95DA-1B1C96E578E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rop-In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8001000" cy="462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Young people and adults (with staff input) decide how much time is needed to use career resour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sponsive to typical periods of high and low demand by increasing or decreasing the number of staff working in the resource room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igh volume of young people and adults can be serv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Lowers service-delivery cos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6826-F298-44AE-88DD-51FA89353CC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apabil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cognitive and affective capacity to engage in effective career choice behavio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ow are my career choices influenced by the way I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think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feel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22F9-4128-48C8-9E21-768B9095E39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rop-In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quires staff to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stablish relationships quickl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larify progress in completing an ILP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vise the ILP if new needs become apparen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rve multiple young people and adults during one period of tim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articipate in common staff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37BC-3D1F-4493-8F94-7E918A139A6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rop-In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vides young people and adults with immediate follow-up of resource us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pportunity to facilitate learning during the “teachable moment”.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omprehensive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819520" y="4330800"/>
            <a:ext cx="3492360" cy="67284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rehensive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6083280" y="5440320"/>
            <a:ext cx="2222640" cy="87804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Case-Manag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8" name="Line 10"/>
          <p:cNvSpPr/>
          <p:nvPr/>
        </p:nvSpPr>
        <p:spPr>
          <a:xfrm>
            <a:off x="4597560" y="5000760"/>
            <a:ext cx="2697120" cy="4093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45576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1" name="Line 16"/>
          <p:cNvSpPr/>
          <p:nvPr/>
        </p:nvSpPr>
        <p:spPr>
          <a:xfrm>
            <a:off x="4557600" y="3751200"/>
            <a:ext cx="14400" cy="59220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Again, career resources are identified on an Individual Learning Plan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6087960" y="2692440"/>
            <a:ext cx="287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After assessing individual needs in comprehensive screening, staff judge that </a:t>
            </a:r>
            <a:r>
              <a:rPr b="0" lang="en-US" sz="1800" spc="-1" strike="noStrike" u="sng">
                <a:solidFill>
                  <a:srgbClr val="c8d1ee"/>
                </a:solidFill>
                <a:uFillTx/>
                <a:latin typeface="Arial"/>
              </a:rPr>
              <a:t>substantial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assistance is necessary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EBA3-F3BC-4679-B532-3FA32FC9E05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ndividual Case-Managed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low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 for career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Substantial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assistance provid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use of career resources is guided by a staff member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ection and sequencing of career resources is indicated on an individual learning plan (ILP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83B3-645D-4831-848F-DD578EBB63B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ndividual Case-Managed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dividual counsel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Longer-term group counsel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areer courses with frequent small-group interac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FB1B-824B-4351-9C71-86D9762CDE8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Moving Between Levels of Service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776268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adiness for career decision making can improve over tim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can move between levels of service delive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r, some individuals have difficulty in using resources and need more help, and move to a higher level of serv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ifferentiated Service Delivery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819520" y="4330800"/>
            <a:ext cx="3492360" cy="67284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rehensive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727200" y="5424480"/>
            <a:ext cx="2216160" cy="89388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lf-Help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3384720" y="5429160"/>
            <a:ext cx="2222280" cy="88920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Brief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taff-Assist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6083280" y="5440320"/>
            <a:ext cx="2222640" cy="87804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Case-Manag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9" name="Line 9"/>
          <p:cNvSpPr/>
          <p:nvPr/>
        </p:nvSpPr>
        <p:spPr>
          <a:xfrm flipH="1">
            <a:off x="4578120" y="4986360"/>
            <a:ext cx="4680" cy="452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597560" y="5000760"/>
            <a:ext cx="2697120" cy="4093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5576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 flipH="1" flipV="1">
            <a:off x="1600200" y="4647960"/>
            <a:ext cx="1241280" cy="14040"/>
          </a:xfrm>
          <a:prstGeom prst="line">
            <a:avLst/>
          </a:prstGeom>
          <a:ln w="38160">
            <a:solidFill>
              <a:srgbClr val="c8d1ee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1523880" y="39625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8d1ee"/>
                </a:solidFill>
                <a:latin typeface="Arial"/>
              </a:rPr>
              <a:t>Self or  Staff</a:t>
            </a:r>
            <a:endParaRPr b="0" lang="en-US" sz="16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8d1ee"/>
                </a:solidFill>
                <a:latin typeface="Arial"/>
              </a:rPr>
              <a:t>Referral</a:t>
            </a:r>
            <a:endParaRPr b="0" lang="en-US" sz="16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1190520" y="3429000"/>
            <a:ext cx="0" cy="198108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557600" y="3751200"/>
            <a:ext cx="14400" cy="59220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1600200" y="4648320"/>
            <a:ext cx="0" cy="761760"/>
          </a:xfrm>
          <a:prstGeom prst="line">
            <a:avLst/>
          </a:prstGeom>
          <a:ln w="38160">
            <a:solidFill>
              <a:srgbClr val="c8d1e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2928960" y="6019920"/>
            <a:ext cx="457200" cy="0"/>
          </a:xfrm>
          <a:prstGeom prst="line">
            <a:avLst/>
          </a:prstGeom>
          <a:ln w="38160">
            <a:solidFill>
              <a:srgbClr val="c8d1e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2943360" y="5715000"/>
            <a:ext cx="457200" cy="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5613480" y="6019920"/>
            <a:ext cx="482400" cy="0"/>
          </a:xfrm>
          <a:prstGeom prst="line">
            <a:avLst/>
          </a:prstGeom>
          <a:ln w="38160">
            <a:solidFill>
              <a:srgbClr val="c8d1e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5613480" y="5715000"/>
            <a:ext cx="482400" cy="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Complete differentiated model of delivering career resources and 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3" name="Line 23"/>
          <p:cNvSpPr/>
          <p:nvPr/>
        </p:nvSpPr>
        <p:spPr>
          <a:xfrm flipH="1">
            <a:off x="1176480" y="3429000"/>
            <a:ext cx="1947600" cy="0"/>
          </a:xfrm>
          <a:prstGeom prst="line">
            <a:avLst/>
          </a:prstGeom>
          <a:ln w="3816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7E72-306B-48C1-B7A5-F800175EA28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ssumptions of the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2054160"/>
            <a:ext cx="815364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ll young people and adults are greeted as they enter the career resource room by a trained staff member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Young people and adults can seek assistance on a self-help basi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8795-47E2-4BF7-B2C2-B45602DEB5A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ssumptions of the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2054160"/>
            <a:ext cx="815364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f problems occur with the use of self-help resources, staff are available to re-assess needs and make further recommendations about the use career resources and an appropriate level of service delive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F962-853F-4DF7-8929-FC5D51730BF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ssumptions of the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2054160"/>
            <a:ext cx="815364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Young people and adults and staff collaborate in deciding on an appropriate level of service delivery and appropriate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B270-7B37-41FE-8A0A-F4B5FDBDEAF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apabil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Honest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exploration of values, interests, and skil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Motivated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to learn about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ble to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think clearl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bout career problem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Confident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f their decision-making abi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EA73-A8D1-4A21-9328-F5CEAAFF222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ssumptions of the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2054160"/>
            <a:ext cx="815364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 and individual learning plans are available to help young people and adults select, locate, sequence, and use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 matter what the level of service delivery provided (including self-help), staff periodically check with all young people and adults to determine if their needs are being me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A46D-ADDE-4EE8-8913-241B94B109D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Seven-Step Sequence for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73160" y="2054160"/>
            <a:ext cx="776592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1. Initial interview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2. Preliminary assess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3. Define problem and identify caus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4. Formulate goa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5. Develop an individual learning pla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6. Complete the individual learning pla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7. Summative review and generaliz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2B0B-772E-412F-8976-32EE386033F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itial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Gain information about the young person or adult’s problem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ffde53"/>
                </a:solidFill>
                <a:latin typeface="Arial"/>
              </a:rPr>
              <a:t> brief screening</a:t>
            </a: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 process also occurs at this step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8EAD-F0A5-4F27-B71F-4047FB59F79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itial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2999"/>
              </a:spcBef>
              <a:buClr>
                <a:srgbClr val="c8d1ee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4866c6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4866c6"/>
                </a:solidFill>
                <a:latin typeface="Arial"/>
              </a:rPr>
              <a:t>What brings you here today?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5880" indent="-335880">
              <a:spcBef>
                <a:spcPts val="2999"/>
              </a:spcBef>
              <a:buClr>
                <a:srgbClr val="c8d1ee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de53"/>
                </a:solidFill>
                <a:latin typeface="Arial"/>
              </a:rPr>
              <a:t>"Can I see a list of local training programs?"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5880" indent="-335880">
              <a:spcBef>
                <a:spcPts val="2999"/>
              </a:spcBef>
              <a:buClr>
                <a:srgbClr val="c8d1ee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crete request - no problems apparen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 further screening needed -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ferral to self-help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B069-C355-4F4C-B2F5-23B84E51810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itial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29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otential error in brief scree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18960" indent="-318960">
              <a:spcBef>
                <a:spcPts val="29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blematic use of resources detected by staff (the safety net),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18960" indent="-318960">
              <a:spcBef>
                <a:spcPts val="29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4866c6"/>
                </a:solidFill>
                <a:latin typeface="Arial"/>
              </a:rPr>
              <a:t>"Are you finding the information you need?"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18960" indent="-318960">
              <a:spcBef>
                <a:spcPts val="29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f problems are apparent, more careful screening then occurs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2766-FC33-469F-8211-D0AF5A7E55F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itial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c8d1ee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de53"/>
                </a:solidFill>
                <a:latin typeface="Arial"/>
              </a:rPr>
              <a:t>"I have not done well in my training program and I don't know what to do."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c8d1ee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Vague request - potential problem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ore careful screening needed prior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o delivering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C85D-5F3A-4E79-8588-D0D66DD9F5C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Preliminary Assessmen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Diagnostic assessment used to provide information about the young person or adult’s problem and readiness for decision making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measur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interview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cludes the </a:t>
            </a: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comprehensive screening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process described earlier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6522-9940-45C0-90A5-BA9B12EFA35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efine Problem and Identify Caus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 the problem as a gap between where the person is and where the person needs to be 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sider possible cause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mulate Goal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practitioner and the young person or adult develop goals to narrow the ga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4494-0EF0-4A31-A492-0BF67685E4A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evelop an Individual Learning Plan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 the person to identify a sequence of resources and activities to meet their goa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3EA2-FE35-4766-BE6E-3174B714F37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apabil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illing to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assume responsibilit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for problem solv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ware of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thoughts and feelings influence behavior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ble to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monitor and control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problem solving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C41A-845F-4803-895A-1BE7468058E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fferences in Plan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n individual learning plan is</a:t>
            </a:r>
            <a:br>
              <a:rPr sz="3200"/>
            </a:br>
            <a:r>
              <a:rPr b="0" lang="en-US" sz="3200" spc="-1" strike="noStrike" u="sng">
                <a:solidFill>
                  <a:srgbClr val="f4c6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 personal career pla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625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n individual </a:t>
            </a:r>
            <a:r>
              <a:rPr b="0" lang="en-US" sz="2800" spc="-1" strike="noStrike" u="sng">
                <a:solidFill>
                  <a:srgbClr val="ffde53"/>
                </a:solidFill>
                <a:uFillTx/>
                <a:latin typeface="Arial"/>
              </a:rPr>
              <a:t>career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plan is a list of the steps necessary to become employed, such as completing training and job search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625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n individual </a:t>
            </a:r>
            <a:r>
              <a:rPr b="0" lang="en-US" sz="2800" spc="-1" strike="noStrike" u="sng">
                <a:solidFill>
                  <a:srgbClr val="ffde53"/>
                </a:solidFill>
                <a:uFillTx/>
                <a:latin typeface="Arial"/>
              </a:rPr>
              <a:t>learning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plan only identifies the resources and services used to make decisions at various points in a person’s career plan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91E8-D51E-4AF6-8970-AFE14DF3246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964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mplete the Individual Learning Plan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llow-through with the IL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aff prov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ncouragemen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larific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odel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inforcemen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F87A-174A-4F9B-9A8D-E1731B6FAFF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Summative Review and Generalization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scuss progress toward achieving goa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ake plans for future use of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scuss future use of problem-solving skil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B5D7-8827-44A5-B5DB-D8711D7FB54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590400"/>
            <a:ext cx="784836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Steps in Promoting Effective Use </a:t>
            </a:r>
            <a:br>
              <a:rPr sz="3600"/>
            </a:b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of Career Resour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-step proc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990720" indent="-533520">
              <a:spcBef>
                <a:spcPts val="2999"/>
              </a:spcBef>
              <a:buClr>
                <a:srgbClr val="f4c6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990720" indent="-533520">
              <a:spcBef>
                <a:spcPts val="2999"/>
              </a:spcBef>
              <a:buClr>
                <a:srgbClr val="f4c6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commend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990720" indent="-533520">
              <a:spcBef>
                <a:spcPts val="2999"/>
              </a:spcBef>
              <a:buClr>
                <a:srgbClr val="f4c6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rient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990720" indent="-533520">
              <a:spcBef>
                <a:spcPts val="2999"/>
              </a:spcBef>
              <a:buClr>
                <a:srgbClr val="f4c6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714C-9606-4DF1-AEA9-009937EFBB9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ur-Step Proces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Understand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larifying the career assessment and information needs of an adolescent or adult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Recommend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uggestions about career assessments and information on the ILP that are appropriate for the needs of the adolescent or adul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1126-8926-450E-824F-83058A9D9F2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ur-Step Proces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Orient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ing adolescents and adults to make effective use of career assessments and inform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hecking that adolescents and adults have appropriately used the resources and services on their ILP and that they have a plan of action for the futur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7658-89CC-42E7-8339-D402354DC4F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rvice Delivery at a Distanc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liver services through the use of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-mail, chat, telephone, or videoconferenc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livered to persons who ma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be underserved with face-to-face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fer the convenience of remote assistance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530B-1B13-4730-AC5A-BF8111E7AC5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istance Counseling as a Necess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60400" y="2054160"/>
            <a:ext cx="828360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with disabilities who have mobility problem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in remote geographic areas who lack access to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seeking access to practitioners in other locations with specialized expertis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reluctant to seek help who use the Internet as a safe place to start obtaining resources and services 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133A-77D7-4466-B1E6-74C88563BBF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46000" y="838080"/>
            <a:ext cx="829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istance Counseling as a Convenience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who want to access resources and receive services outside of normal business hou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who want to access resources and receive services at their place of residence or work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DA68-54DB-4A15-8315-3035ED8E7CF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Three Levels of Service Deliver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lf-help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sponding to questions about Web-site us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rief staff-assiste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creening, recommending, orienting, and follow-up of Web-site us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dividual case-manage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dividual counseling at a distan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0889-0813-435B-A770-51990F267BD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mplex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textual factors originating in the family, society, the economy, or employing organizations, that make it more (or less) difficult to make career cho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ow does th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world around m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influence my career choices?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00D6-04A8-46C0-BEF6-139C00B351C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thical Issu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5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ormed cons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ent suitabi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ent access and financial capabi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unselor competen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redential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0021-8031-46EA-95D3-955FEE8D9E4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thical Issu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ent technology skil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fidentia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ultural sensi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ight of redr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imited awareness of location-specific issu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ack of clarity about practitioner credential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E949-9DEE-4772-8B81-63E2712088E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D68F-E21B-4D94-A9FA-CEB4CC0B5A8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771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, Reardon, R. C., Peterson, G. W., &amp; Lenz, J. G. (2004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counseling and services: A cognitive information processing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EF45-64FA-4FDF-B9B2-C5DB1660B42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1600" y="2054160"/>
            <a:ext cx="7861320" cy="45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ampson, J. P., Jr., Peterson, G. W., Reardon, R. C., &amp; Lenz, J. G. (2007). </a:t>
            </a:r>
            <a:r>
              <a:rPr b="0" i="1" lang="en-US" sz="2800" spc="-1" strike="noStrike">
                <a:solidFill>
                  <a:srgbClr val="c8d1ee"/>
                </a:solidFill>
                <a:latin typeface="Arial"/>
              </a:rPr>
              <a:t>Key elements of the Cognitive Information Processing Approach to Designing Career Service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. Tallahassee, FL: Florida State University, Center for the Study of Technology in Counseling and Career Development. Retrieved November 9, 2007 from: </a:t>
            </a:r>
            <a:r>
              <a:rPr b="0" lang="en-US" sz="2800" spc="-1" strike="noStrike" u="sng">
                <a:solidFill>
                  <a:srgbClr val="4866c6"/>
                </a:solidFill>
                <a:uFillTx/>
                <a:latin typeface="Arial"/>
                <a:hlinkClick r:id="rId1"/>
              </a:rPr>
              <a:t>http://www.career.fsu.edu/techcenter/designing_career_services/index.html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8CEB-A5A4-4586-AA7E-A9F9CF6DCE9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mplex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Famil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facto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Social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facto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Economic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facto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Organizational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facto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Family Factor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20574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ew responsibilities and family support (posi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Deferral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compromise career development to meet needs of spouse or children or parents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Role overload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roles of worker, parent, son/daughter, homemaker, student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Dysfunctional family input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over-functioning parents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4:50:32Z</dcterms:modified>
  <cp:revision>517</cp:revision>
  <dc:subject/>
  <dc:title>Implementing Computer-Assisted Career Guidance</dc:title>
</cp:coreProperties>
</file>