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B696-B32F-4011-96B8-E78870032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EC5F-CABD-4E0E-A166-AB0EC6AB4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1897-1AD9-4B4A-B120-FEA178BE6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C6A5-5A45-427C-89CB-AD64EAE0E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8CA5-C15F-4716-8D9B-323FE98A64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D643-8C15-4EEC-8688-6C19AC482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58B5-F397-467A-AF21-AE5AB074C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E906-A06E-4509-B25E-0A35DBF8A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BDE6-0A86-4D2A-8377-37E73795F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0592-8024-4305-8709-6AEBAA406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CBFE-B56C-4BFA-9583-46CD15C88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658A-BA02-43F5-B82E-9245BBE28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D82-2878-4830-BD1E-52B79AA13B0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71040"/>
            <a:ext cx="861048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82640"/>
            <a:ext cx="8653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ocial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ocial suppor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modeling, networking, and caring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iscrimin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age, disability, ethnicity, gender, immigration status, nationality, occupation, physical characteristics, poverty level, race, religion, sexual orientation, and social clas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ereotyp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lack of role model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bias in educ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harassment in education and employmen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conomic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ener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rate of change in the labor market influences stability of occupational knowledge – stable knowledge (positive), unstable knowledge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erson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influence of poverty on housing, health care, and childcare – adequate resources are positive, inadequate resources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576000"/>
            <a:ext cx="784836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rganizational Factors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(If the person is employed)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iz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size of internal employment market – small internal job market is less complex (positive), large internal job market is more complicated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rganizational cultur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amount of support provided for career development – more support (positive), less suppor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ability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employment opportunities – more stability is positive, less stability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Low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High degree of                                    Moderate to low degre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upport needed                                   of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Individual Case-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Managed 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Moderate to low degree                       No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of support needed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lf-Help Mod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1575-645F-4B59-9D77-0F15C266F53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stead of one level of service for all, three levels of service are needed to meet individual needs ranging from those who ar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motivated and able to learn successfully on their ow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ffering from low readiness for decision-making  who need substantial assistance to successfully lear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7288-C8BE-44C7-98B9-030E0DE71E5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three levels of service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decision ma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Brief staff-assiste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373-24B7-4EB4-A613-66E249ADD21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im of the 3 Service Delivery Level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6848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should receive the level of help they need, no more and no l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aim of the differentiated service delivery model (the CIP approach) is to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ed by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pers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level of suppor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t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lowest possible cos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45E1-BA51-4077-AF46-2AE37F0A9FE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01096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is key to the success of differentiated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void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v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high readiness young people and adults with costly individualized interventions that are not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Und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low readiness young people and adults with inadequate interventions from staff who are unaware of the substantial needs of the young person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01C-9347-47AF-8ED8-B2819123767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provides staff with a better chance to cost-effectively meet the needs of young people and adults in career centers and schoo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48CF-BF75-4C03-87BB-EF8B2F37C70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adiness for Career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ree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even-Step Service Delivery Sequ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eps in Promoting Effective Use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rvice Delivery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6C8-1DE2-4014-924F-40DCC8582A7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lso helps to better allocate staf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will be able to serve more young people and adults, or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pend more time with young people and adults with substantial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wo types o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rie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rehens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E123-2603-4412-B3C5-A5A2A1EFF75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Brief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urs upon entry to the career resource room in a school or career cent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gn can be used that indicates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ws where brief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ws repeat users of the resource room to move directly to the resources or services they ne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 young person or adult enters a resource room in a school or career center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524640" y="250668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ask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What brings you here today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57280" y="250200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ign indicates 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F5B9-78B6-4B87-82D2-F6E51B5BC77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ho enter the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enter are greeted by a staff member who might say,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he young person or adult responds with a concrete request for information, and there are no problems apparent, the individual is judged to hav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career choice and is referred to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staff support as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B6EE-DDF6-4697-B487-70E75FFF452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 would like to find information comparing the starting salaries of accountants and auditor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s is a concrete request for information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th no problems appar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fer to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060-72E5-49E5-A5DF-96AACD70234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Could I see information on the job outlook for computer programmers?"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</a:t>
            </a:r>
            <a:r>
              <a:rPr b="0" lang="en-US" sz="3200" spc="-1" strike="noStrike" u="sng">
                <a:solidFill>
                  <a:srgbClr val="c8d1ee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I am having difficulty choosing a training program that is right for me,"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0" y="64152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judge that a young person’s or adult’s needs can be met with self-help resour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68E-180D-4378-868B-C5791C38516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each individual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determined by the information provided in the resource guid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C458-CB0A-49A4-9F0B-F9CBA1F5EF1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inimal assistance is provided, although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periodically check to see if young people and adults are successfully using career resource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re available to respond to question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 suggest selected assessment, information, or instruc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to meet specific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447E-8DFB-4AE9-94B9-D94A0122383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age and maps help young people and adults to locate self-help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structions for using career resources are contained within each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can gain remote access to some of the career resources by accessing the Career Center Web si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5FB0-6243-4CA2-AF83-52ACD1D626B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adiness for Career Cho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i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pa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an individual to make informed and careful career choices taking into account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mplex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family, social, economic, and organizational factors that influence career develop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also includes possessing adequat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iterac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for communication and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C7D3-8870-4029-A8CC-8BF96EB41D5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2160" y="83808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blems young people and adults have in effectively using resources are detected by staff members circulating among young people and adults and as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516ec9"/>
                </a:solidFill>
                <a:latin typeface="Arial"/>
              </a:rPr>
              <a:t>"Are you finding the information you need?"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problems are apparent, then more careful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600" y="838080"/>
            <a:ext cx="837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If more help is needed in using resources, then needs are reassess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33440" y="208584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The safety net - “Are you finding the information you need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Brief screening indicates that a more careful career assessment is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400" y="8380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63F-0A3B-4118-A7E1-B65C15D06E8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amples of comprehensive screening can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diagnostic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interview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areer resources are identified on an Individual Learning Plan (ILP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om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1C33-58FA-48F0-AB32-6CAFE50500E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9D9-147D-488A-896E-AC3341947AB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rop-in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rt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large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524-FF55-4031-A6DC-67BF8391AAF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80010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-guided use of resources in a career resource room in a school or career cent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Staff complete scheduled time in the career resource room with young people and adults served on a first-come, first-served basi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Continuity in service delivery results from teamwork and collaboratively-developed written individual learning plans (ILPs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387F-E168-4A4D-9887-0E1F68D477D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re not restricted to the available appointment times of any one staff memb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person can decide to see the same staff member by returning the next time the person is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r, a person can return any time the career center is open and see a staff member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337-0B64-45F8-B994-B3BEF7A7477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800100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(with staff input) decide how much time is needed to use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sive to typical periods of high and low demand by increasing or decreasing the number of staff working in the resource roo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igh volume of young people and adults can be serv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wers service-delivery cos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9BD-3170-4DB5-BFF7-377CD55DA35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cognitive and affective capacity to engage in effective career choice behavi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are my career choices influenced by the way I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FFE-1BC0-4418-9CEF-D90C6629D5A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quires staff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stablish relationships quickl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 progress in completing an IL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ILP if new needs become appar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rve multiple young people and adults during one period of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icipate in common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0CAA-6021-4E47-B8B0-198B27D31FD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young people and adults with immediate follow-up of resource us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pportunity to facilitate learning during the “teachable moment”.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gain, career resources are identified on an Individual Learning Plan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ubstantial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2366-0EFB-4AEC-B10F-9571DA235B8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Substanti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provi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752-C48B-47BF-B86B-0AD0BBCBE79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ng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frequent small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DA0-3AB9-4BE2-89DC-93ADC818542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Moving Between Levels of Servic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7626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for career decision making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move between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, some individuals have difficulty in using resources and need more help, and move to a higher level of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fferentiated Service Delivery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928960" y="601992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943360" y="571500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5613480" y="601992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5613480" y="571500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omplete differentiated model of delivering career resources and 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Line 23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155-C7D5-4691-ACEF-A9079526DED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young people and adults are greeted as they enter the career resource room by a trained staff memb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can seek assistance on a self-help ba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07A-E9F0-4088-84FD-39EC6A64DA3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occur with the use of self-help resources, staff are available to re-assess needs and make further recommendations about the use career resources and an appropriate level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7CB5-70F1-4EE9-A5B7-BA3F9920187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nd staff collaborate in deciding on an appropriate level of service delivery and appropriat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9C52-AAED-49AC-9C82-01AF3A50104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nes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ploration of values, interests, and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tivated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o learn about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 clear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bout career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nfiden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their decision-making 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C8A-4F68-47EA-9FA7-D3EC3D09CB0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and individual learning plans are available to help young people and adults select, locate, sequence, and us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matter what the level of service delivery provided (including self-help), staff periodically check with all young people and adults to determine if their needs are being me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11C-1628-42D7-A63E-61BFDA297F7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even-Step Sequence for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73160" y="2054160"/>
            <a:ext cx="77659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1. Initial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. Preliminary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3. Define problem and identify caus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4. Formulate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5. Develop an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6. Complete the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7. Summative review and genera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43D3-74CF-4BC1-8967-4070900EA0E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Gain information about the young person or adult’s problem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ffde53"/>
                </a:solidFill>
                <a:latin typeface="Arial"/>
              </a:rPr>
              <a:t> brief screening</a:t>
            </a: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 process also occurs at this step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6DF1-6BE0-4A90-8EA8-0F52BEBC9EB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Can I see a list of local training programs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crete request - no problems appar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 -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ferral to self-help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CE90-4ADF-47A9-B11F-DA65C7A4F65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error in brie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blematic use of resources detected by staff (the safety net),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"Are you finding the information you need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are apparent, more careful screening then occurs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D357-7C4F-4267-AD76-AFD5D07C6CD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I have not done well in my training program and I don't know what to do.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gue request - potential proble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re careful screening needed prior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 delivering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A17B-A060-4827-A021-0E1DBD36DA8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eliminary Assessmen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Diagnostic assessment used to provide information about the young person or adult’s problem and readiness for decision making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cludes the </a:t>
            </a: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comprehensive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cess described earli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CA86-E6DB-4962-ADF3-8B68800A665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fine Problem and Identify Caus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the problem as a gap between where the person is and where the person needs to be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possible caus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mulate Goa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practitioner and the young person or adult develop goals to narrow the g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451-C954-49F7-B5E7-17D258FC515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velop an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the person to identify a sequence of resources and activities to meet their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5BCC-8421-4CB9-8FBD-DDA5DDAACDC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lling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assume responsi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or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ware of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houghts and feelings influence behavio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nitor and contro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blem solving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01C-83B9-43A5-8185-5255F523113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fferences in Plan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individual learning plan is</a:t>
            </a:r>
            <a:br>
              <a:rPr sz="3200"/>
            </a:b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 personal career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career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is a list of the steps necessary to become employed, such as completing training and job search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learn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only identifies the resources and services used to make decisions at various points in a person’s career pla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1DF4-3129-4B5B-AA9C-81F2143A0EA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96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the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through with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ncourag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ic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inforc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9165-34D5-46C4-8EE9-1FBE0DAB61A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ummative Review and Generaliz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progress toward achieving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plans for future use of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future use of problem-solving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01E-5D58-42D5-A98B-A7FE1D7F518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590400"/>
            <a:ext cx="78483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teps in Promoting Effective Use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f Career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-step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CC54-C2BD-419E-A0EE-AA42200D7F4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ing the career assessment and information needs of an adolescent or adult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ggestions about career assessments and information on the ILP that are appropriate for the needs of the adolescent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E528-0D5B-495E-97EE-A157B655224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ing adolescents and adults to make effective use of career assessments and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hecking that adolescents and adults have appropriately used the resources and services on their ILP and that they have a plan of action for the futu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7168-E772-4DD4-9D37-62DF8BE80C0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 Delivery at a Dista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 services through the use of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-mail, chat, telephone, or videoconferenc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ed to persons who ma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 underserved with face-to-face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fer the convenience of remote assistance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60D9-54B7-47BB-A12B-CF0E5C85EB1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Necess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0400" y="2054160"/>
            <a:ext cx="82836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ith disabilities who have mobility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in remote geographic areas who lack access to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seeking access to practitioners in other locations with specialized experti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reluctant to seek help who use the Internet as a safe place to start obtaining resources and services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5904-9212-43AD-AF52-DAAAA443093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46000" y="838080"/>
            <a:ext cx="829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Convenienc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outside of normal business hou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at their place of residence or work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82F1-1E0F-459F-940E-9D76E6012FD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f-help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ding to questions about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ief staff-assist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creening, recommending, orienting, and follow-up of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 at a dista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EC9-FD33-4317-A698-B1AEF6AFF0F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xtual factors originating in the family, society, the economy, or employing organizations, that make it more (or less) difficult to make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doe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world around m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 my career choices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1BF6-3BEE-4334-AF4F-A23F2CC36D4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sui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access and financial cap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unselor compet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dential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BDA7-CBC4-4EBE-A39C-47C1040709E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technology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ensi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ight of redr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ed awareness of location-specific iss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clarity about practitioner credenti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00A-D655-4F98-8746-802ADB261C2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2F34-3F3A-45CB-9929-F20378CB180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771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9447-F2BE-4A5A-8F6A-7A8B406EE7F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786132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1E90-2A92-4DB0-BA9B-9A9A461DF51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oci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conomic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rganization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Family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ew responsibilities and family support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eferr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compromise career development to meet needs of spouse or children or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ole overloa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roles of worker, parent, son/daughter, homemaker, studen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ysfunctional family inpu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over-functioning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4:50:32Z</dcterms:modified>
  <cp:revision>517</cp:revision>
  <dc:subject/>
  <dc:title>Implementing Computer-Assisted Career Guidance</dc:title>
</cp:coreProperties>
</file>