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ABE0-42FE-42B4-BF4E-1C0313EA9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21383-CE07-4279-886E-9500A50A5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20C0-3DB3-4B49-A001-EC0304AAD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1D6D4-CB47-44A0-99C7-67373A7BAD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63CDF-BEDD-4611-9B37-E065437C96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96E6-47A5-475A-9305-4A6C4C864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F9FD-AB1E-4D22-8C66-0458E1C67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41AE6-4581-40FE-A174-A6CFFFDAD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E5E2-A4C2-4CDE-A490-DC9CCC514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DC62-0DDE-42E6-8E15-3477DB3F3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44F1-65A3-40F1-8D7E-D614F72BF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0CBC-91CE-4159-8CBB-D28E8F010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663040" y="6409800"/>
            <a:ext cx="48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3D1C-2E8F-46DA-8B84-641F30311C4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areer.fsu.edu/techcenter/designing_career_services/index.html" TargetMode="External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71040"/>
            <a:ext cx="8610480" cy="17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areer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82640"/>
            <a:ext cx="8653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Social Factor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ocial support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 modeling, networking, and caring (posi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Discrimination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age, disability, ethnicity, gender, immigration status, nationality, occupation, physical characteristics, poverty level, race, religion, sexual orientation, and social class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tereotyping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 lack of role model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 bias in education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 harassment in education and employment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Economic Factor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General 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actors, e.g. rate of change in the labor market influences stability of occupational knowledge – stable knowledge (positive), unstable knowledge (negative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Personal 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actors, e.g. influence of poverty on housing, health care, and childcare – adequate resources are positive, inadequate resources (negative)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576000"/>
            <a:ext cx="7848360" cy="117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Organizational Factors </a:t>
            </a:r>
            <a:br>
              <a:rPr sz="3600"/>
            </a:b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(If the person is employed)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ize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size of internal employment market – small internal job market is less complex (positive), large internal job market is more complicated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Organizational culture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amount of support provided for career development – more support (positive), less support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tability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employment opportunities – more stability is positive, less stability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wo-Dimensional Readiness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828000" y="1676520"/>
            <a:ext cx="7488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                                        </a:t>
            </a: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lexity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(high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apability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low)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(high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low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4394160" y="2022480"/>
            <a:ext cx="0" cy="405936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1539720" y="4051440"/>
            <a:ext cx="603576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wo-Dimensional Readiness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828000" y="1676520"/>
            <a:ext cx="7488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                                        </a:t>
            </a: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lexity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(high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Low readines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Moderate readines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High degree of                                    Moderate to low degree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support needed                                   of support need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Individual Case-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(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Brief Staff-Assist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Managed Service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)                              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Service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apability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low)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(high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Moderate readines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f4c600"/>
                </a:solidFill>
                <a:latin typeface="Arial"/>
              </a:rPr>
              <a:t>High readines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Moderate to low degree                       No support need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of support needed                                (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Self-Help Mode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Brief Staff-Assisted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758bd3"/>
                </a:solidFill>
                <a:latin typeface="Arial"/>
              </a:rPr>
              <a:t>Services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)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(low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394160" y="2022480"/>
            <a:ext cx="0" cy="405936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1539720" y="4051440"/>
            <a:ext cx="6035760" cy="0"/>
          </a:xfrm>
          <a:prstGeom prst="line">
            <a:avLst/>
          </a:prstGeom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E4AD-1727-4365-BF62-F4B4778AD17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Three Levels of Service Deliver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stead of one level of service for all, three levels of service are needed to meet individual needs ranging from those who are: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f-motivated and able to learn successfully on their ow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uffering from low readiness for decision-making  who need substantial assistance to successfully learn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E298-486D-486E-801D-6A8E644D359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Three Levels of Service Deliver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three levels of service inclu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f-help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rvice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high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 for decision making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Brief staff-assisted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rvice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moderate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Individual case-managed service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low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0A80-DE04-4C3E-B8D8-62B80F5F760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Aim of the 3 Service Delivery Level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96848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Young people and adults should receive the level of help they need, no more and no les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aim of the differentiated service delivery model (the CIP approach) is to prov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right resour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used by th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right pers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ith th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right level of suppor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t th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lowest possible cost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F1FC-8270-4DDF-AF88-17F1306092F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2010960"/>
            <a:ext cx="815328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creening is key to the success of differentiated service delive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creening avoid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Overserving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high readiness young people and adults with costly individualized interventions that are not needed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Underserving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low readiness young people and adults with inadequate interventions from staff who are unaware of the substantial needs of the young person or adul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86F5-63E1-42EC-B11C-B87DD34AF19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2053800"/>
            <a:ext cx="815328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creening provides staff with a better chance to cost-effectively meet the needs of young people and adults in career centers and schoo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1611-A0FF-433B-A3CB-E191C7A137B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4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Readiness for Career Cho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Three Levels of Service Delive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Seven-Step Service Delivery Sequen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eps in Promoting Effective Use of Career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rvice Delivery at a Distan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D5E1-74B5-455A-8B4A-53A53C21A5B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2053800"/>
            <a:ext cx="815328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creening also helps to better allocate staff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taff will be able to serve more young people and adults, or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pend more time with young people and adults with substantial need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wo types of scree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Brief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prehensiv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9CD2-E2A6-4D51-BFDB-B99308032C3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Brief screening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ccurs upon entry to the career resource room in a school or career center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 sign can be used that indicates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“First-Time Users Stop Her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hows where brief screening occu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llows repeat users of the resource room to move directly to the resources or services they ne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5720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A young person or adult enters a resource room in a school or career center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524640" y="2506680"/>
            <a:ext cx="201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Staff ask</a:t>
            </a:r>
            <a:br>
              <a:rPr sz="1800"/>
            </a:b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“What brings you here today?”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57280" y="2502000"/>
            <a:ext cx="201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Sign indicates </a:t>
            </a:r>
            <a:br>
              <a:rPr sz="1800"/>
            </a:b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“First-Time Users Stop Here”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EE2A-4F99-4E3A-9A64-C4BADD21261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Young people and adults who enter the </a:t>
            </a:r>
            <a:br>
              <a:rPr sz="2800"/>
            </a:b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areer center are greeted by a staff member who might say,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866c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4866c6"/>
                </a:solidFill>
                <a:latin typeface="Arial"/>
              </a:rPr>
              <a:t>What brings you here today?”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f the young person or adult responds with a concrete request for information, and there are no problems apparent, the individual is judged to have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high readines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for career choice and is referred to 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f-help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sources</a:t>
            </a: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ith staff support as needed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ED2D-DF28-4088-8022-D9B730E84DE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7621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8d1ee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16ec9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516ec9"/>
                </a:solidFill>
                <a:latin typeface="Arial"/>
              </a:rPr>
              <a:t>What brings you here today?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c8d1ee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I would like to find information comparing the starting salaries of accountants and auditors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c8d1ee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s is a concrete request for information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ith no problems appar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c8d1ee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 further screening need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d1ee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fer to self-help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F495-C38C-49CB-8BB2-7B4CD415E4B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16ec9"/>
                </a:solidFill>
                <a:latin typeface="Arial"/>
              </a:rPr>
              <a:t>"Could I see information on the job outlook for computer programmers?"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ould </a:t>
            </a:r>
            <a:r>
              <a:rPr b="0" lang="en-US" sz="3200" spc="-1" strike="noStrike" u="sng">
                <a:solidFill>
                  <a:srgbClr val="c8d1ee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require more careful scree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516ec9"/>
                </a:solidFill>
                <a:latin typeface="Arial"/>
              </a:rPr>
              <a:t>"I am having difficulty choosing a training program that is right for me,"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ould require more careful scree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27200" y="5424480"/>
            <a:ext cx="2216160" cy="89388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lf-Help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5720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1190520" y="3429000"/>
            <a:ext cx="0" cy="198108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0" y="641520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Staff judge that a young person’s or adult’s needs can be met with self-help resour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1176480" y="3429000"/>
            <a:ext cx="1947600" cy="0"/>
          </a:xfrm>
          <a:prstGeom prst="line">
            <a:avLst/>
          </a:prstGeom>
          <a:ln w="3816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9A6C-325B-4657-A80E-67025E73DB8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Help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2053800"/>
            <a:ext cx="7848360" cy="45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high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 for career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assistance is provided to young people and adul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use of career resources is guided by each individual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ection and sequencing of career resources is determined by the information provided in the resource guid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C301-5EE0-4595-B9F2-3E0E6A5CEB2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Help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2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inimal assistance is provided, although staff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periodically check to see if young people and adults are successfully using career resource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8d1ee"/>
                </a:solidFill>
                <a:latin typeface="Arial"/>
              </a:rPr>
              <a:t>are available to respond to questions</a:t>
            </a: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Resource guides suggest selected assessment, information, or instructional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to meet specific need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EE39-480D-4BEA-906C-32C531ACC55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lf-Help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ignage and maps help young people and adults to locate self-help career resour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structions for using career resources are contained within each resour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Young people and adults can gain remote access to some of the career resources by accessing the Career Center Web sit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4793-D6EE-45D7-B4B0-145A0473705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adiness for Career Choic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adiness is th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capabilit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f an individual to make informed and careful career choices taking into account th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complexit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f family, social, economic, and organizational factors that influence career develop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adiness also includes possessing adequat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languag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skills and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literac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skills for communication and lear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32AE-72E6-486D-9C7C-6F17E6832B5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76212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22160" y="83808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Problems in Using Self-Help Resour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oblems young people and adults have in effectively using resources are detected by staff members circulating among young people and adults and asking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516ec9"/>
                </a:solidFill>
                <a:latin typeface="Arial"/>
              </a:rPr>
              <a:t>"Are you finding the information you need?"</a:t>
            </a:r>
            <a:r>
              <a:rPr b="0" i="1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f problems are apparent, then more careful screening occu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3600" y="838080"/>
            <a:ext cx="837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Problems in Using Self-Help Resour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819520" y="4330800"/>
            <a:ext cx="3492360" cy="67284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rehensive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727200" y="5424480"/>
            <a:ext cx="2216160" cy="89388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lf-Help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45720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 flipV="1">
            <a:off x="1600200" y="4647960"/>
            <a:ext cx="1241280" cy="14040"/>
          </a:xfrm>
          <a:prstGeom prst="line">
            <a:avLst/>
          </a:prstGeom>
          <a:ln w="38160">
            <a:solidFill>
              <a:srgbClr val="c8d1ee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1523880" y="396252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8d1ee"/>
                </a:solidFill>
                <a:latin typeface="Arial"/>
              </a:rPr>
              <a:t>Self or  Staff</a:t>
            </a:r>
            <a:endParaRPr b="0" lang="en-US" sz="16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8d1ee"/>
                </a:solidFill>
                <a:latin typeface="Arial"/>
              </a:rPr>
              <a:t>Referral</a:t>
            </a:r>
            <a:endParaRPr b="0" lang="en-US" sz="16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1600200" y="4648320"/>
            <a:ext cx="0" cy="761760"/>
          </a:xfrm>
          <a:prstGeom prst="line">
            <a:avLst/>
          </a:prstGeom>
          <a:ln w="38160">
            <a:solidFill>
              <a:srgbClr val="c8d1e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If more help is needed in using resources, then needs are reassess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433440" y="2085840"/>
            <a:ext cx="201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The safety net - “Are you finding the information you need?”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1" name="Line 27"/>
          <p:cNvSpPr/>
          <p:nvPr/>
        </p:nvSpPr>
        <p:spPr>
          <a:xfrm>
            <a:off x="1190520" y="3429000"/>
            <a:ext cx="0" cy="198108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 flipH="1">
            <a:off x="1176480" y="3429000"/>
            <a:ext cx="1947600" cy="0"/>
          </a:xfrm>
          <a:prstGeom prst="line">
            <a:avLst/>
          </a:prstGeom>
          <a:ln w="3816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2819520" y="4330800"/>
            <a:ext cx="3492360" cy="67284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rehensive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45576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4557600" y="3751200"/>
            <a:ext cx="14400" cy="59220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Brief screening indicates that a more careful career assessment is need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7400" y="8380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to Comprehensive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31EF-E533-42E0-A1D0-D76989420A4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to Comprehensive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xamples of comprehensive screening can inclu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 brief diagnostic tes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 brief interview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omprehensive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819520" y="4330800"/>
            <a:ext cx="3492360" cy="67284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rehensive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84720" y="5429160"/>
            <a:ext cx="2222280" cy="88920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Brief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taff-Assist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 flipH="1">
            <a:off x="4578120" y="4986360"/>
            <a:ext cx="4680" cy="452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8" name="Line 11"/>
          <p:cNvSpPr/>
          <p:nvPr/>
        </p:nvSpPr>
        <p:spPr>
          <a:xfrm>
            <a:off x="45576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0" name="Line 16"/>
          <p:cNvSpPr/>
          <p:nvPr/>
        </p:nvSpPr>
        <p:spPr>
          <a:xfrm>
            <a:off x="4557600" y="3751200"/>
            <a:ext cx="14400" cy="59220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Career resources are identified on an Individual Learning Plan (ILP)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6087960" y="2692440"/>
            <a:ext cx="287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After assessing individual needs in comprehensive screening, staff judge that </a:t>
            </a:r>
            <a:r>
              <a:rPr b="0" lang="en-US" sz="1800" spc="-1" strike="noStrike" u="sng">
                <a:solidFill>
                  <a:srgbClr val="c8d1ee"/>
                </a:solidFill>
                <a:uFillTx/>
                <a:latin typeface="Arial"/>
              </a:rPr>
              <a:t>some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assistance is necessary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0123-69D7-4810-85C7-3AC8B198449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taff-Assisted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moderate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 for career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Moderate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assistance is provided to young people and adul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use of career resources is guided by a staff member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ection and sequencing of career resources is indicated on an individual learning plan (ILP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297F-1DC3-4576-8E52-E6E646DE0AE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Brief Staff-Assisted Servi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rop-in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horter-term group counsel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areer courses with large-group interac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Workshop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88D1-B1D8-4096-A6E8-F4FA5BBA036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rop-In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800100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taff-guided use of resources in a career resource room in a school or career center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Staff complete scheduled time in the career resource room with young people and adults served on a first-come, first-served basi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  <a:ea typeface="Times New Roman"/>
              </a:rPr>
              <a:t>Continuity in service delivery results from teamwork and collaboratively-developed written individual learning plans (ILPs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5020-E2D5-45D8-AAC9-F54EAAED14F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rop-In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360" y="2053800"/>
            <a:ext cx="784836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Young people and adults are not restricted to the available appointment times of any one staff member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 person can decide to see the same staff member by returning the next time the person is on dut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c8d1ee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Or, a person can return any time the career center is open and see a staff member on dut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C24B-12C6-4D40-9B96-D1A101C0B4E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rop-In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2053800"/>
            <a:ext cx="8001000" cy="462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Young people and adults (with staff input) decide how much time is needed to use career resour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sponsive to typical periods of high and low demand by increasing or decreasing the number of staff working in the resource room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High volume of young people and adults can be serv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Lowers service-delivery cost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AD8C-CCCA-43F4-A5E0-331DB226CF7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apabil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cognitive and affective capacity to engage in effective career choice behavio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ow are my career choices influenced by the way I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think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feel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1E3D-E2F4-40F3-8727-B5F4638CF6B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rop-In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quires staff to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stablish relationships quickl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larify progress in completing an ILP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vise the ILP if new needs become apparen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rve multiple young people and adults during one period of tim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576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articipate in common staff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4DD7-73D0-4328-A2AE-42D80355242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rop-In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vides young people and adults with immediate follow-up of resource us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Opportunity to facilitate learning during the “teachable moment”.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omprehensive Screening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819520" y="4330800"/>
            <a:ext cx="3492360" cy="67284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rehensive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6083280" y="5440320"/>
            <a:ext cx="2222640" cy="87804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Case-Manag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8" name="Line 10"/>
          <p:cNvSpPr/>
          <p:nvPr/>
        </p:nvSpPr>
        <p:spPr>
          <a:xfrm>
            <a:off x="4597560" y="5000760"/>
            <a:ext cx="2697120" cy="4093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45576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1" name="Line 16"/>
          <p:cNvSpPr/>
          <p:nvPr/>
        </p:nvSpPr>
        <p:spPr>
          <a:xfrm>
            <a:off x="4557600" y="3751200"/>
            <a:ext cx="14400" cy="59220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Again, career resources are identified on an Individual Learning Plan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6087960" y="2692440"/>
            <a:ext cx="287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After assessing individual needs in comprehensive screening, staff judge that </a:t>
            </a:r>
            <a:r>
              <a:rPr b="0" lang="en-US" sz="1800" spc="-1" strike="noStrike" u="sng">
                <a:solidFill>
                  <a:srgbClr val="c8d1ee"/>
                </a:solidFill>
                <a:uFillTx/>
                <a:latin typeface="Arial"/>
              </a:rPr>
              <a:t>substantial</a:t>
            </a: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 assistance is necessary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ADC2-C477-45FC-ACAD-E1B08C6049F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ndividual Case-Managed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or young people and adults with </a:t>
            </a: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low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readiness for career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758bd3"/>
                </a:solidFill>
                <a:latin typeface="Arial"/>
              </a:rPr>
              <a:t>Substantial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assistance provid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The use of career resources is guided by a staff member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election and sequencing of career resources is indicated on an individual learning plan (ILP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8278-7C10-4604-8538-05D2647864D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ndividual Case-Managed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dividual counsel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Longer-term group counsel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areer courses with frequent small-group interac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99F0-5E7D-48EA-B4E2-95E2E41CC7D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Moving Between Levels of Service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360" y="2053800"/>
            <a:ext cx="776268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adiness for career decision making can improve over tim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can move between levels of service delive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r, some individuals have difficulty in using resources and need more help, and move to a higher level of serv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ifferentiated Service Delivery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819520" y="4330800"/>
            <a:ext cx="3492360" cy="67284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Comprehensive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365640" y="2035080"/>
            <a:ext cx="2425680" cy="520920"/>
          </a:xfrm>
          <a:prstGeom prst="rect">
            <a:avLst/>
          </a:prstGeom>
          <a:solidFill>
            <a:srgbClr val="0c122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Individual Enter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727200" y="5424480"/>
            <a:ext cx="2216160" cy="89388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lf-Help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3384720" y="5429160"/>
            <a:ext cx="2222280" cy="88920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Brief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taff-Assist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6083280" y="5440320"/>
            <a:ext cx="2222640" cy="878040"/>
          </a:xfrm>
          <a:prstGeom prst="rect">
            <a:avLst/>
          </a:prstGeom>
          <a:solidFill>
            <a:srgbClr val="516ec9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Case-Managed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1226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9" name="Line 9"/>
          <p:cNvSpPr/>
          <p:nvPr/>
        </p:nvSpPr>
        <p:spPr>
          <a:xfrm flipH="1">
            <a:off x="4578120" y="4986360"/>
            <a:ext cx="4680" cy="452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597560" y="5000760"/>
            <a:ext cx="2697120" cy="4093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557600" y="2562120"/>
            <a:ext cx="0" cy="53352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2" name="Line 12"/>
          <p:cNvSpPr/>
          <p:nvPr/>
        </p:nvSpPr>
        <p:spPr>
          <a:xfrm flipH="1" flipV="1">
            <a:off x="1600200" y="4647960"/>
            <a:ext cx="1241280" cy="14040"/>
          </a:xfrm>
          <a:prstGeom prst="line">
            <a:avLst/>
          </a:prstGeom>
          <a:ln w="38160">
            <a:solidFill>
              <a:srgbClr val="c8d1ee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1523880" y="396252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8d1ee"/>
                </a:solidFill>
                <a:latin typeface="Arial"/>
              </a:rPr>
              <a:t>Self or  Staff</a:t>
            </a:r>
            <a:endParaRPr b="0" lang="en-US" sz="1600" spc="-1" strike="noStrike">
              <a:solidFill>
                <a:srgbClr val="c8d1e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8d1ee"/>
                </a:solidFill>
                <a:latin typeface="Arial"/>
              </a:rPr>
              <a:t>Referral</a:t>
            </a:r>
            <a:endParaRPr b="0" lang="en-US" sz="16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3124080" y="3092400"/>
            <a:ext cx="2813040" cy="6732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8d1ee"/>
                </a:solidFill>
                <a:latin typeface="Arial"/>
              </a:rPr>
              <a:t>Brief Screening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1190520" y="3429000"/>
            <a:ext cx="0" cy="198108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4557600" y="3751200"/>
            <a:ext cx="14400" cy="59220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1600200" y="4648320"/>
            <a:ext cx="0" cy="761760"/>
          </a:xfrm>
          <a:prstGeom prst="line">
            <a:avLst/>
          </a:prstGeom>
          <a:ln w="38160">
            <a:solidFill>
              <a:srgbClr val="c8d1e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2928960" y="6019920"/>
            <a:ext cx="457200" cy="0"/>
          </a:xfrm>
          <a:prstGeom prst="line">
            <a:avLst/>
          </a:prstGeom>
          <a:ln w="38160">
            <a:solidFill>
              <a:srgbClr val="c8d1e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2943360" y="5715000"/>
            <a:ext cx="457200" cy="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5613480" y="6019920"/>
            <a:ext cx="482400" cy="0"/>
          </a:xfrm>
          <a:prstGeom prst="line">
            <a:avLst/>
          </a:prstGeom>
          <a:ln w="38160">
            <a:solidFill>
              <a:srgbClr val="c8d1e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5613480" y="5715000"/>
            <a:ext cx="482400" cy="0"/>
          </a:xfrm>
          <a:prstGeom prst="line">
            <a:avLst/>
          </a:prstGeom>
          <a:ln w="38160">
            <a:solidFill>
              <a:srgbClr val="c8d1e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228600" y="6415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d1ee"/>
                </a:solidFill>
                <a:latin typeface="Arial"/>
              </a:rPr>
              <a:t>Complete differentiated model of delivering career resources and services</a:t>
            </a:r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3" name="Line 23"/>
          <p:cNvSpPr/>
          <p:nvPr/>
        </p:nvSpPr>
        <p:spPr>
          <a:xfrm flipH="1">
            <a:off x="1176480" y="3429000"/>
            <a:ext cx="1947600" cy="0"/>
          </a:xfrm>
          <a:prstGeom prst="line">
            <a:avLst/>
          </a:prstGeom>
          <a:ln w="3816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83A4-3DE8-4464-98BE-2BCB8DEE0AA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ssumptions of the Model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2054160"/>
            <a:ext cx="815364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ll young people and adults are greeted as they enter the career resource room by a trained staff member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Young people and adults can seek assistance on a self-help basi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BF45-A1BD-402D-883D-34A5C6115CE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ssumptions of the Model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2054160"/>
            <a:ext cx="815364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f problems occur with the use of self-help resources, staff are available to re-assess needs and make further recommendations about the use career resources and an appropriate level of service deliver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DDE6-57AC-4D24-B3C3-E6E307A021F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ssumptions of the Model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2054160"/>
            <a:ext cx="815364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Young people and adults and staff collaborate in deciding on an appropriate level of service delivery and appropriate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8BAC-E582-4714-BA96-7CC9CF01308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apabil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Honest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exploration of values, interests, and skil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Motivated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to learn about optio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ble to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think clearl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bout career problem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Confident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of their decision-making abil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BE0C-7B70-48F6-9035-1B010AC0A85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ssumptions of the Model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2054160"/>
            <a:ext cx="815364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source guides and individual learning plans are available to help young people and adults select, locate, sequence, and use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 matter what the level of service delivery provided (including self-help), staff periodically check with all young people and adults to determine if their needs are being me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BBFE-7023-4D05-A80B-F5AE6BCC89C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Seven-Step Sequence for Servi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73160" y="2054160"/>
            <a:ext cx="776592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1. Initial interview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2. Preliminary assessm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3. Define problem and identify caus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4. Formulate goa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5. Develop an individual learning pla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6. Complete the individual learning pla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7. Summative review and generaliz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530E-9A4D-4A94-B650-07979DCEE92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itial Interview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Gain information about the young person or adult’s problem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ffde53"/>
                </a:solidFill>
                <a:latin typeface="Arial"/>
              </a:rPr>
              <a:t> brief screening</a:t>
            </a: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 process also occurs at this step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9210-78E5-47B9-B85F-3172741F91C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itial Interview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2999"/>
              </a:spcBef>
              <a:buClr>
                <a:srgbClr val="c8d1ee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4866c6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4866c6"/>
                </a:solidFill>
                <a:latin typeface="Arial"/>
              </a:rPr>
              <a:t>What brings you here today?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5880" indent="-335880">
              <a:spcBef>
                <a:spcPts val="2999"/>
              </a:spcBef>
              <a:buClr>
                <a:srgbClr val="c8d1ee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de53"/>
                </a:solidFill>
                <a:latin typeface="Arial"/>
              </a:rPr>
              <a:t>"Can I see a list of local training programs?"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5880" indent="-335880">
              <a:spcBef>
                <a:spcPts val="2999"/>
              </a:spcBef>
              <a:buClr>
                <a:srgbClr val="c8d1ee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crete request - no problems apparen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No further screening needed -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ferral to self-help resour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DF1A-14E0-40C0-9E0B-C3B33D055F7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itial Interview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29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otential error in brief scree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18960" indent="-318960">
              <a:spcBef>
                <a:spcPts val="29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blematic use of resources detected by staff (the safety net),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18960" indent="-318960">
              <a:spcBef>
                <a:spcPts val="29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4866c6"/>
                </a:solidFill>
                <a:latin typeface="Arial"/>
              </a:rPr>
              <a:t>"Are you finding the information you need?"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18960" indent="-318960">
              <a:spcBef>
                <a:spcPts val="2999"/>
              </a:spcBef>
              <a:buClr>
                <a:srgbClr val="006699"/>
              </a:buClr>
              <a:buSzPct val="75000"/>
              <a:buFont typeface="Monotype Sort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f problems are apparent, more careful screening then occurs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43EB-4D2B-45A2-8587-C28E9E38BC8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nitial Interview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c8d1ee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de53"/>
                </a:solidFill>
                <a:latin typeface="Arial"/>
              </a:rPr>
              <a:t>"I have not done well in my training program and I don't know what to do."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c8d1ee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Vague request - potential problem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ore careful screening needed prior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o delivering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4B0A-9CDE-4FC9-ACA1-348260A6841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Preliminary Assessmen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Diagnostic assessment used to provide information about the young person or adult’s problem and readiness for decision making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measur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interview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cludes the </a:t>
            </a: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comprehensive screening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process described earlier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F168-FBB5-4125-B38A-69C340CA353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efine Problem and Identify Caus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 the problem as a gap between where the person is and where the person needs to be 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sider possible cause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mulate Goal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e practitioner and the young person or adult develop goals to narrow the ga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E14B-20A7-48E0-A145-26E493F4423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evelop an Individual Learning Plan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 the person to identify a sequence of resources and activities to meet their goa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C9E6-0CD3-46B2-AF5B-1171CC3EDD0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apabil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Willing to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assume responsibilit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for problem solv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ware of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thoughts and feelings influence behavior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ble to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monitor and control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problem solving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CBFB-19D6-4102-9F4F-25FB9C352D6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Differences in Plan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An individual learning plan is</a:t>
            </a:r>
            <a:br>
              <a:rPr sz="3200"/>
            </a:br>
            <a:r>
              <a:rPr b="0" lang="en-US" sz="3200" spc="-1" strike="noStrike" u="sng">
                <a:solidFill>
                  <a:srgbClr val="f4c6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a personal career pla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625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n individual </a:t>
            </a:r>
            <a:r>
              <a:rPr b="0" lang="en-US" sz="2800" spc="-1" strike="noStrike" u="sng">
                <a:solidFill>
                  <a:srgbClr val="ffde53"/>
                </a:solidFill>
                <a:uFillTx/>
                <a:latin typeface="Arial"/>
              </a:rPr>
              <a:t>career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plan is a list of the steps necessary to become employed, such as completing training and job search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2625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n individual </a:t>
            </a:r>
            <a:r>
              <a:rPr b="0" lang="en-US" sz="2800" spc="-1" strike="noStrike" u="sng">
                <a:solidFill>
                  <a:srgbClr val="ffde53"/>
                </a:solidFill>
                <a:uFillTx/>
                <a:latin typeface="Arial"/>
              </a:rPr>
              <a:t>learning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plan only identifies the resources and services used to make decisions at various points in a person’s career plan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768A-97B2-4A02-912C-B4756776B8C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964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mplete the Individual Learning Plan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llow-through with the IL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taff provid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ncouragemen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larific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odel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inforcemen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50B4-7D2E-41F0-B4F1-F2DAA5B7FEC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Summative Review and Generalization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scuss progress toward achieving goa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Make plans for future use of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 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scuss future use of problem-solving skil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68B7-5EA4-4C13-AA8C-4AA2CFA5A7D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590400"/>
            <a:ext cx="784836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Steps in Promoting Effective Use </a:t>
            </a:r>
            <a:br>
              <a:rPr sz="3600"/>
            </a:b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of Career Resource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-step proces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990720" indent="-533520">
              <a:spcBef>
                <a:spcPts val="2999"/>
              </a:spcBef>
              <a:buClr>
                <a:srgbClr val="f4c6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Understand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990720" indent="-533520">
              <a:spcBef>
                <a:spcPts val="2999"/>
              </a:spcBef>
              <a:buClr>
                <a:srgbClr val="f4c6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ecommend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990720" indent="-533520">
              <a:spcBef>
                <a:spcPts val="2999"/>
              </a:spcBef>
              <a:buClr>
                <a:srgbClr val="f4c6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rient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990720" indent="-533520">
              <a:spcBef>
                <a:spcPts val="2999"/>
              </a:spcBef>
              <a:buClr>
                <a:srgbClr val="f4c6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4F4F-5B95-4D26-8052-AF3D400A17B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ur-Step Proces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Understand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larifying the career assessment and information needs of an adolescent or adult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Recommend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uggestions about career assessments and information on the ILP that are appropriate for the needs of the adolescent or adul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F459-C695-4CC3-BE9D-C307069EC3B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ur-Step Proces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Orient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ing adolescents and adults to make effective use of career assessments and inform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hecking that adolescents and adults have appropriately used the resources and services on their ILP and that they have a plan of action for the futur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B87A-A49C-40C8-B54B-85419DB4DF5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ervice Delivery at a Distanc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liver services through the use of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e-mail, chat, telephone, or videoconferenc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livered to persons who ma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be underserved with face-to-face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fer the convenience of remote assistance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6256-C82A-4FEB-B66C-3AD4BA998AB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istance Counseling as a Necess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60400" y="2054160"/>
            <a:ext cx="828360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with disabilities who have mobility problem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in remote geographic areas who lack access to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seeking access to practitioners in other locations with specialized expertis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reluctant to seek help who use the Internet as a safe place to start obtaining resources and services 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6198-446D-4B2D-8705-C5F914342B8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46000" y="838080"/>
            <a:ext cx="829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istance Counseling as a Convenience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who want to access resources and receive services outside of normal business hou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ersons who want to access resources and receive services at their place of residence or work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3203-DFE1-4578-A301-B6B1BB21C79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Three Levels of Service Deliver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lf-help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sponding to questions about Web-site us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Brief staff-assiste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creening, recommending, orienting, and follow-up of Web-site us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dividual case-manage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dividual counseling at a distance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445C-112F-4342-8EB2-D8EA8404908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mplex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textual factors originating in the family, society, the economy, or employing organizations, that make it more (or less) difficult to make career cho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ow does the </a:t>
            </a: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world around m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influence my career choices?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9DCE-7EA9-441E-AF4A-DD4EC63D819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thical Issu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5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formed consen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ent suitabil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ent access and financial capabil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unselor competen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redential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3959-8E71-46C4-867C-BDAE554D814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thical Issu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ent technology skill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nfidential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ultural sensitiv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Right of redres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imited awareness of location-specific issu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Lack of clarity about practitioner credential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563C-9956-4FFB-BA4F-E89F558ED4D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8270-1C90-47AF-B0A1-77832CC062F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7716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, Reardon, R. C., Peterson, G. W., &amp; Lenz, J. G. (2004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counseling and services: A cognitive information processing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28A1-CC1B-4F98-ABCB-452F0A97D3F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1600" y="2054160"/>
            <a:ext cx="7861320" cy="456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6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Sampson, J. P., Jr., Peterson, G. W., Reardon, R. C., &amp; Lenz, J. G. (2007). </a:t>
            </a:r>
            <a:r>
              <a:rPr b="0" i="1" lang="en-US" sz="2800" spc="-1" strike="noStrike">
                <a:solidFill>
                  <a:srgbClr val="c8d1ee"/>
                </a:solidFill>
                <a:latin typeface="Arial"/>
              </a:rPr>
              <a:t>Key elements of the Cognitive Information Processing Approach to Designing Career Services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. Tallahassee, FL: Florida State University, Center for the Study of Technology in Counseling and Career Development. Retrieved November 9, 2007 from: </a:t>
            </a:r>
            <a:r>
              <a:rPr b="0" lang="en-US" sz="2800" spc="-1" strike="noStrike" u="sng">
                <a:solidFill>
                  <a:srgbClr val="4866c6"/>
                </a:solidFill>
                <a:uFillTx/>
                <a:latin typeface="Arial"/>
                <a:hlinkClick r:id="rId1"/>
              </a:rPr>
              <a:t>http://www.career.fsu.edu/techcenter/designing_career_services/index.html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27AD-2E0A-4734-9186-FD445BA904C0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mplexity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Family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facto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Social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facto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Economic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facto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Organizational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factor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Family Factors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20574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ew responsibilities and family support (posi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Deferral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compromise career development to meet needs of spouse or children or parents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Role overload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roles of worker, parent, son/daughter, homemaker, student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Dysfunctional family input</a:t>
            </a: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, e.g., over-functioning parents (negative)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4:50:32Z</dcterms:modified>
  <cp:revision>517</cp:revision>
  <dc:subject/>
  <dc:title>Implementing Computer-Assisted Career Guidance</dc:title>
</cp:coreProperties>
</file>