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C3FC-D69B-42F6-9BBF-2AB7C82D3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A838-DB22-4796-B241-AA681BB95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2120-E332-44F2-95DC-2F866643C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0E62-07C5-4664-8606-6437E3F61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BB38-8113-47A2-9BA0-F301566F20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0653-BD09-4B18-B69E-CDA5C0752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F458-71E8-4FBE-A339-CA3BC44DC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C954-634E-4324-BF70-B05EA83C5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C4A6-D33E-4756-A53F-F8241D4A1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E548-1094-4B92-9AB7-DDEFC998E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50A4-34AE-42BA-8278-BD8EAFDA0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EC99-AB2D-4A9F-9120-50913A5F2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086-62C3-4DF5-8E30-35FAAE3B1E8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71040"/>
            <a:ext cx="861048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82640"/>
            <a:ext cx="8653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ocial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ocial suppor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modeling, networking, and caring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iscrimin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age, disability, ethnicity, gender, immigration status, nationality, occupation, physical characteristics, poverty level, race, religion, sexual orientation, and social clas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ereotyp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lack of role model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bias in educ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harassment in education and employmen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conomic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ener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rate of change in the labor market influences stability of occupational knowledge – stable knowledge (positive), unstable knowledge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erson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influence of poverty on housing, health care, and childcare – adequate resources are positive, inadequate resources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576000"/>
            <a:ext cx="784836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rganizational Factors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(If the person is employed)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size of internal employment market – small internal job market is less complex (positive), large internal job market is more complicated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rganizational cultur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amount of support provided for career development – more support (positive), less suppor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ability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employment opportunities – more stability is positive, less stability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Low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High degree of                                    Moderate to low degre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upport needed                                   of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Individual Case-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Managed 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Moderate to low degree                       No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of support needed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lf-Help Mod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737-2B71-46E6-9200-F3ECA54DDA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stead of one level of service for all, three levels of service are needed to meet individual needs ranging from those who ar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motivated and able to learn successfully on their ow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ffering from low readiness for decision-making  who need substantial assistance to successfully lear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9AAD-661E-459A-8478-F67C483012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three levels of service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decision ma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Brief staff-assiste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1A7-8BEC-49A1-8C29-F7065FE584C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im of the 3 Service Delivery Level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6848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should receive the level of help they need, no more and no l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aim of the differentiated service delivery model (the CIP approach) is to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ed by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pers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level of suppor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t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lowest possible cos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CC87-0963-449A-884C-CEC4952F76F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01096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is key to the success of differentiated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void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v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high readiness young people and adults with costly individualized interventions that are not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Und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low readiness young people and adults with inadequate interventions from staff who are unaware of the substantial needs of the young person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6A5-21C7-42FE-87DB-CE75170BBD2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provides staff with a better chance to cost-effectively meet the needs of young people and adults in career centers and schoo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AFBC-7DE5-4028-8411-6ED7FD7D013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adiness for Career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ree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even-Step Service Delivery Sequ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eps in Promoting Effective Use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rvice Delivery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EEB-62B7-4434-BC33-3A8D97D6CE2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lso helps to better allocate staf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will be able to serve more young people and adults, or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pend more time with young people and adults with substantial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wo types o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rie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rehens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718-7EA8-4AF7-8521-C3D63153643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Brief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urs upon entry to the career resource room in a school or career cent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gn can be used that indicates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ws where brief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ws repeat users of the resource room to move directly to the resources or services they ne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 young person or adult enters a resource room in a school or career center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524640" y="250668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ask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What brings you here today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57280" y="250200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ign indicates 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881C-4B99-464F-9656-0B31C6E4300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ho enter the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enter are greeted by a staff member who might say,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he young person or adult responds with a concrete request for information, and there are no problems apparent, the individual is judged to hav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career choice and is referred to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staff support as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639-BE3C-4EA2-8A08-DD7715303B2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 would like to find information comparing the starting salaries of accountants and auditor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s is a concrete request for information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th no problems appar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fer to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3FAF-96F8-45D9-B465-8286E5EF787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Could I see information on the job outlook for computer programmers?"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</a:t>
            </a:r>
            <a:r>
              <a:rPr b="0" lang="en-US" sz="3200" spc="-1" strike="noStrike" u="sng">
                <a:solidFill>
                  <a:srgbClr val="c8d1ee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I am having difficulty choosing a training program that is right for me,"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64152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judge that a young person’s or adult’s needs can be met with self-help resour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81C-051D-4581-AF3B-B6EC7A5F3E8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each individual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determined by the information provided in the resource guid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B10E-8993-4224-86D6-2018217CFDA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inimal assistance is provided, although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periodically check to see if young people and adults are successfully using career resource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re available to respond to question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 suggest selected assessment, information, or instruc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to meet specific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A273-5403-4834-B3D9-B8B335197A4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age and maps help young people and adults to locate self-help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structions for using career resources are contained within each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can gain remote access to some of the career resources by accessing the Career Center Web si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630-BA19-429A-84D8-BDF0FB7A934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adiness for Career Cho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i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pa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an individual to make informed and careful career choices taking into account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mplex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family, social, economic, and organizational factors that influence career develop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also includes possessing adequat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iterac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for communication and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8346-4542-46EC-AE28-ECC99D2706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83808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blems young people and adults have in effectively using resources are detected by staff members circulating among young people and adults and as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516ec9"/>
                </a:solidFill>
                <a:latin typeface="Arial"/>
              </a:rPr>
              <a:t>"Are you finding the information you need?"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problems are apparent, then more careful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600" y="838080"/>
            <a:ext cx="837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If more help is needed in using resources, then needs are reassess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33440" y="208584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The safety net - “Are you finding the information you need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Brief screening indicates that a more careful career assessment is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400" y="8380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A57D-15A5-4A9A-AE04-5B7E96C62F1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amples of comprehensive screening can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diagnostic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interview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areer resources are identified on an Individual Learning Plan (ILP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om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2DC-46B7-41FA-AA0C-FD7CBE6D11D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3A7B-1DA9-44F0-BE5C-57CC261F8FD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rop-in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rt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large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6DF-E630-4917-A95E-F188761C8E6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80010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-guided use of resources in a career resource room in a school or career cent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Staff complete scheduled time in the career resource room with young people and adults served on a first-come, first-served basi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Continuity in service delivery results from teamwork and collaboratively-developed written individual learning plans (ILPs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1395-0F06-4A63-ACC8-B91746A1962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re not restricted to the available appointment times of any one staff memb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person can decide to see the same staff member by returning the next time the person is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r, a person can return any time the career center is open and see a staff member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A7D-8549-471A-9E59-A3925FD5C0D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800100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(with staff input) decide how much time is needed to use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sive to typical periods of high and low demand by increasing or decreasing the number of staff working in the resource roo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igh volume of young people and adults can be serv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wers service-delivery cos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7AB-5F4A-4503-8E5A-1B7F27C9825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cognitive and affective capacity to engage in effective career choice behavi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are my career choices influenced by the way I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9612-2ACC-414A-A3DA-E7411A3A0D1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quires staff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stablish relationships quickl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 progress in completing an IL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ILP if new needs become appar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rve multiple young people and adults during one period of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icipate in common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2A1-27D0-49E4-A6AB-CAC73A9458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young people and adults with immediate follow-up of resource us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pportunity to facilitate learning during the “teachable moment”.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gain, career resources are identified on an Individual Learning Plan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ubstantial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37B-4D79-46CE-844A-9C37A72266A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Substanti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provi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5EF-BF79-4283-AC88-11247C0F763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ng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frequent small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068-9D6D-45AB-B906-A2AB156E76C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Moving Between Levels of Servic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7626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for career decision making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move between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, some individuals have difficulty in using resources and need more help, and move to a higher level of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fferentiated Service Delivery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928960" y="601992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943360" y="571500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5613480" y="601992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5613480" y="571500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omplete differentiated model of delivering career resources and 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Line 23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5D6A-1A47-4734-BA74-896E7F1D513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young people and adults are greeted as they enter the career resource room by a trained staff memb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can seek assistance on a self-help ba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EA0-F4AF-48D0-8A06-5D99C9B979B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occur with the use of self-help resources, staff are available to re-assess needs and make further recommendations about the use career resources and an appropriate level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A25-9C60-4356-9349-0B328BA50B2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nd staff collaborate in deciding on an appropriate level of service delivery and appropriat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BC7-F145-4C0D-BEA2-FF8346B6E3C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nes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ploration of values, interests, and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tivated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o learn about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 clear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bout career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nfiden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their decision-making 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517-0DFA-4D7C-99CF-0B011267999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and individual learning plans are available to help young people and adults select, locate, sequence, and us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matter what the level of service delivery provided (including self-help), staff periodically check with all young people and adults to determine if their needs are being me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61A5-7DDB-4B60-85C8-65EB34DFD4B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even-Step Sequence for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73160" y="2054160"/>
            <a:ext cx="77659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1. Initial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. Preliminary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3. Define problem and identify caus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4. Formulate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5. Develop an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6. Complete the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7. Summative review and genera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C8F4-663F-4F8F-9C78-6D87D314750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Gain information about the young person or adult’s problem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ffde53"/>
                </a:solidFill>
                <a:latin typeface="Arial"/>
              </a:rPr>
              <a:t> brief screening</a:t>
            </a: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 process also occurs at this step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91ED-0477-4BCB-8DB3-63B5357B7AD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Can I see a list of local training programs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crete request - no problems appar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 -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ferral to self-help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F4F-6D0B-4A99-B32A-D63B8C9EAD0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error in brie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blematic use of resources detected by staff (the safety net),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"Are you finding the information you need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are apparent, more careful screening then occurs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76B1-92B5-40D3-BA93-11E4BC06CD6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I have not done well in my training program and I don't know what to do.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gue request - potential proble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re careful screening needed prior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 delivering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D21-0191-4F3F-8B0B-95A1ADCEF5B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eliminary Assessmen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Diagnostic assessment used to provide information about the young person or adult’s problem and readiness for decision making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cludes the </a:t>
            </a: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comprehensive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cess described earli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B42-6938-4541-B4B7-31E527C380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fine Problem and Identify Caus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the problem as a gap between where the person is and where the person needs to be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possible caus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mulate Goa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practitioner and the young person or adult develop goals to narrow the g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C27-7CC1-4C6E-BEC9-84119F1F850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velop an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the person to identify a sequence of resources and activities to meet their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D75C-18B0-4D47-8020-B14FDF6B6F3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lling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assume responsi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or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ware of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houghts and feelings influence behavio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nitor and contro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blem solving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E0A-824B-4CF0-A9F7-76211578E78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fferences in Plan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individual learning plan is</a:t>
            </a:r>
            <a:br>
              <a:rPr sz="3200"/>
            </a:b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 personal career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career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is a list of the steps necessary to become employed, such as completing training and job search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learn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only identifies the resources and services used to make decisions at various points in a person’s career pla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19E0-9BB3-490E-9925-FF54A1C6538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96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the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through with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ncourag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ic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inforc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FB5-CC71-431C-AEB2-67D2A7CCB6F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ummative Review and Generaliz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progress toward achieving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plans for future use of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future use of problem-solving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19C3-73BD-4DD2-A42D-1CE5D7D5005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590400"/>
            <a:ext cx="78483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teps in Promoting Effective Use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f Career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-step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E0A-904E-496A-A4BE-DF3C3E96BAD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ing the career assessment and information needs of an adolescent or adult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ggestions about career assessments and information on the ILP that are appropriate for the needs of the adolescent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AE5B-6279-4E63-AF6C-44E3214CEA3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ing adolescents and adults to make effective use of career assessments and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hecking that adolescents and adults have appropriately used the resources and services on their ILP and that they have a plan of action for the futu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813-10BC-43C8-8783-38956F4108C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 Delivery at a Dista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 services through the use of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-mail, chat, telephone, or videoconferenc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ed to persons who ma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 underserved with face-to-face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fer the convenience of remote assistance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C1D-CBBB-4F50-AA62-9155D917133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Necess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0400" y="2054160"/>
            <a:ext cx="82836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ith disabilities who have mobility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in remote geographic areas who lack access to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seeking access to practitioners in other locations with specialized experti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reluctant to seek help who use the Internet as a safe place to start obtaining resources and services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8B59-16F5-48F9-93AC-F21F9A6090C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46000" y="838080"/>
            <a:ext cx="829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Convenienc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outside of normal business hou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at their place of residence or work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36CC-83E0-465B-B2C0-A141A9D8DC7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f-help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ding to questions about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ief staff-assist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creening, recommending, orienting, and follow-up of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 at a dista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4AB-4846-4A42-8AAD-26265A65899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xtual factors originating in the family, society, the economy, or employing organizations, that make it more (or less) difficult to make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doe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world around m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 my career choices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50A-5BAB-45F9-9496-2700552C4BB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sui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access and financial cap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unselor compet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dential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5FE1-6E4D-47F4-ABE5-26F5BD25F9D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technology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ensi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ight of redr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ed awareness of location-specific iss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clarity about practitioner credenti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95D9-C069-4B08-A8DC-97DD04093EC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D6AE-D1DE-421E-A114-D67F75EA671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771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7D3-B1B1-43BD-97B1-805DB299ACF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786132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A3B-F90E-484E-84C8-89FD8F9DF2E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oci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rganization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Family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ew responsibilities and family support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eferr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compromise career development to meet needs of spouse or children or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ole overloa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roles of worker, parent, son/daughter, homemaker, studen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ysfunctional family inpu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over-functioning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4:50:32Z</dcterms:modified>
  <cp:revision>517</cp:revision>
  <dc:subject/>
  <dc:title>Implementing Computer-Assisted Career Guidance</dc:title>
</cp:coreProperties>
</file>