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25EE-399F-40D5-9F85-D996A76B6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DE01-258C-4726-98C6-749951841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EAD3-F2CB-4585-89C4-F2DEAC3E9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A1B4-1DF3-4DAF-8559-DF6CF3A0E5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0B0B-167C-4FFD-8086-EF07D920A9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8498-E0E5-4307-BFBB-C216A1B11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849A-9E7E-4B0C-AD17-0EFCE8D2F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0D13-579E-4C6E-BE3A-33D32058D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7F28-C929-496E-8ABC-1594884A8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819E-C42A-493D-8759-03B280B1C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0394-E123-4AFF-B0EA-AE8E44060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539E-BB01-4EF4-876A-B473A7DAE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9259-5948-46EB-ADE4-19C36B6A2E3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23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rvice-Delivery Tool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68240"/>
            <a:ext cx="86533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BF1A-C85D-4FE9-8020-97579FE7CC6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Assessment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measur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interview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B287-1F39-4136-A6E3-24BE63938C4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Measur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s clarify the nature of an adolescent’s or adult’s career proble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s estimate the readiness of an adolescent or adult for career decision mak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s the practitioner and the individual to determine the level of service need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5266-C208-4CB2-A2B3-886AADCD7DE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Measur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s should us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 combination of test resul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scussion of individual item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scussion of an individual’s situation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efore making suggestions about an individual’s readiness for career choic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7061-5687-47AA-8965-1E3F25F4FB3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Measur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haracteristics of effective diagnostic measur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Quickly administer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Quickly scor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aving appropriate norm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5EFA-CFBD-4F8A-8221-1990F182BEC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otential ques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you have any ideas about the type of education you’re looking for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you have any schools, colleges, or universities you’re considering right now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ny thoughts about job training that you are interested in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you have any training programs you’re considering right now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A7D0-8631-41B5-9B85-FB3426DE958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dividual Learning Plans (ILPs)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adolescents and adults with assistance in sequencing career resources and activities to meet identified goa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sed in both brief staff-assisted and individual case-manag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93CC-67E9-40DB-BFCE-AD9A1C78ADA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dividual Learning Plans (ILPs)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fter the initial ILP is complete, an adolescent or adult should have increased confidence that the practitioner i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cerned about their welfar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ble to help them better understand their career problem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knowledgeable about specific resources and services that relate to their career problem and goal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71C9-BCB3-412F-91BE-AA35EE5E3DB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quence for Developing an ILP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4c6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llaborate with the adolescent or adult in identifying goals for making a career decis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dentify a resource or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e the purpose of using the resource or completing the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84C0-831F-4823-AFE2-A41B9EC62F0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quence for Developing an ILP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4c6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e the estimated time commitment to use the resource or complete the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e the goal served by using the resource or completing the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fter all of the above are completed, select a priority order for using resources and completing activiti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3FFD-4A07-459E-8835-7671593D32C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otential Advantages of ILP Us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mote collaboration between the practitioner and the young person or adul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odel brainstorming in problem solv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onitor progress of the young person or adult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D7E7-B4B9-4F1A-8675-A7C8808133B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Signa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Ma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Resource Guid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Assess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 Learning Pla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2495-CA57-4392-B4AE-C2C82DF5054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EF24-CF9C-4B05-B8D3-80815BA9865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F04D-51D1-4A5A-9752-B719BD50B60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igna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ffective signage helps young people and adults identify the location of specific types of career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ome signs can be color coded to match specific resource guid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7EF2-4D85-4434-A06D-B456F44C87C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Map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map of the resource room can help young people and adults to locate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ypes of resources, such as books, files, and DV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D8E2-A4B8-41BE-AD2B-3D0E4A318BF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Guid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 match needs with appropriate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pecific career resources are related to topics (questions commonly asked by young people and adults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lection of topics and creation of the guides is based on the expert judgment of practitione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C61F-68E6-4E03-8B69-AEE04B5251F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Guid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 can also recommend a sequence of resources, such as reviewing basic information on occupations prior to conducting an information interview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, resources, and signs can be color coded to make it easier to locate specific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Guides should be available in multiple locations in the career resource roo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EF80-3160-4E8C-9EC2-02DC1FFFAF9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Limiting the Number of Guid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imiting the number of resource guides makes it easier to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rain staff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Keep the guides up-to-dat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egin with six resources guides (or twelve if multiple populations are served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0DDD-2435-4F2A-8138-02A267530EA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otential Resource Guide Titl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aking Career Decisions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About Yourself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About Occupations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ciding About Education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hoosing a Training Program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aying for Your Education or Training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Getting a Job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22CD-1716-41AD-A693-E82DF323EA9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lements of a Resource Guid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itle of the Resource Gu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tended Learning Outcome for the Gu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itle of the Resource or Serv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Outcome State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scription of the Resource or Serv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commendations for Effective Us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ocating the Resources or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02:52Z</dcterms:modified>
  <cp:revision>517</cp:revision>
  <dc:subject/>
  <dc:title>Implementing Computer-Assisted Career Guidance</dc:title>
</cp:coreProperties>
</file>