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96F9-742B-442B-A889-C2F5D7AEB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2DD2-2496-4FE7-AB3D-5D9286BF7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619F-B5E5-4544-B462-D8A899930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E419-50AB-4528-B7A9-712E5DA59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08F6-E65D-4F83-B344-B695A396A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FF52-8784-4BD1-AC84-61422557D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D4F3-DCDB-4A1A-A8FA-F433CEDFD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1201-20C7-4643-8DFF-E008E875F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DEA9-8315-4CE8-8D89-B45361836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011A-C70E-4921-81B9-AE240282D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35F9-91C8-4220-B9FB-F2F9B4605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45B8-875F-4878-BBE2-9F58D2032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010-9653-4894-9719-275B0F02431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-Delivery Too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851E-98EB-470F-8E77-8CA3B3719A2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Assessmen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5D0-FB35-4B3D-80C6-FF6E93427D0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clarify the nature of an adolescent’s or adult’s career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estimate the readiness of an adolescent or adult for career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the practitioner and the individual to determine the level of service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AFA1-64B6-4CFE-B81F-F3B30798554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s should us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combination of test res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individual ite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an individual’s situatio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fore making suggestions about an individual’s readiness for career choic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58EA-2FB9-4323-92C1-CD073F87A87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aracteristics of effective 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administ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sco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ing appropriate nor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D819-7760-4309-86E3-D4DDEED2CD7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ques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ideas about the type of education you’re looking for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schools, colleges, or universitie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y thoughts about job training that you are interested in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training program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208-EA81-4743-B5B8-AC4D57CC730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ssistance in sequencing career resources and activities to meet identified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d in both brief staff-assisted and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AAD-943E-4F14-A53F-0D22A6169F3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the initial ILP is complete, an adolescent or adult should have increased confidence that the practitioner 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cerned about their welfa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ble to help them better understand their career proble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nowledgeable about specific resources and services that relate to their career problem and goal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8A1B-1ACE-4C46-AC31-0107D01085A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llaborate with the adolescent or adult in identifying goals for making a career decis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dentify a resource or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purpose of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B7C6-E17F-4940-8042-7ECD3B92B54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estimated time commitment to use the resource or complete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goal served by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all of the above are completed, select a priority order for using resources and completing activ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5D64-D78E-4B61-B8C5-7CE6F54E6EF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Advantages of ILP Us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mote collaboration between the practitioner and the young person or adul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del brainstorming in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nitor progress of the young person or adul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7DB-5440-44DC-A8EE-A1EE62AE327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igna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M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75B2-3BF5-4E9D-A47D-FE6F8955021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1C83-2F7D-4517-864B-86301D2D03C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90CD-F806-43AD-94A8-A287B0FEB3F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igna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ffective signage helps young people and adults identify the location of specific types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signs can be color coded to match specific 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B35-52D7-45B4-8EFB-D133A91C532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map of the resource room can help young people and adults to locat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ypes of resources, such as books, files, and DV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8FD5-AD7D-4349-83E6-D2762ABDCD8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match needs with appropriate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are related to topics (questions commonly asked by young people and adults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on of topics and creation of the guides is based on the expert judgment of practitione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B09B-868A-4FD5-93DE-39A8A6EA011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can also recommend a sequence of resources, such as reviewing basic information on occupations prior to conducting an information interview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, resources, and signs can be color coded to make it easier to locate specific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uides should be available in multiple locations in 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FA03-5AC2-461E-A7B6-EE36B1C2C33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Limiting the Number of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ing the number of resource guides makes it easier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rain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eep the guides up-to-da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gin with six resources guides (or twelve if multiple populations are served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B3E9-316C-4BFB-BA68-D9BAD5A4CA1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Resource Guide Titl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ing Career Decis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Yourself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Occupat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ciding About Education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oosing a Training Program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ying for Your Education or Training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tting a Job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E507-9119-49DF-B51E-BDB12296091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lements of a Resource Gu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nded Learning Outcome for th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 State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scription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ations for Effective U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ocating the Resources or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02:52Z</dcterms:modified>
  <cp:revision>517</cp:revision>
  <dc:subject/>
  <dc:title>Implementing Computer-Assisted Career Guidance</dc:title>
</cp:coreProperties>
</file>