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0FEF7-A13C-40D4-A38D-1D8167D6ED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A63DD-0C17-4ED2-8AB3-D766937430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F3127-91D2-42A0-8551-462FA00027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392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9748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36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392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9748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6EE1D-C8C3-4155-8582-B06A01CA30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009A8-7BF1-490B-B8CC-113445F261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3E9B2-2667-4356-B365-660E2FEA5D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8AED5-44B1-44E1-993E-8414F8E24F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129DD-D7F7-4CF7-987D-017E1CEE40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8380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2FD17-E4B3-4368-82B3-BC0C71B0B0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54AB2-C075-456B-BF2A-88316EEB7D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0CB86-B9E7-4BFC-B001-03314DC8D3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DD15B-5DC1-40EE-83B2-28A8566B08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b18"/>
            </a:gs>
            <a:gs pos="100000">
              <a:srgbClr val="1926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114480" y="152280"/>
            <a:ext cx="761760" cy="6553440"/>
          </a:xfrm>
          <a:prstGeom prst="rect">
            <a:avLst/>
          </a:prstGeom>
          <a:gradFill rotWithShape="0">
            <a:gsLst>
              <a:gs pos="0">
                <a:srgbClr val="19264f"/>
              </a:gs>
              <a:gs pos="100000">
                <a:srgbClr val="111b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Line 11"/>
          <p:cNvSpPr/>
          <p:nvPr/>
        </p:nvSpPr>
        <p:spPr>
          <a:xfrm>
            <a:off x="873000" y="1908000"/>
            <a:ext cx="8271000" cy="3240"/>
          </a:xfrm>
          <a:prstGeom prst="line">
            <a:avLst/>
          </a:prstGeom>
          <a:ln w="101520">
            <a:solidFill>
              <a:srgbClr val="758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Line 12"/>
          <p:cNvSpPr/>
          <p:nvPr/>
        </p:nvSpPr>
        <p:spPr>
          <a:xfrm>
            <a:off x="871560" y="1828800"/>
            <a:ext cx="8272440" cy="12600"/>
          </a:xfrm>
          <a:prstGeom prst="line">
            <a:avLst/>
          </a:prstGeom>
          <a:ln w="76320">
            <a:solidFill>
              <a:srgbClr val="2a4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663040" y="6409800"/>
            <a:ext cx="482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c8d1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9C45-B32C-4597-829A-A53D226331CD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610480" cy="23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ervice-Delivery Tool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0320" y="2568240"/>
            <a:ext cx="865332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rom “Designing and Implementing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areer Programs: A Handbook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r Effective Practice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 P. Sampson, Jr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Copyright 2008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National Career Development Associ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0854-A653-474D-8485-04DABC3338E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Diagnostic Assessment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agnostic measur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agnostic interview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2E53-EF48-45FC-B6A4-7FB244ADD0C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Diagnostic Measur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elps clarify the nature of an adolescent’s or adult’s career problem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elps estimate the readiness of an adolescent or adult for career decision mak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elps the practitioner and the individual to determine the level of service needed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FB9A-ABF6-46A0-AE04-2A984C4826B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Diagnostic Measur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actitioners should use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 combination of test result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iscussion of individual item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iscussion of an individual’s situation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before making suggestions about an individual’s readiness for career choice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1802-60E8-465A-A2B3-EDEE881C15ED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Diagnostic Measur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haracteristics of effective diagnostic measur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c8d1e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Quickly administere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c8d1e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Quickly score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c8d1e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Having appropriate norm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3248-393E-4B12-86AC-B3C9F0920E4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Diagnostic Interview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otential ques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o you have any ideas about the type of education you’re looking for?”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o you have any schools, colleges, or universities you’re considering right now?”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ny thoughts about job training that you are interested in?”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o you have any training programs you’re considering right now?”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7520-D74F-4447-8987-BA2DDDAC21C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ndividual Learning Plans (ILPs)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ovides adolescents and adults with assistance in sequencing career resources and activities to meet identified goal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Used in both brief staff-assisted and individual case-managed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4201-1155-4BDC-B2B8-FEE07E3B86E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ndividual Learning Plans (ILPs)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fter the initial ILP is complete, an adolescent or adult should have increased confidence that the practitioner i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ncerned about their welfar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ble to help them better understand their career problem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knowledgeable about specific resources and services that relate to their career problem and goals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ECFA-3318-4E2F-BCB2-9A0C9755A6A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equence for Developing an ILP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46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4c6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ollaborate with the adolescent or adult in identifying goals for making a career decis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f4c6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dentify a resource or activ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f4c6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Note the purpose of using the resource or completing the activ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5354-06A1-44B1-9537-3F20B92819D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equence for Developing an ILP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4c600"/>
              </a:buClr>
              <a:buFont typeface="Arial"/>
              <a:buAutoNum type="arabicPeriod" startAt="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Note the estimated time commitment to use the resource or complete the activ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f4c600"/>
              </a:buClr>
              <a:buFont typeface="Arial"/>
              <a:buAutoNum type="arabicPeriod" startAt="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Note the goal served by using the resource or completing the activ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f4c600"/>
              </a:buClr>
              <a:buFont typeface="Arial"/>
              <a:buAutoNum type="arabicPeriod" startAt="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fter all of the above are completed, select a priority order for using resources and completing activiti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9BAF-AC68-44C6-BB1E-F7093ECF5D5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Potential Advantages of ILP Us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omote collaboration between the practitioner and the young person or adul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Model brainstorming in problem solv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Monitor progress of the young person or adult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9F68-53F8-4436-8BEA-25B15AC9D85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Organization of the Present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Signag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Map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Resource Guid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agnostic Assessmen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dividual Learning Pla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9EA3-0C6C-4824-ABD0-AACDD6B0C98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 (2008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Designing and implementing career programs: A handbook for effective practice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Broken Arrow, OK: National Career Development Association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FF2F-017C-4476-BE20-720883DC3FE6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, Reardon, R. C., Peterson, G. W., &amp; Lenz, J. G. (2004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Career counseling and services: A cognitive information processing approach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Pacific Grove, CA: Brooks/Cole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or more inform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54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www.career.fsu.edu/techcenter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7EBF-1464-426B-A110-D69859D4D0B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ignag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Effective signage helps young people and adults identify the location of specific types of career resour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ome signs can be color coded to match specific resource guid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3AD1-21CB-4713-9901-C72E72AE00C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Map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 map of the resource room can help young people and adults to locate: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ypes of resources, such as books, files, and DVD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511A-7D27-43BC-8E7D-14B0318D05E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source Guid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source guides match needs with appropriate resources and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pecific career resources are related to topics (questions commonly asked by young people and adults)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lection of topics and creation of the guides is based on the expert judgment of practitioner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E20B-03E3-402D-B1CB-E5CA874FDCC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source Guid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source guides can also recommend a sequence of resources, such as reviewing basic information on occupations prior to conducting an information interview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source guides, resources, and signs can be color coded to make it easier to locate specific resour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Guides should be available in multiple locations in the career resource room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7A32-20A8-449F-8316-EB1CB78F021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Limiting the Number of Guid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imiting the number of resource guides makes it easier to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rain staff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Keep the guides up-to-dat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Begin with six resources guides (or twelve if multiple populations are served)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DF67-037B-4CA8-8068-14BEAB334DE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Potential Resource Guide Titl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Making Career Decisions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earning About Yourself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earning About Occupations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eciding About Education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hoosing a Training Program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aying for Your Education or Training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Getting a Job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00D6-5767-413A-B4BA-3FEB73107D2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lements of a Resource Guid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itle of the Resource Guid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tended Learning Outcome for the Guid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itle of the Resource or Servi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earning Outcome Statemen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escription of the Resource or Servi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commendations for Effective Us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ocating the Resources or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4T12:25:10Z</dcterms:created>
  <dc:creator>College of Education</dc:creator>
  <dc:description/>
  <dc:language>en-US</dc:language>
  <cp:lastModifiedBy>mpowell</cp:lastModifiedBy>
  <cp:lastPrinted>2000-02-29T17:16:55Z</cp:lastPrinted>
  <dcterms:modified xsi:type="dcterms:W3CDTF">2008-05-08T15:02:52Z</dcterms:modified>
  <cp:revision>517</cp:revision>
  <dc:subject/>
  <dc:title>Implementing Computer-Assisted Career Guidance</dc:title>
</cp:coreProperties>
</file>