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8F237-3C07-491B-8186-79341E65B5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90360" y="4324680"/>
            <a:ext cx="784836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7E9A2-8224-47EF-A31A-AFE6A2F085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90360" y="432468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11920" y="432468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74300-06CF-4BE5-8288-6D19F4FB1E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3920" y="205416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97480" y="205416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90360" y="432468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3920" y="432468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97480" y="432468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D3D46-A54B-41BB-B23B-11FED83781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DDA7D-1FAA-44E2-9B4C-875BA6E9D4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B1421-EFF3-4CE6-B753-9165ED4B93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AA07D-92A6-48B6-8308-460C941BB0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5237F-BD2F-42F6-A884-6442D63EE4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838080"/>
            <a:ext cx="78483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2E453-6423-480C-B5B3-3BBEC150E4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90360" y="432468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CDCB5-275F-4969-B467-FFB8AB698F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11920" y="432468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DAAD6-C701-4EBC-A726-32F55130BC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360" y="4324680"/>
            <a:ext cx="784836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BEA79-9173-4928-B0A3-3D34C3F871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0b18"/>
            </a:gs>
            <a:gs pos="100000">
              <a:srgbClr val="1926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c8d1e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c8d1e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114480" y="152280"/>
            <a:ext cx="761760" cy="6553440"/>
          </a:xfrm>
          <a:prstGeom prst="rect">
            <a:avLst/>
          </a:prstGeom>
          <a:gradFill rotWithShape="0">
            <a:gsLst>
              <a:gs pos="0">
                <a:srgbClr val="19264f"/>
              </a:gs>
              <a:gs pos="100000">
                <a:srgbClr val="111b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" name="Line 11"/>
          <p:cNvSpPr/>
          <p:nvPr/>
        </p:nvSpPr>
        <p:spPr>
          <a:xfrm>
            <a:off x="873000" y="1908000"/>
            <a:ext cx="8271000" cy="3240"/>
          </a:xfrm>
          <a:prstGeom prst="line">
            <a:avLst/>
          </a:prstGeom>
          <a:ln w="101520">
            <a:solidFill>
              <a:srgbClr val="758b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" name="Line 12"/>
          <p:cNvSpPr/>
          <p:nvPr/>
        </p:nvSpPr>
        <p:spPr>
          <a:xfrm>
            <a:off x="871560" y="1828800"/>
            <a:ext cx="8272440" cy="12600"/>
          </a:xfrm>
          <a:prstGeom prst="line">
            <a:avLst/>
          </a:prstGeom>
          <a:ln w="76320">
            <a:solidFill>
              <a:srgbClr val="2a4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8663040" y="6409800"/>
            <a:ext cx="482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c8d1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AE08A-7E25-4170-B53B-9FF0D56F77B0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610480" cy="234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Service-Delivery Tool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90320" y="2568240"/>
            <a:ext cx="865332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rom “Designing and Implementing </a:t>
            </a:r>
            <a:br>
              <a:rPr sz="3200"/>
            </a:b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areer Programs: A Handbook </a:t>
            </a:r>
            <a:br>
              <a:rPr sz="3200"/>
            </a:b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or Effective Practice”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0" algn="ctr">
              <a:spcBef>
                <a:spcPts val="40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mes P. Sampson, Jr.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0" algn="ctr">
              <a:spcBef>
                <a:spcPts val="40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758bd3"/>
                </a:solidFill>
                <a:latin typeface="Arial"/>
              </a:rPr>
              <a:t>Copyright 2008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758bd3"/>
                </a:solidFill>
                <a:latin typeface="Arial"/>
              </a:rPr>
              <a:t>National Career Development Association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D7D7E-8D53-4429-94A1-E7255C844038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Diagnostic Assessment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Diagnostic measur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Diagnostic interview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AFD9E-DE30-4375-9EEE-84728CA05D70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Diagnostic Measure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Helps clarify the nature of an adolescent’s or adult’s career problem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Helps estimate the readiness of an adolescent or adult for career decision making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Helps the practitioner and the individual to determine the level of service needed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30EFE-2CCD-46C6-BF3E-267295CD1885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Diagnostic Measure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Practitioners should use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a combination of test result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discussion of individual item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discussion of an individual’s situation 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before making suggestions about an individual’s readiness for career choice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F8751-FE82-4A08-AB98-63F2363B20A5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Diagnostic Measure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haracteristics of effective diagnostic measur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c8d1ee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Quickly administered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c8d1ee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Quickly scored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c8d1ee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Having appropriate norm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FAC4B-07E8-4963-BC07-98E0B1DE377C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Diagnostic Interview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Potential question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Do you have any ideas about the type of education you’re looking for?”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Do you have any schools, colleges, or universities you’re considering right now?”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Any thoughts about job training that you are interested in?”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Do you have any training programs you’re considering right now?”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138E2-C97A-4A86-B611-38BB18440994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Individual Learning Plans (ILPs)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Provides adolescents and adults with assistance in sequencing career resources and activities to meet identified goal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Used in both brief staff-assisted and individual case-managed servic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81BAF-FB5F-4316-A268-245CF6CB281C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Individual Learning Plans (ILPs)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2054160"/>
            <a:ext cx="815328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After the initial ILP is complete, an adolescent or adult should have increased confidence that the practitioner i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oncerned about their welfare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able to help them better understand their career problem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knowledgeable about specific resources and services that relate to their career problem and goals 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3CACD-E959-44B4-8C8F-61D47AB80FC4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Sequence for Developing an ILP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46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f4c600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ollaborate with the adolescent or adult in identifying goals for making a career decision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609480" indent="-609480">
              <a:spcBef>
                <a:spcPts val="2001"/>
              </a:spcBef>
              <a:buClr>
                <a:srgbClr val="f4c600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Identify a resource or activity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609480" indent="-609480">
              <a:spcBef>
                <a:spcPts val="2001"/>
              </a:spcBef>
              <a:buClr>
                <a:srgbClr val="f4c600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Note the purpose of using the resource or completing the activity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AA167-4459-4BB4-A444-486577720A3D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Sequence for Developing an ILP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f4c600"/>
              </a:buClr>
              <a:buFont typeface="Arial"/>
              <a:buAutoNum type="arabicPeriod" startAt="4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Note the estimated time commitment to use the resource or complete the activity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609480" indent="-609480">
              <a:spcBef>
                <a:spcPts val="2001"/>
              </a:spcBef>
              <a:buClr>
                <a:srgbClr val="f4c600"/>
              </a:buClr>
              <a:buFont typeface="Arial"/>
              <a:buAutoNum type="arabicPeriod" startAt="4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Note the goal served by using the resource or completing the activity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609480" indent="-609480">
              <a:spcBef>
                <a:spcPts val="2001"/>
              </a:spcBef>
              <a:buClr>
                <a:srgbClr val="f4c600"/>
              </a:buClr>
              <a:buFont typeface="Arial"/>
              <a:buAutoNum type="arabicPeriod" startAt="4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After all of the above are completed, select a priority order for using resources and completing activiti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EB7A0-F359-4D68-8E51-7866B80FB987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Potential Advantages of ILP Use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Promote collaboration between the practitioner and the young person or adult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Model brainstorming in problem solving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Monitor progress of the young person or adult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80DCA-65AE-4F90-BEA3-0976F4C2BE0B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Organization of the Presentation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  <a:ea typeface="Times New Roman"/>
              </a:rPr>
              <a:t>Signag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  <a:ea typeface="Times New Roman"/>
              </a:rPr>
              <a:t>Map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  <a:ea typeface="Times New Roman"/>
              </a:rPr>
              <a:t>Resource Guid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Diagnostic Assessment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Individual Learning Plan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BCB99-AC6F-43E0-A61D-050F8B643F72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ampson, J. P., Jr. (2008). </a:t>
            </a:r>
            <a:r>
              <a:rPr b="0" i="1" lang="en-US" sz="3200" spc="-1" strike="noStrike">
                <a:solidFill>
                  <a:srgbClr val="c8d1ee"/>
                </a:solidFill>
                <a:latin typeface="Arial"/>
              </a:rPr>
              <a:t>Designing and implementing career programs: A handbook for effective practice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. Broken Arrow, OK: National Career Development Association.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63FB5-2ECF-4A93-82C6-1A6095EDCF33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720" y="2054160"/>
            <a:ext cx="815328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ampson, J. P., Jr., Reardon, R. C., Peterson, G. W., &amp; Lenz, J. G. (2004). </a:t>
            </a:r>
            <a:r>
              <a:rPr b="0" i="1" lang="en-US" sz="3200" spc="-1" strike="noStrike">
                <a:solidFill>
                  <a:srgbClr val="c8d1ee"/>
                </a:solidFill>
                <a:latin typeface="Arial"/>
              </a:rPr>
              <a:t>Career counseling and services: A cognitive information processing approach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. Pacific Grove, CA: Brooks/Cole.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For more information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546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c8d1ee"/>
                </a:solidFill>
                <a:latin typeface="Arial"/>
              </a:rPr>
              <a:t>www.career.fsu.edu/techcenter</a:t>
            </a:r>
            <a:endParaRPr b="0" lang="en-US" sz="36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F9292-6ED1-4B09-9D18-5EA55F22E67A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Signage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Effective signage helps young people and adults identify the location of specific types of career resourc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ome signs can be color coded to match specific resource guid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C46BD-8DC7-484D-8CE6-EC3A13EBB54B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Map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A map of the resource room can help young people and adults to locate: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Types of resources, such as books, files, and DVD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D5878-CB3D-42AA-995C-1EFB083F25DB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Resource Guid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Resource guides match needs with appropriate resources and servic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pecific career resources are related to topics (questions commonly asked by young people and adults)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election of topics and creation of the guides is based on the expert judgment of practitioner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DF151-D8BE-4F9E-BE71-F40619A54334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Resource Guid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2054160"/>
            <a:ext cx="815328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Resource guides can also recommend a sequence of resources, such as reviewing basic information on occupations prior to conducting an information interview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Resource guides, resources, and signs can be color coded to make it easier to locate specific resourc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Guides should be available in multiple locations in the career resource room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943A4-FF73-47A7-BB35-D99C832B0E1E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Limiting the Number of Guid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Limiting the number of resource guides makes it easier to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Train staff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Keep the guides up-to-date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Begin with six resources guides (or twelve if multiple populations are served)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A5B44-3ADB-4A5A-B262-41CFC27D908E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Potential Resource Guide Titl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Making Career Decisions”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Learning About Yourself”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Learning About Occupations”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Deciding About Education”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hoosing a Training Program”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Paying for Your Education or Training”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Getting a Job”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86CC0-F9E8-4675-B34F-CBA92B538A96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Elements of a Resource Guide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2054160"/>
            <a:ext cx="815328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Title of the Resource Guid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Intended Learning Outcome for the Guid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Title of the Resource or Servic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Learning Outcome Statement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Description of the Resource or Servic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Recommendations for Effective Us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Locating the Resources or Servic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04T12:25:10Z</dcterms:created>
  <dc:creator>College of Education</dc:creator>
  <dc:description/>
  <dc:language>en-US</dc:language>
  <cp:lastModifiedBy>mpowell</cp:lastModifiedBy>
  <cp:lastPrinted>2000-02-29T17:16:55Z</cp:lastPrinted>
  <dcterms:modified xsi:type="dcterms:W3CDTF">2008-05-08T15:02:52Z</dcterms:modified>
  <cp:revision>517</cp:revision>
  <dc:subject/>
  <dc:title>Implementing Computer-Assisted Career Guidance</dc:title>
</cp:coreProperties>
</file>