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3806-3224-423E-9E2A-3FA8B9B1D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C512-DEBA-417E-9619-9C1394F7C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D39B-14D0-48F9-BD11-021A78D05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5FC3-BE93-44C3-ACDC-C063DB4D1E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932B-B481-4446-8449-82807CFD8D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08CD-3CDC-440B-9733-1D90C6963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47DE-0173-486C-B80B-71485A0B7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BA5E-DD9E-44DA-B54F-8FC86BE60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DB3C-6DD0-45AC-AF49-0FD2E56CF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D711-6E99-426A-B7DE-E40A811EE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5BCA-096B-44D9-BEA0-25382EF48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8119-4B0C-4B98-8051-DEFABE642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F153-2F7B-4C74-B2CB-B056C0125A0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rvice-Delivery Tool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68240"/>
            <a:ext cx="86533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7237-2AFB-45BC-B083-6D436D952BF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Assessment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measur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interview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2F59-C3D1-492E-92F1-368BB4157EE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clarify the nature of an adolescent’s or adult’s career proble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estimate the readiness of an adolescent or adult for career decision mak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s the practitioner and the individual to determine the level of service need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9A75-A80A-4357-B407-8BD45D9A638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s should us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combination of test resul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scussion of individual item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scussion of an individual’s situation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efore making suggestions about an individual’s readiness for career choice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A14C-B110-4DFD-A615-EC09F80E1C3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Measur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haracteristics of effective diagnostic measur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ickly administer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ickly scor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aving appropriate norm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8D05-D2A0-4122-8283-9835547A303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agnostic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otential ques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ideas about the type of education you’re looking for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schools, colleges, or universities you’re considering right now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y thoughts about job training that you are interested in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o you have any training programs you’re considering right now?”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5C5E-9F9A-4EEA-B15F-41B41CCBF40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dividual Learning Plans (ILPs)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adolescents and adults with assistance in sequencing career resources and activities to meet identified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sed in both brief staff-assisted and individual case-manag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E550-A9E3-42B5-A65D-3CF818020FE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dividual Learning Plans (ILPs)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fter the initial ILP is complete, an adolescent or adult should have increased confidence that the practitioner i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cerned about their welfar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ble to help them better understand their career problem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knowledgeable about specific resources and services that relate to their career problem and goal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FE39-6155-478A-8ECE-F9ECCC6C0B7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quence for Developing an IL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llaborate with the adolescent or adult in identifying goals for making a career decis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dentify a resource or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purpose of using the resource or completing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3997-2BBE-47CF-A6D5-F71B0E9874C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quence for Developing an IL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estimated time commitment to use the resource or complete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te the goal served by using the resource or completing the ac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f4c6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fter all of the above are completed, select a priority order for using resources and completing activiti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2760-A0D9-41CA-87D6-240AD3D3D79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otential Advantages of ILP Us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mote collaboration between the practitioner and the young person or adul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odel brainstorming in problem solv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onitor progress of the young person or adult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46C6-18AC-4CDA-B805-50EC22EEE07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Signag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Ma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Resource Guid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Assess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 Learning Pla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0645-7381-42BF-AD55-984F4BC573F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B974-B10E-4E4B-993F-6C61705E157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E624-761C-482C-B987-9D818F67628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ignag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ffective signage helps young people and adults identify the location of specific types of career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ome signs can be color coded to match specific resource guid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47A6-ADE9-42ED-8A5E-6EE01FB7494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Map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map of the resource room can help young people and adults to locate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ypes of resources, such as books, files, and DV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D358-5048-45DC-8D53-4FBA966CF2F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 match needs with appropriate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pecific career resources are related to topics (questions commonly asked by young people and adults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lection of topics and creation of the guides is based on the expert judgment of practitione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E8D6-8185-406F-A2F4-7E2227D7210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source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 can also recommend a sequence of resources, such as reviewing basic information on occupations prior to conducting an information interview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, resources, and signs can be color coded to make it easier to locate specific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Guides should be available in multiple locations in the career resource roo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8261-1DF7-40B5-9437-360A75430E9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Limiting the Number of Guid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imiting the number of resource guides makes it easier to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rain staf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Keep the guides up-to-dat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egin with six resources guides (or twelve if multiple populations are served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1780-7247-4CC7-A0EE-D67D01B217E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otential Resource Guide Titl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aking Career Decisions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About Yourself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About Occupations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ciding About Education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hoosing a Training Program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aying for Your Education or Training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Getting a Job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7779-D2CC-4426-A7DE-A85C9263FF7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lements of a Resource Guid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itle of the Resource Gu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tended Learning Outcome for the Gu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itle of the Resource or Serv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earning Outcome State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scription of the Resource or Serv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commendations for Effective Us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ocating the Resources or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02:52Z</dcterms:modified>
  <cp:revision>517</cp:revision>
  <dc:subject/>
  <dc:title>Implementing Computer-Assisted Career Guidance</dc:title>
</cp:coreProperties>
</file>