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7FF83-5193-4B61-9F2F-A0D61495A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E497-BDEF-4F99-AE21-462F2A15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235ED-65AC-4EE0-B82E-AC87C02A8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BCB8C-CAC6-47DA-ACFC-AF4CF1C4C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EB62F-BEA9-4A39-88BB-5A9669269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1A263-1266-4391-BFFC-D568FEC4A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0BB67-4726-4963-9EFB-426B2A8EB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DA855-E3CC-488F-8B08-44787AA78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21729-DC99-48EF-80F3-881BED3E9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37884-A766-401C-B775-7B962CFF2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097D0-4422-411D-AF4B-BE486AC9C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35420-1500-432D-98DA-CE7DA544B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461C9-ABCD-46B2-A882-826A0769C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93D40-F18A-4DBD-A925-D84F10343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91712-9896-4A46-9560-3DD1368A1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5D372-EEE8-4BC8-9940-6CE682D57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31627-D812-4754-9717-D41A2BE9F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CC616FC-ECBB-4D42-A0E2-57E1CBE04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971B08-C772-4C0E-8D36-B58C3DD0C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C7D5D5-CE8B-4D3F-AC73-AA48BC0CA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557F53-B859-443D-B066-74C2DD62C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7FF067-B1CA-431D-836B-9498DC0B8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4FF02-EF9A-4FD8-91F9-F8C5B1F21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537019-781F-4C34-8055-5BF2A41371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DAD06D-F115-4748-8EF1-06608F30D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27F21A-FFE2-4135-AC63-34534008A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07306A-1C32-4994-819F-1F953C805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705B6C-C8AB-49CA-83B7-2485344CD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792BCEF-0F2E-4FBC-BE04-8A68CA03DC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7F12E10-328E-47BE-B60B-783C6C3B8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67FD969-00F9-492A-A397-D2BA934E98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5FA441-37C1-4098-A165-33EE6DB84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0DA2B4-F6D4-4BB5-99C9-49B72865C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23D4-69EE-4815-8EDA-165675813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62BE81-2322-4771-838C-9F2B7B12F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9CF6861-5683-4150-B15B-7342647C2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9D8C238-7199-457D-92C0-96B694FEC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C12F50-1659-4DA2-BBAD-69270BAE3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877BF4-BADB-425D-BF46-DAB95D2CF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15C39F3-267D-452A-97BD-6C1E1D59C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88FE40-BF51-41E5-8467-9944C7A7E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AB39D08-E861-41B0-AE0B-E7EBBA569C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2065F8-A90B-48E3-A777-FFF69C79D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2606ECE-6394-4A5D-AE33-C511DCA629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A3A88-6C46-4574-89BA-4A9B0DD97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38233A-E88F-4C3E-916A-5BA409CBA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E582E2-322D-467A-82CA-657707AD4A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DB3198-4771-4AE0-8FF9-375077C80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A4CE79-50D8-4BB3-8C84-4CD2C0695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63A016B-828F-4BEF-9784-633045FBC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1B13EB-22F6-4615-B3E5-E9D259369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CD0A9B-0A29-4FE2-9C59-C5E81B740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5756F1-AE56-48EF-ACB8-2B93B707A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8AD931-AF4A-46B8-A2B4-1EA5ABA0E1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255BB12-D923-47CB-A06F-E2F16E62FC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6C731-A0F1-44C1-9DB6-F79DDDDA4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412A5F-5F89-4805-B236-2CCAB041AA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4E5504-97C9-46FB-A3B3-4A62599DF2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778CD-5F4E-43F1-B98C-B8BDBB8CEB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81EF63-845B-4C9C-BA9A-6157417AD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2B2680-95CE-4021-8594-981A8F203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5CFDDA-8962-413D-8F25-E9DD90917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36C48-4E90-4F0A-A318-41DB5464C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3DC34-BDEA-47CF-BC7F-89EBEA93A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2A2D1-8CA9-4AF1-A254-4CB88A779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F58750-597B-4E1D-8D53-AB95FC3DC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D0071-9173-4653-B40D-1432F0688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DEE40-A97E-4A67-B3D2-7F9F97A42C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F57893-463B-47DC-8D37-E5760F41C2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947758-2075-4518-B46B-57B128AF0F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82982EB-2EDA-4CFA-AE71-8AAE6A595A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DB6F65-4FB2-4C3C-A26A-E61F7E3DDC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3BEF451-CA57-45C3-9828-A0E04E459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1DF897A-B6A1-466E-97F0-174B30A55D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BAB95C6-A810-4FF4-9D84-521EA025D7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ACBECC-15AA-4416-99FB-6AD4605551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A9F871-CFFF-4149-A241-D03D1C0A8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8A40B-AB97-494A-86E5-DF9DAD85B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9CBF6E-1DEC-4E6C-A8F6-28A4646E13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46DB37-848F-4639-B099-762F75AC5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8E49E73-17F2-4D06-BC4B-8A8ED1CEC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7B1855A-84B1-40B4-ADC9-4DBEB79EB0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9C7E7F1-8BE3-4410-AC11-ED495DBAB7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62CE7A-A7C6-4BD0-8E7F-370A076267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024B6-4B37-4BB7-BFF2-41050D7681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F7ED66-AD3E-4A57-954E-D614DCE6D3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5E598-8AB2-4706-92DE-833BBD2117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001DC-5642-4993-9412-5ADDFBDADD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60E5-EF34-4720-9FA2-2CD7AF036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248314-8CA5-478B-80CA-BCE3768931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AF5B1-7830-4970-8109-87D2270A1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0F3FC7-2257-42ED-8E77-E80A8F6E5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94667-43C3-41D2-9A4B-EC9202584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D1E88B-9CAF-4E0A-9741-4E490E3523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8CE9B7-8FDB-4C31-8CE7-B03C212E70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490114-D353-471D-94B4-244FB1C47BD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3C2F-A29E-404B-8FCD-56BC9F6344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23F6-037C-4C6D-9DAB-51440A8484DF}"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77BF-6CA2-4C9D-897E-76E47D9BF49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5760-E657-4D70-9B8B-B85AD8B0D6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0E77-D987-47BB-8976-13D021CF3C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0334-B0E4-40C4-84BB-B99599BF96DC}"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C398-7740-492A-82F1-00FD26A5014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C1AE-FCA2-49B2-B2B6-36AFC4277F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cda.org/" TargetMode="External"/><Relationship Id="rId2" Type="http://schemas.openxmlformats.org/officeDocument/2006/relationships/hyperlink" Target="mailto:mpowell@ncda.org" TargetMode="External"/><Relationship Id="rId3" Type="http://schemas.openxmlformats.org/officeDocument/2006/relationships/hyperlink" Target="http://www.cce-global.org/" TargetMode="External"/><Relationship Id="rId4" Type="http://schemas.openxmlformats.org/officeDocument/2006/relationships/hyperlink" Target="mailto:gwelch@cce-global.or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440" y="4038480"/>
            <a:ext cx="701028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NATIONAL CAREER DEVELOPMENT ASSOCIATION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722160" y="2209320"/>
            <a:ext cx="7772400" cy="20574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Career Development Facilitator Instructor Meeting</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NCDA Global Career Conference</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July 2, 2011</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an Antonio, Texas</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Search</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anded coverage of networking with a special emphasis on social networking</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s for helping clients to understand job search from an employer perspective</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on addressing stress in the job search, particularly during difficult economic tim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echnology and Career Information</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masterful merger of previous individual chapters on the use of computers and information in career planning, including widely used and emerging technologie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s for helping clients to become more information literate</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idelines for CDFs on the selection and effective use of technologies in the career planning proces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thics</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cus on NCDA’s code of ethics as a robust and inclusive guide for career professionals, including CDF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activity on personal values and their impact on professional decision-mak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dated case studies and enhanced scenario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roups</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emphasis on the delivery of career services in groups, including workshop planning and preparation of mate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nderstanding classroom dynamics and learning styles and customizing instruction to address individual nee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gram Planning/Implementation</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panded to a comprehensive 12-step model of program development focusing on best practices and crucial roles for CDFs</a:t>
            </a: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uided activities that parallel the 12-step process and offer participants opportunities to practice these skills first hand </a:t>
            </a: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formation on the importance of stakeholders in implementation of career programs and how CDFs can involve these key players to increase the likelihood of the program’s success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dc3"/>
                </a:solidFill>
                <a:latin typeface="Tw Cen MT"/>
              </a:rPr>
              <a:t>NCDA MASTER TRAINERS</a:t>
            </a:r>
            <a:endParaRPr b="0" lang="en-US" sz="6000" spc="-1" strike="noStrike">
              <a:solidFill>
                <a:srgbClr val="ebddc3"/>
              </a:solidFill>
              <a:latin typeface="Tw Cen MT"/>
            </a:endParaRPr>
          </a:p>
        </p:txBody>
      </p:sp>
      <p:sp>
        <p:nvSpPr>
          <p:cNvPr id="379" name="PlaceHolder 2"/>
          <p:cNvSpPr>
            <a:spLocks noGrp="1"/>
          </p:cNvSpPr>
          <p:nvPr>
            <p:ph type="subTitle"/>
          </p:nvPr>
        </p:nvSpPr>
        <p:spPr>
          <a:xfrm>
            <a:off x="914400" y="2057040"/>
            <a:ext cx="7772400" cy="1268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Master Trainer Workshop</a:t>
            </a:r>
            <a:endParaRPr b="0" lang="en-US" sz="42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xt training is scheduled for November 13-16, 2011 in Dallas, Texa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lication form will be posted to NCDA website before August 1 and will be due September 15.</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ster Trainer Workshop</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ments</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isting NCDA CDF Instructor </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 years experience training adult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resented on career topic at state or national conference OR published articles on career topic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ust have taught at least 5 CDF training classe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0768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lete application form will be available at www.ncdacdf.org before August 1.</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75f55"/>
                </a:solidFill>
                <a:latin typeface="Tw Cen MT"/>
              </a:rPr>
              <a:t>Questions or Comments????</a:t>
            </a:r>
            <a:r>
              <a:rPr b="0" lang="en-US" sz="4600" spc="-1" strike="noStrike">
                <a:solidFill>
                  <a:srgbClr val="775f55"/>
                </a:solidFill>
                <a:latin typeface="Tw Cen MT"/>
              </a:rPr>
              <a:t>	</a:t>
            </a:r>
            <a:endParaRPr b="0" lang="en-US" sz="46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ry Ann Powell</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ecial Projects Director</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tional Career Development Association</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5 North Beech Circle</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roken Arrow, OK 74012</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hone: (918) 663-7060</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ll Free: (866) 367-6232</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powell@ncda.org</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ww.ncdacdf.or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amp;A</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ry Ann Powell, Special Projects Director, National Career Development Association (NCDA), </a:t>
            </a:r>
            <a:r>
              <a:rPr b="0" lang="en-US" sz="2900" spc="-1" strike="noStrike" u="sng">
                <a:solidFill>
                  <a:srgbClr val="f7b615"/>
                </a:solidFill>
                <a:uFillTx/>
                <a:latin typeface="Tw Cen MT"/>
                <a:hlinkClick r:id="rId1"/>
              </a:rPr>
              <a:t>www.ncda.org</a:t>
            </a:r>
            <a:r>
              <a:rPr b="0" lang="en-US" sz="2900" spc="-1" strike="noStrike">
                <a:solidFill>
                  <a:srgbClr val="000000"/>
                </a:solidFill>
                <a:latin typeface="Tw Cen MT"/>
              </a:rPr>
              <a:t>, </a:t>
            </a:r>
            <a:r>
              <a:rPr b="0" lang="en-US" sz="2900" spc="-1" strike="noStrike" u="sng">
                <a:solidFill>
                  <a:srgbClr val="f7b615"/>
                </a:solidFill>
                <a:uFillTx/>
                <a:latin typeface="Tw Cen MT"/>
                <a:hlinkClick r:id="rId2"/>
              </a:rPr>
              <a:t>mpowell@ncda.or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abby Welch, GCDF Program Coordinator, Center for Credentialing &amp; Education (CCE),          </a:t>
            </a:r>
            <a:r>
              <a:rPr b="0" lang="en-US" sz="2900" spc="-1" strike="noStrike" u="sng">
                <a:solidFill>
                  <a:srgbClr val="f7b615"/>
                </a:solidFill>
                <a:uFillTx/>
                <a:latin typeface="Tw Cen MT"/>
                <a:hlinkClick r:id="rId3"/>
              </a:rPr>
              <a:t>www.cce-global.org</a:t>
            </a:r>
            <a:r>
              <a:rPr b="0" lang="en-US" sz="2900" spc="-1" strike="noStrike">
                <a:solidFill>
                  <a:srgbClr val="000000"/>
                </a:solidFill>
                <a:latin typeface="Tw Cen MT"/>
              </a:rPr>
              <a:t>, </a:t>
            </a:r>
            <a:r>
              <a:rPr b="0" lang="en-US" sz="2900" spc="-1" strike="noStrike" u="sng">
                <a:solidFill>
                  <a:srgbClr val="f7b615"/>
                </a:solidFill>
                <a:uFillTx/>
                <a:latin typeface="Tw Cen MT"/>
                <a:hlinkClick r:id="rId4"/>
              </a:rPr>
              <a:t>gwelch@cce-global.org</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828440" y="3124080"/>
            <a:ext cx="701028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dc3"/>
                </a:solidFill>
                <a:latin typeface="Tw Cen MT"/>
              </a:rPr>
              <a:t>2011 NCDA CDF ACTIVITIES </a:t>
            </a:r>
            <a:endParaRPr b="0" lang="en-US" sz="6000" spc="-1" strike="noStrike">
              <a:solidFill>
                <a:srgbClr val="ebddc3"/>
              </a:solidFill>
              <a:latin typeface="Tw Cen MT"/>
            </a:endParaRPr>
          </a:p>
        </p:txBody>
      </p:sp>
      <p:sp>
        <p:nvSpPr>
          <p:cNvPr id="353" name="PlaceHolder 2"/>
          <p:cNvSpPr>
            <a:spLocks noGrp="1"/>
          </p:cNvSpPr>
          <p:nvPr>
            <p:ph type="subTitle"/>
          </p:nvPr>
        </p:nvSpPr>
        <p:spPr>
          <a:xfrm>
            <a:off x="914400" y="2133360"/>
            <a:ext cx="7772400" cy="1268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Activities</a:t>
            </a:r>
            <a:endParaRPr b="0" lang="en-US" sz="42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Detailed Survey and analysis of CDF Curriculum was conducted. Results are being used to update and revise CDF Curriculum. Third Edition of Facilitating Career Development is scheduled to be completed and available for purchase in December 2011.</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inkedIn Group is active and ongoing.</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ngoing development of new materials and updating of additional resources for the CDF Instructors on the Secure Section of the CDF website.</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Activities Cont.</a:t>
            </a:r>
            <a:endParaRPr b="0" lang="en-US" sz="42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Solicited nominations for the 2011 CDF Award. Award was presented to Eileen M. Fleming-Patonay on Thursday.</a:t>
            </a:r>
            <a:endParaRPr b="0" lang="en-US" sz="25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veloped and solicited nominations for the CDF Champion Award. Award was presented to two outstanding CDF Champions – Susan Gabriel and Raymond Henson on Thursday.</a:t>
            </a: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veloping a Veterans monograph in conjunction with the Publications Development Council (PDC). Completion date is scheduled for Winter 2011/2012.</a:t>
            </a: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DF CURRICULUM UPDATE</a:t>
            </a:r>
            <a:endParaRPr b="0" lang="en-US" sz="4400" spc="-1" strike="noStrike">
              <a:solidFill>
                <a:srgbClr val="ebddc3"/>
              </a:solidFill>
              <a:latin typeface="Tw Cen MT"/>
            </a:endParaRPr>
          </a:p>
        </p:txBody>
      </p:sp>
      <p:sp>
        <p:nvSpPr>
          <p:cNvPr id="359"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75f55"/>
                </a:solidFill>
                <a:latin typeface="Tw Cen MT"/>
              </a:rPr>
              <a:t>Helping Skills </a:t>
            </a:r>
            <a:endParaRPr b="0" lang="en-US" sz="3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sections on self care, the use of silence, and the importance of hope in the helping proces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anded information on best practices in client termin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alue-added insights on the use of helping skills inserted into every CDF chapt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ory</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addressing the constructivist theory of Mark Savicka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full update on Krumboltz’ theory, including his latest thoughts on the role of happenstance in career development</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case studies and opportunities to use them in the application of career theori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essment</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on ethics and assessment</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sightful suggestions for reviewing, analyzing, and selecting assessment instruments</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fication and expansion on understanding the credentials needed to administer and interpret career assessments</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versity</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dated demographic information just released from the 2010 Census data</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sections on generational diversity and on the career development needs of ex-offenders, veterans, and refuge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spectives on the impact of globalization on career servic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20:14:28Z</dcterms:created>
  <dc:creator>mpowell</dc:creator>
  <dc:description/>
  <dc:language>en-US</dc:language>
  <cp:lastModifiedBy>Bryan</cp:lastModifiedBy>
  <dcterms:modified xsi:type="dcterms:W3CDTF">2011-07-25T19:26:29Z</dcterms:modified>
  <cp:revision>38</cp:revision>
  <dc:subject/>
  <dc:title>National Career Development Association</dc:title>
</cp:coreProperties>
</file>