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E96A3-E5F4-4FDA-A6AC-D03599FD9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D3117-7453-4636-BFCA-3C573D12B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19C6F-AE8E-4A49-B44E-EC223BAC5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9E4A0-C582-496A-8D71-698043881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B12E80-07D5-42CD-B999-E049F3FFD0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D70AB-B102-4734-BC8F-37CCF728A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CF79A-722B-46F2-A9C2-2F80CE5E5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AC42D-76E9-43D6-A09C-E88133EB6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0E02E-B2D0-4091-8835-98C04E7AE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48D42-710C-4835-A32D-158B66A24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7A0DF-86B7-4A55-8667-988E0B11E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DAD94-B471-4201-8364-D7BD692B3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5A02E-E5C5-4DA2-95B6-2E593B77B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FCA93-ABD7-4980-AEEF-BBD9D0C94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6595A-F762-42BD-BDD7-A6CC9E23F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912A67-EBEE-4C0F-BEC4-3A3C3FC415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B987F4-2551-48E8-8459-4D21BDC996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E20DA8B-BB80-4713-B45B-951B461E28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07BB759-ED67-463B-901A-59BFFBC999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CA72B71-A7E0-456D-B6D4-C7BEBBC7E6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1EB1DEB-72E9-4942-84FE-025E8B5DF1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8DDC96C-6F52-429B-A745-E99D3A63FB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95131-67C5-4FB9-85A5-8C3FB5170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044B723-D87A-4F05-AD3D-737B24293A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F4EF889-090F-43CC-BC2E-45C66BC8D6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BDCD750-B91C-4A06-8AFE-D90AD80666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D0449DD-728A-4705-9A25-F137793CF6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4FE789B-9816-4848-BE17-C72D869082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34D4752-418D-48D0-BDF0-C1C4EE8714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44A6979-64B8-4087-ACD2-29F7FA6E92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180FD45-3D28-4DAC-9E2E-21B87B44AC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B6B313D-9EFC-4A0B-BD00-EB6145E4D5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68D18D9-23A5-438A-BB42-791E60D408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EFA1A-4E01-4A49-B746-E8287ADDD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15EC07E-6F72-4B9C-A6E1-CAFD6EBBD4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6D42F34-D3CF-41CC-99E8-D31239C7F2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1D6BB98-88CF-40D2-B2A6-506F49E863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6576D80-284D-45C0-83C3-D4F5585176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D71C526-FF4E-40BE-B402-8BBA848EA4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4D1A100-A9A8-4998-9BCE-2777F4B364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8FEFB3D-F133-4A9D-9005-C71B5BEF2C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87082F0-EE3A-436D-B253-0AAE674A87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4E5CF64-DE5F-4DEE-8350-D8D3381758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82B2473-1E7C-48E0-8830-CE6D5F946A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ABEBA-BFBD-4208-8A4C-7F3F9174D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AB7DCF7-7031-43CF-87C9-D42DF99619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584AD10-7D12-41DB-B465-D43B9163A7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69B459A-A4FD-4FCD-BCD6-4A78ABFE90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08DF685-8AA0-466E-82FE-BC90540E2F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D2B61E5-1084-4227-87BC-2B261BC558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A8DEB8F-CAF7-422E-B4DF-97FF3FAFEB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374541-3C3A-422B-960F-45DF73B817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7EAE236-BA48-4E16-9EE5-10F6F7DE26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578D6C2-BDA9-40AA-9EB4-703A96D9D0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4AC5697-3130-4E3A-9DAA-BCAB61FC1A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989A2-9966-48C9-9FC3-2C05B2298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570F79F-48BD-4A4F-9325-9332B18419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E23EF7-B3FE-4E1D-B2C9-5D4E15C972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CAAE0E-0DE4-441B-8B4B-703578B9DE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A4B707-9F77-4C82-A288-8C7848ABE4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BF5DB8-77CF-4251-98B7-5A91397389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90CF73-A17B-43D2-9EF8-C9B7AD3510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74D222-F0AA-4646-A2D2-55F4351B06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4D1301-0D3B-4B8A-939F-15ACD85979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FDBAF7-3845-4029-BC4A-D02807B4B9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E42EB7-00E6-4A38-B195-9A136A2CD7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9500B-DC1A-45BE-9235-AD12276E6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FDF2FE-0176-410A-9CF4-862CF3F5E4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F08BA7-2A4E-474C-BDA9-411CE2D048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BB0FAE-0480-4E35-B0BD-37B18D1DF3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4EC28C5-12B4-49F6-A533-7FCCC1D33D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F7A189F-CB6C-46EC-85B5-5BD9B9A65D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91EEFBB-5EF6-4E1C-84BE-C9BBC412A9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F54FACD-3491-44EF-B99B-51072D28EA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2641E15-ADA1-4D14-9591-9C31EA4B04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E924F4F-4195-49A2-A612-FF1189E6B2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58A72A5-ACA4-4813-A049-967EDBFEF6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EE6CD-A150-406F-80EF-9A2980719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ED647BB-3A82-4EE6-9249-B48CA536E0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E1D7059-E3C2-4F4A-9838-AD2935C131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7327DEE-B4DC-4753-897E-76E98012EF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3150DC6-743C-4CC8-9DE5-40E057F1BB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9F86CB3-E1B7-4138-80B9-86D60AEE6C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50E1F0-FE48-4BCC-8095-B8CB961259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53B0AA-246E-4F19-A9AD-767E34D213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A17ED0-F290-4D62-B439-B4B2BBEF34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5798B5-FE94-4846-9FEB-D47DAD39E1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2CD310-B1E2-4352-A44D-644246230B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36073-FB70-4817-9B51-30179E251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22B940-85E6-434D-9EA1-EC1624950D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80F507-0EAE-4423-B1FD-8644F3895C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F9E6D7-5053-4CC0-A741-52340A2BB3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26F6F7-8D23-455F-A6D1-056868EB5E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6E2D76-4574-405D-AF33-FC28FD015F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30D446-E86E-4553-8180-5AED0DA4AD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EF9336-3596-4F32-93B1-F9476B312B8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3820F-56E8-4722-A427-BFE0A0B39BC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F386C-74AF-4453-BEE6-4B09CE45CE09}"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2C1B3-582C-4E96-8A15-803153A39F91}"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E92B-BDAF-47AA-BE29-5F6403A0B70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5A7F5-0E23-4B0A-A763-99549DB9F0C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2BD34-373B-439E-BBD9-03EB4E97C44D}"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349FE-C880-400C-9026-BBBBA4C4AC8C}"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C5B6-6007-4A74-A09C-A826149E1EB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ncda.org/" TargetMode="External"/><Relationship Id="rId2" Type="http://schemas.openxmlformats.org/officeDocument/2006/relationships/hyperlink" Target="mailto:mpowell@ncda.org" TargetMode="External"/><Relationship Id="rId3" Type="http://schemas.openxmlformats.org/officeDocument/2006/relationships/hyperlink" Target="http://www.cce-global.org/" TargetMode="External"/><Relationship Id="rId4" Type="http://schemas.openxmlformats.org/officeDocument/2006/relationships/hyperlink" Target="mailto:gwelch@cce-global.org"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28440" y="4038480"/>
            <a:ext cx="701028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NATIONAL CAREER DEVELOPMENT ASSOCIATION </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722160" y="2209320"/>
            <a:ext cx="7772400" cy="20574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Career Development Facilitator Instructor Meeting</a:t>
            </a:r>
            <a:endParaRPr b="0" lang="en-US" sz="28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NCDA Global Career Conference</a:t>
            </a:r>
            <a:endParaRPr b="0" lang="en-US" sz="28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July 2, 2011</a:t>
            </a:r>
            <a:endParaRPr b="0" lang="en-US" sz="28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San Antonio, Texas</a:t>
            </a:r>
            <a:endParaRPr b="0" lang="en-US" sz="28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Job Search</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panded coverage of networking with a special emphasis on social networking</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ggestions for helping clients to understand job search from an employer perspective</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ew section on addressing stress in the job search, particularly during difficult economic times</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echnology and Career Information</a:t>
            </a:r>
            <a:endParaRPr b="0" lang="en-US" sz="44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fontScale="87000"/>
          </a:bodyPr>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masterful merger of previous individual chapters on the use of computers and information in career planning, including widely used and emerging technologies</a:t>
            </a: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ggestions for helping clients to become more information literate</a:t>
            </a: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uidelines for CDFs on the selection and effective use of technologies in the career planning process</a:t>
            </a:r>
            <a:endParaRPr b="0" lang="en-US" sz="29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thics</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cus on NCDA’s code of ethics as a robust and inclusive guide for career professionals, including CDF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ew activity on personal values and their impact on professional decision-making</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dated case studies and enhanced scenario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Groups</a:t>
            </a:r>
            <a:endParaRPr b="0" lang="en-US" sz="44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ew emphasis on the delivery of career services in groups, including workshop planning and preparation of material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nderstanding classroom dynamics and learning styles and customizing instruction to address individual need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gram Planning/Implementation</a:t>
            </a:r>
            <a:endParaRPr b="0" lang="en-US" sz="4400" spc="-1" strike="noStrike">
              <a:solidFill>
                <a:srgbClr val="775f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panded to a comprehensive 12-step model of program development focusing on best practices and crucial roles for CDFs</a:t>
            </a:r>
            <a:endParaRPr b="0" lang="en-US" sz="24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Guided activities that parallel the 12-step process and offer participants opportunities to practice these skills first hand </a:t>
            </a:r>
            <a:endParaRPr b="0" lang="en-US" sz="24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formation on the importance of stakeholders in implementation of career programs and how CDFs can involve these key players to increase the likelihood of the program’s success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ddc3"/>
                </a:solidFill>
                <a:latin typeface="Tw Cen MT"/>
              </a:rPr>
              <a:t>NCDA MASTER TRAINERS</a:t>
            </a:r>
            <a:endParaRPr b="0" lang="en-US" sz="6000" spc="-1" strike="noStrike">
              <a:solidFill>
                <a:srgbClr val="ebddc3"/>
              </a:solidFill>
              <a:latin typeface="Tw Cen MT"/>
            </a:endParaRPr>
          </a:p>
        </p:txBody>
      </p:sp>
      <p:sp>
        <p:nvSpPr>
          <p:cNvPr id="379" name="PlaceHolder 2"/>
          <p:cNvSpPr>
            <a:spLocks noGrp="1"/>
          </p:cNvSpPr>
          <p:nvPr>
            <p:ph type="subTitle"/>
          </p:nvPr>
        </p:nvSpPr>
        <p:spPr>
          <a:xfrm>
            <a:off x="914400" y="2057040"/>
            <a:ext cx="7772400" cy="1268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75f55"/>
                </a:solidFill>
                <a:latin typeface="Tw Cen MT"/>
              </a:rPr>
              <a:t>Master Trainer Workshop</a:t>
            </a:r>
            <a:endParaRPr b="0" lang="en-US" sz="42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ext training is scheduled for November 13-16, 2011 in Dallas, Texa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pplication form will be posted to NCDA website before August 1 and will be due September 15.</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aster Trainer Workshop</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quirements</a:t>
            </a:r>
            <a:endParaRPr b="0" lang="en-US" sz="29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xisting NCDA CDF Instructor </a:t>
            </a:r>
            <a:endParaRPr b="0" lang="en-US" sz="26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5 years experience training adults</a:t>
            </a:r>
            <a:endParaRPr b="0" lang="en-US" sz="26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resented on career topic at state or national conference OR published articles on career topics</a:t>
            </a:r>
            <a:endParaRPr b="0" lang="en-US" sz="26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ust have taught at least 5 CDF training classes</a:t>
            </a:r>
            <a:endParaRPr b="0" lang="en-US" sz="26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07680" indent="-259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mplete application form will be available at www.ncdacdf.org before August 1.</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775f55"/>
                </a:solidFill>
                <a:latin typeface="Tw Cen MT"/>
              </a:rPr>
              <a:t>Questions or Comments????</a:t>
            </a:r>
            <a:r>
              <a:rPr b="0" lang="en-US" sz="4600" spc="-1" strike="noStrike">
                <a:solidFill>
                  <a:srgbClr val="775f55"/>
                </a:solidFill>
                <a:latin typeface="Tw Cen MT"/>
              </a:rPr>
              <a:t>	</a:t>
            </a:r>
            <a:endParaRPr b="0" lang="en-US" sz="4600" spc="-1" strike="noStrike">
              <a:solidFill>
                <a:srgbClr val="775f55"/>
              </a:solidFill>
              <a:latin typeface="Tw Cen MT"/>
            </a:endParaRPr>
          </a:p>
        </p:txBody>
      </p:sp>
      <p:sp>
        <p:nvSpPr>
          <p:cNvPr id="385" name=""/>
          <p:cNvSpPr txBox="1"/>
          <p:nvPr/>
        </p:nvSpPr>
        <p:spPr>
          <a:xfrm>
            <a:off x="612720" y="1600200"/>
            <a:ext cx="8153280" cy="4495680"/>
          </a:xfrm>
          <a:prstGeom prst="rect">
            <a:avLst/>
          </a:prstGeom>
          <a:noFill/>
          <a:ln w="0">
            <a:noFill/>
          </a:ln>
        </p:spPr>
        <p:txBody>
          <a:bodyPr anchor="t">
            <a:normAutofit/>
          </a:bodyPr>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ry Ann Powell</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pecial Projects Director</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ational Career Development Association</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05 North Beech Circle</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roken Arrow, OK 74012</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hone: (918) 663-7060</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ll Free: (866) 367-6232</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powell@ncda.org</a:t>
            </a:r>
            <a:endParaRPr b="0" lang="en-US" sz="29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ww.ncdacdf.org</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amp;A</a:t>
            </a:r>
            <a:endParaRPr b="0" lang="en-US" sz="4400" spc="-1" strike="noStrike">
              <a:solidFill>
                <a:srgbClr val="775f55"/>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ry Ann Powell, Special Projects Director, National Career Development Association (NCDA), </a:t>
            </a:r>
            <a:r>
              <a:rPr b="0" lang="en-US" sz="2900" spc="-1" strike="noStrike" u="sng">
                <a:solidFill>
                  <a:srgbClr val="f7b615"/>
                </a:solidFill>
                <a:uFillTx/>
                <a:latin typeface="Tw Cen MT"/>
                <a:hlinkClick r:id="rId1"/>
              </a:rPr>
              <a:t>www.ncda.org</a:t>
            </a:r>
            <a:r>
              <a:rPr b="0" lang="en-US" sz="2900" spc="-1" strike="noStrike">
                <a:solidFill>
                  <a:srgbClr val="000000"/>
                </a:solidFill>
                <a:latin typeface="Tw Cen MT"/>
              </a:rPr>
              <a:t>, </a:t>
            </a:r>
            <a:r>
              <a:rPr b="0" lang="en-US" sz="2900" spc="-1" strike="noStrike" u="sng">
                <a:solidFill>
                  <a:srgbClr val="f7b615"/>
                </a:solidFill>
                <a:uFillTx/>
                <a:latin typeface="Tw Cen MT"/>
                <a:hlinkClick r:id="rId2"/>
              </a:rPr>
              <a:t>mpowell@ncda.org</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abby Welch, GCDF Program Coordinator, Center for Credentialing &amp; Education (CCE),          </a:t>
            </a:r>
            <a:r>
              <a:rPr b="0" lang="en-US" sz="2900" spc="-1" strike="noStrike" u="sng">
                <a:solidFill>
                  <a:srgbClr val="f7b615"/>
                </a:solidFill>
                <a:uFillTx/>
                <a:latin typeface="Tw Cen MT"/>
                <a:hlinkClick r:id="rId3"/>
              </a:rPr>
              <a:t>www.cce-global.org</a:t>
            </a:r>
            <a:r>
              <a:rPr b="0" lang="en-US" sz="2900" spc="-1" strike="noStrike">
                <a:solidFill>
                  <a:srgbClr val="000000"/>
                </a:solidFill>
                <a:latin typeface="Tw Cen MT"/>
              </a:rPr>
              <a:t>, </a:t>
            </a:r>
            <a:r>
              <a:rPr b="0" lang="en-US" sz="2900" spc="-1" strike="noStrike" u="sng">
                <a:solidFill>
                  <a:srgbClr val="f7b615"/>
                </a:solidFill>
                <a:uFillTx/>
                <a:latin typeface="Tw Cen MT"/>
                <a:hlinkClick r:id="rId4"/>
              </a:rPr>
              <a:t>gwelch@cce-global.org</a:t>
            </a: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828440" y="3124080"/>
            <a:ext cx="7010280" cy="2743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ddc3"/>
                </a:solidFill>
                <a:latin typeface="Tw Cen MT"/>
              </a:rPr>
              <a:t>2011 NCDA CDF ACTIVITIES </a:t>
            </a:r>
            <a:endParaRPr b="0" lang="en-US" sz="6000" spc="-1" strike="noStrike">
              <a:solidFill>
                <a:srgbClr val="ebddc3"/>
              </a:solidFill>
              <a:latin typeface="Tw Cen MT"/>
            </a:endParaRPr>
          </a:p>
        </p:txBody>
      </p:sp>
      <p:sp>
        <p:nvSpPr>
          <p:cNvPr id="353" name="PlaceHolder 2"/>
          <p:cNvSpPr>
            <a:spLocks noGrp="1"/>
          </p:cNvSpPr>
          <p:nvPr>
            <p:ph type="subTitle"/>
          </p:nvPr>
        </p:nvSpPr>
        <p:spPr>
          <a:xfrm>
            <a:off x="914400" y="2133360"/>
            <a:ext cx="7772400" cy="1268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75f55"/>
                </a:solidFill>
                <a:latin typeface="Tw Cen MT"/>
              </a:rPr>
              <a:t>Activities</a:t>
            </a:r>
            <a:endParaRPr b="0" lang="en-US" sz="42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Detailed Survey and analysis of CDF Curriculum was conducted. Results are being used to update and revise CDF Curriculum. Third Edition of Facilitating Career Development is scheduled to be completed and available for purchase in December 2011.</a:t>
            </a:r>
            <a:endParaRPr b="0" lang="en-US" sz="27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LinkedIn Group is active and ongoing.</a:t>
            </a:r>
            <a:endParaRPr b="0" lang="en-US" sz="27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Ongoing development of new materials and updating of additional resources for the CDF Instructors on the Secure Section of the CDF website.</a:t>
            </a:r>
            <a:endParaRPr b="0" lang="en-US" sz="27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2760" indent="-3027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75f55"/>
                </a:solidFill>
                <a:latin typeface="Tw Cen MT"/>
              </a:rPr>
              <a:t>Activities Cont.</a:t>
            </a:r>
            <a:endParaRPr b="0" lang="en-US" sz="4200" spc="-1" strike="noStrike">
              <a:solidFill>
                <a:srgbClr val="775f55"/>
              </a:solidFill>
              <a:latin typeface="Tw Cen MT"/>
            </a:endParaRPr>
          </a:p>
        </p:txBody>
      </p:sp>
      <p:sp>
        <p:nvSpPr>
          <p:cNvPr id="357" name=""/>
          <p:cNvSpPr txBox="1"/>
          <p:nvPr/>
        </p:nvSpPr>
        <p:spPr>
          <a:xfrm>
            <a:off x="612720" y="1600200"/>
            <a:ext cx="8153280" cy="4495680"/>
          </a:xfrm>
          <a:prstGeom prst="rect">
            <a:avLst/>
          </a:prstGeom>
          <a:noFill/>
          <a:ln w="0">
            <a:noFill/>
          </a:ln>
        </p:spPr>
        <p:txBody>
          <a:bodyPr anchor="t">
            <a:normAutofit fontScale="99000"/>
          </a:bodyPr>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Solicited nominations for the 2011 CDF Award. Award was presented to Eileen M. Fleming-Patonay on Thursday.</a:t>
            </a:r>
            <a:endParaRPr b="0" lang="en-US" sz="25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eveloped and solicited nominations for the CDF Champion Award. Award was presented to two outstanding CDF Champions – Susan Gabriel and Raymond Henson on Thursday.</a:t>
            </a:r>
            <a:endParaRPr b="0" lang="en-US" sz="2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eveloping a Veterans monograph in conjunction with the Publications Development Council (PDC). Completion date is scheduled for Winter 2011/2012.</a:t>
            </a:r>
            <a:endParaRPr b="0" lang="en-US" sz="2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DF CURRICULUM UPDATE</a:t>
            </a:r>
            <a:endParaRPr b="0" lang="en-US" sz="4400" spc="-1" strike="noStrike">
              <a:solidFill>
                <a:srgbClr val="ebddc3"/>
              </a:solidFill>
              <a:latin typeface="Tw Cen MT"/>
            </a:endParaRPr>
          </a:p>
        </p:txBody>
      </p:sp>
      <p:sp>
        <p:nvSpPr>
          <p:cNvPr id="359"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75f55"/>
                </a:solidFill>
                <a:latin typeface="Tw Cen MT"/>
              </a:rPr>
              <a:t>Helping Skills </a:t>
            </a:r>
            <a:endParaRPr b="0" lang="en-US" sz="38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ew sections on self care, the use of silence, and the importance of hope in the helping proces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panded information on best practices in client termina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Value-added insights on the use of helping skills inserted into every CDF chapter</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eory</a:t>
            </a: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ew section addressing the constructivist theory of Mark Savickas</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full update on Krumboltz’ theory, including his latest thoughts on the role of happenstance in career development</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ditional case studies and opportunities to use them in the application of career theories</a:t>
            </a:r>
            <a:endParaRPr b="0" lang="en-US" sz="2900" spc="-1" strike="noStrike">
              <a:solidFill>
                <a:srgbClr val="000000"/>
              </a:solidFill>
              <a:latin typeface="Tw Cen MT"/>
            </a:endParaRPr>
          </a:p>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ssessment</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new section on ethics and assessment</a:t>
            </a: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sightful suggestions for reviewing, analyzing, and selecting assessment instruments</a:t>
            </a: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arification and expansion on understanding the credentials needed to administer and interpret career assessments</a:t>
            </a: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versity</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dated demographic information just released from the 2010 Census data</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ew sections on generational diversity and on the career development needs of ex-offenders, veterans, and refuge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rspectives on the impact of globalization on career service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1T20:14:28Z</dcterms:created>
  <dc:creator>mpowell</dc:creator>
  <dc:description/>
  <dc:language>en-US</dc:language>
  <cp:lastModifiedBy>Bryan</cp:lastModifiedBy>
  <dcterms:modified xsi:type="dcterms:W3CDTF">2011-07-25T19:26:29Z</dcterms:modified>
  <cp:revision>38</cp:revision>
  <dc:subject/>
  <dc:title>National Career Development Association</dc:title>
</cp:coreProperties>
</file>